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9544-FDFC-46AB-A17D-6BB48D983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E898-A03A-4612-AB61-C43C73CA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BEF3-F65B-489F-B258-4E119D07F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E124-4EDE-4087-B150-C6FB87839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657F-0946-4E4B-BE5D-A665C4E8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1C30-D032-49DC-BFC5-38FED204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17DD-03FD-4D71-AD67-36AD5301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06D0-9AA1-4B9E-B7B4-3E833D5A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A595-FCC3-450A-8748-04E48B2F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22C9-6157-418C-88D6-A6FEB2B2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14BE-ED37-4200-9443-2F3F4CE0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886D-7958-4E38-8AFD-6C342F33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9CCB-11A1-446F-B2B8-50333F23DB14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BlokTextu 6"/>
          <p:cNvSpPr/>
          <p:nvPr/>
        </p:nvSpPr>
        <p:spPr>
          <a:xfrm>
            <a:off x="247680" y="230040"/>
            <a:ext cx="11680920" cy="6351840"/>
          </a:xfrm>
          <a:prstGeom prst="rect">
            <a:avLst/>
          </a:prstGeom>
          <a:noFill/>
          <a:ln w="76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Tento nájomný bytový dom bol podporený dotácio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2060"/>
                </a:solidFill>
                <a:latin typeface="Calibri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2060"/>
                </a:solidFill>
                <a:latin typeface="Calibri"/>
                <a:ea typeface="Times New Roman"/>
              </a:rPr>
              <a:t>Ministerstva dopravy Slovenskej republiky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2060"/>
                </a:solidFill>
                <a:latin typeface="Calibri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v rámc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2060"/>
                </a:solidFill>
                <a:latin typeface="Calibri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800" spc="-1" strike="noStrike">
                <a:solidFill>
                  <a:srgbClr val="002060"/>
                </a:solidFill>
                <a:latin typeface="Calibri"/>
                <a:ea typeface="Times New Roman"/>
              </a:rPr>
              <a:t>Programu rozvoja bývania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2060"/>
                </a:solidFill>
                <a:latin typeface="Calibri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a úverom z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2060"/>
                </a:solidFill>
                <a:latin typeface="Calibri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2060"/>
                </a:solidFill>
                <a:latin typeface="Calibri"/>
                <a:ea typeface="Times New Roman"/>
              </a:rPr>
              <a:t>Štátneho fondu rozvoja bývan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2060"/>
                </a:solidFill>
                <a:latin typeface="Calibri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rok podpory: xxx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2T06:27:17Z</dcterms:created>
  <dc:creator>Hlaváč, Ondrej</dc:creator>
  <dc:description/>
  <dc:language>en-US</dc:language>
  <cp:lastModifiedBy>Reháková, Veronika</cp:lastModifiedBy>
  <dcterms:modified xsi:type="dcterms:W3CDTF">2025-09-14T14:30:24Z</dcterms:modified>
  <cp:revision>9</cp:revision>
  <dc:subject/>
  <dc:title>Prezentácia programu PowerPoint</dc:title>
</cp:coreProperties>
</file>