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341-7392-45C6-956B-A27E3D36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237-4CF8-44B7-98FC-E7228EE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856-06B4-4C32-B946-EE2EA556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FCF-4102-496A-9F24-BC1978E0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5D9-FD01-40EB-A80C-1948D97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4AD-2345-452F-AD0D-EA9D9CA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09B-2A6D-409E-AF6C-2CDEA70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1C5-8099-4988-BD83-A033C88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D08-551C-4FD2-9B46-47B36FA6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D35-8092-4F34-AE9F-6E373A0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DB9-9FFF-47B8-8880-CC9B78B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974-9FEB-40E1-8534-B60DBB32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013-3837-4E71-B8EE-F040AF55A6F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Ministerstva dopravy Slovenskej republik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gramu rozvoja bývania</a:t>
            </a:r>
            <a:r>
              <a:rPr b="0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Reháková, Veronika</cp:lastModifiedBy>
  <dcterms:modified xsi:type="dcterms:W3CDTF">2025-09-14T14:34:37Z</dcterms:modified>
  <cp:revision>10</cp:revision>
  <dc:subject/>
  <dc:title>Prezentácia programu PowerPoint</dc:title>
</cp:coreProperties>
</file>