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ABF1-54DD-4A08-97D0-C7095514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5D9A-DD3E-43C8-B333-A2CA5014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E0A3-D3AA-46C9-9AF4-BC50642F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7030-21DE-4468-8651-41B44F87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4C82-9534-4A53-BA08-3F92A18A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CB46-C467-4D36-B08D-BA276808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9B10-84D2-4314-8CA2-605ED855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E744-01F6-4F1A-ABBA-7736128E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7BDB-A6C4-452F-9E39-08D3BF13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1CB4-9144-4FE1-A956-CF174962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98FF-0C70-4B7C-86FE-35DCE732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27D1-3D53-4328-ACF7-D152EB0C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81C6-CBD4-4587-BB1A-F72FF662EBDC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lokTextu 6"/>
          <p:cNvSpPr/>
          <p:nvPr/>
        </p:nvSpPr>
        <p:spPr>
          <a:xfrm>
            <a:off x="247680" y="230040"/>
            <a:ext cx="11680920" cy="6351840"/>
          </a:xfrm>
          <a:prstGeom prst="rect">
            <a:avLst/>
          </a:prstGeom>
          <a:noFill/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ento nájomný bytový dom bol podporený dotácio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inisterstva dopravy Slovenskej republiky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 rám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ogramu rozvoja bývania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 úverom z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Štátneho fondu rozvoja bývania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ok podpory: 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2T06:27:17Z</dcterms:created>
  <dc:creator>Hlaváč, Ondrej</dc:creator>
  <dc:description/>
  <dc:language>en-US</dc:language>
  <cp:lastModifiedBy>Gejdošová, Kamila</cp:lastModifiedBy>
  <dcterms:modified xsi:type="dcterms:W3CDTF">2022-12-21T15:01:57Z</dcterms:modified>
  <cp:revision>8</cp:revision>
  <dc:subject/>
  <dc:title>Prezentácia programu PowerPoint</dc:title>
</cp:coreProperties>
</file>