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A3B-6CDF-4197-A03F-5CA4D000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CA6-766F-4681-AE8B-7D87FF5D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6416-81DE-4095-9B85-22E93695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0F7-F429-410E-87AB-CC724326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FFA-5764-4E5E-B088-9C62894D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8846-703E-4A53-91FA-89E4F1FD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8354-C3EF-485E-BCC3-1C8766AB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F51A-4A90-4537-AB7F-55CB27B4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FA4-D439-4114-9F96-F6C7D8F9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517-47FE-40C2-8571-6127202F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39C-B769-4F6D-A5E0-45D9A808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BD4-E115-426A-96D5-206609BC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C622-5A0B-4495-B259-FCD74384E8E8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nisterstva dopravy Slovenskej republiky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gramu rozvoja bývania</a:t>
            </a: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Gejdošová, Kamila</cp:lastModifiedBy>
  <dcterms:modified xsi:type="dcterms:W3CDTF">2022-12-21T15:02:42Z</dcterms:modified>
  <cp:revision>8</cp:revision>
  <dc:subject/>
  <dc:title>Prezentácia programu PowerPoint</dc:title>
</cp:coreProperties>
</file>