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36D-82EB-4E1E-9CC8-39F2BA02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A0E-9CE9-4D8B-A173-BF678525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3924-1090-40EE-9C2D-A9F3BCFF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CE0-9965-4A51-A758-A22151E8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CD7-BAF3-475A-9B28-238F1058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59B-59C1-4C2A-8452-5DA741C0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340A-C43B-4381-AB4C-863D2575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A9C-3ACE-47FF-B6BE-CAB3DF14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F91-AB56-4B5C-9D7C-8983F88B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680-5840-4CA6-944C-6381318A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06D-3E01-4788-BA17-BFF7A30B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227-BF82-4F46-B78B-005ADDE4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D559-4CE3-406B-8766-CE15A5C1E5F4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nisterstva dopravy Slovenskej republiky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gramu rozvoja bývania</a:t>
            </a: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Gejdošová, Kamila</cp:lastModifiedBy>
  <dcterms:modified xsi:type="dcterms:W3CDTF">2022-12-21T15:02:42Z</dcterms:modified>
  <cp:revision>8</cp:revision>
  <dc:subject/>
  <dc:title>Prezentácia programu PowerPoint</dc:title>
</cp:coreProperties>
</file>