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F8A-1F6C-43CA-9128-724D7D71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1204-5816-4738-B6C0-64EC3B6C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DF5-C8AD-4D19-8980-8E80851B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5A4A-B383-44C7-A78F-9BF954FF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B92-8920-4645-9DC6-4C036CC0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81E-3849-4E73-8679-C784040F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067-4211-44A6-BECF-86FCF3BA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6BB-BF85-4481-97B9-D4B4B2A4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D27-85C2-4ED5-8F04-4C95BC78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5FB-B12B-48B5-83D1-A3B6DCC9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6A2D-6717-40DF-B1C5-4DB3F7F0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0876-F50B-404B-A520-A8EB69A3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BCAC-896F-4528-9E5B-8E496268180D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nisterstva dopravy Slovenskej republiky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gramu rozvoja bývania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 úverom z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Štátneho fondu rozvoja bývania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Gejdošová, Kamila</cp:lastModifiedBy>
  <dcterms:modified xsi:type="dcterms:W3CDTF">2022-12-21T15:01:57Z</dcterms:modified>
  <cp:revision>8</cp:revision>
  <dc:subject/>
  <dc:title>Prezentácia programu PowerPoint</dc:title>
</cp:coreProperties>
</file>