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5EA-098D-4759-BD90-B42C8864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A1E-E937-4798-A69F-5903B693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ECF-1DEB-48F1-B78A-7454FED8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D4B-FB01-4457-B614-2CDED1D1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D7A-B1D0-40AB-AB68-C779BE19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4A9-4FE3-449E-B1D3-C9F193D2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593-3A50-4AFA-B249-3CEF6274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0BA-E6A0-408C-B9D5-02D29D54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A44-9B19-48AB-979F-F99FA840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949-E3A9-44C2-B6FE-7D04B48B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180-63AF-45E4-A3A1-19917DB9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2F8-DBF4-442D-9547-648D8A18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D803-2B65-432F-9A8E-15D5FB96EA9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</a:t>
            </a: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2:42Z</dcterms:modified>
  <cp:revision>8</cp:revision>
  <dc:subject/>
  <dc:title>Prezentácia programu PowerPoint</dc:title>
</cp:coreProperties>
</file>