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B83-DF7F-4A68-B0B7-D1A9C489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EA1-90EA-45A9-A937-17EDFFCB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42D-C21B-4DB8-A724-CD6AAB18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DDE-05E3-4F62-BE5C-95B94EDF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BF5-9E44-49AD-BC19-4ED144C8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047-EF94-47DA-9E9F-74AC47A7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72B-EBC5-4C7F-BC30-10B8DA5E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E2D-4A4D-45DC-8BE9-F2BA3D1F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5E5-06F7-41BF-90C5-429CA13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EDC-2390-4CAE-BA3D-1F60A50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CF2-FA88-4DBA-9454-5224417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DBF-3F03-47EA-9FE8-7FF8A63C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BFA9-B27E-466A-B8F7-BFB5E2C86571}" type="datetime">
              <a:rPr b="0" lang="fi-FI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1BAA-CBC9-41EC-A3E7-FF95A7BE8BE9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e tests of heating appliances fired by solid fu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G meeting 12.10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0875-A259-4AD2-896C-4BF803519240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lue gas temperature is for energy efficiency, not to determine fireclass of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ere is a need to determine correct flue gas temperature for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consultant has sent our letter to CEN TC 295 and TC 16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295 has refused to improve its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withdraw  these standards from the O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allow that Finland can demand an additional test in order to determine the correct flue gas temperature class of chimney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omething el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35B1-318F-4874-939E-D4448EF5157A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to do with chimney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166 has started to discu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Deficienc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igher flue gas temperature class than T 600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Durability of thermal insulation material at high temperature (e.g. 500-600 </a:t>
            </a:r>
            <a:r>
              <a:rPr b="0" lang="fi-FI" sz="1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) for longer peri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Wall thickness of metal flue liners in CE-mar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Thick thermal insulation in the ro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emperarure  will much higher than  tests where thermal insulation (200 mm)  is us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ow to seal chimneys and how to test se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In the ro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n the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nection between CE-marking and assembly instru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here are national  assembly standards and additional  assembly tests in some Member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Reduction of te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.g. One chimney type has 14 different mar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alculation methods should be develo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DCE9-C14C-41AB-B8B3-46124C974C27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nnish letter to the Commission (25.5.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fire cases related to fireplaces and chimneys including also products with CE-m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have studied EN-standards of chimneys and fire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defici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EN TC 295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Residential solid fuel burning applian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and CEN TC 166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Chimney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 do not discussed with each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are Finnish tests which gave results that EN-standards are not 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land is the coldest country in the EU. Heating is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FF3-CC86-4F0C-9EEC-CDC1317650E5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st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wanted to give evidences to support our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nistry of the Environment has ordered the following tests from VTT which is a notified body under the C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low heat release fire appliances according to EN 1525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una stoves according to EN 158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oomheaters fired by solid fuel according to EN 13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will be a test report in English before the end of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test program covers aspects related to fireplaces mentioned in our l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586C-409A-42BF-BF3B-BCBA850D1DAF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s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product = a commercial slow heat release appliance fired by solid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according to EN 15250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Slow heat release appliances fired by solid fuel:Requirements and test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rstly , normal test= to determine flue gas temperature in CE-marking as required in EN 15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ext test is the safety test but flue gas temperature has also been measured (not required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ally an additional heating test (not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lue draught (red lin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80B2-0846-4D42-B64E-5650867C065D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4BD6-484E-4CCD-9862-73832B5FB35F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3840" y="907920"/>
            <a:ext cx="89121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product = the same slow heat release ap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cording to EN 152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to improve ign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 device can be used in summertime avoiding he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A49-AC5F-4177-9DE4-0BC71D4602A8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6C4E-F31E-463C-AA09-2EFFAD51034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76360" y="836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98360" y="463680"/>
            <a:ext cx="88376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auna sto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sauna stove = a commercial product on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according to 158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mperature is 90 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sau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est will be the safety test according to EN 15821 where temperature of flue gas is also measured (not required in EN 158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5705-EF35-442C-85BB-471FA4355F48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aavio 1" descr=""/>
          <p:cNvPicPr/>
          <p:nvPr/>
        </p:nvPicPr>
        <p:blipFill>
          <a:blip r:embed="rId1"/>
          <a:stretch/>
        </p:blipFill>
        <p:spPr>
          <a:xfrm>
            <a:off x="-36360" y="615960"/>
            <a:ext cx="9223200" cy="5632560"/>
          </a:xfrm>
          <a:prstGeom prst="rect">
            <a:avLst/>
          </a:prstGeom>
          <a:ln w="0">
            <a:noFill/>
          </a:ln>
        </p:spPr>
      </p:pic>
      <p:sp>
        <p:nvSpPr>
          <p:cNvPr id="73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847D-E63A-4F04-8D3F-8E90CF3C6C5B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5:23:36Z</dcterms:created>
  <dc:creator>virtanenmat</dc:creator>
  <dc:description/>
  <dc:language>en-US</dc:language>
  <cp:lastModifiedBy>virtanenmat</cp:lastModifiedBy>
  <dcterms:modified xsi:type="dcterms:W3CDTF">2011-10-11T11:05:06Z</dcterms:modified>
  <cp:revision>31</cp:revision>
  <dc:subject/>
  <dc:title>VTT:n tulisijatestejä</dc:title>
</cp:coreProperties>
</file>