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BB7E-F5C7-427F-9557-E60B4B376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355B-0902-400A-9E5C-C58ACD39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CD0A-DB9E-455D-AA5A-86BF1D41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1F03-04D7-43B1-8AE4-2922800BA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1AEA-1F19-477B-8545-DC6461BB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8904-D381-4214-9F9A-1E346103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23FA-D4C7-4876-B4E2-AED7BBD4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1832-3906-433B-B778-8206E4B7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F0EB-D4DD-4F1D-9F31-DA8C15DA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CA21-E33D-425F-8A23-FD92E675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6953-5AE9-4D3B-BE43-1F78965E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7242-9FEC-441A-9C59-FEA68422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A702-1C4E-4A97-8463-223DFDDA14F0}" type="datetime">
              <a:rPr b="0" lang="fi-FI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6D1F-1050-427B-82A3-D26C3D845467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Fire tests of heating appliances fired by solid fue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Preliminary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PG meeting 12.10.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ian numeron paikkamerkki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09AB-9B5E-4FA9-AECF-7A2014491C5B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latunnisteen paikkamerk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to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lue gas temperature is for energy efficiency, not to determine fireclass of chimne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ere is a need to determine correct flue gas temperature for chimne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EN consultant has sent our letter to CEN TC 295 and TC 16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EN TC 295 has refused to improve its stand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What to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o withdraw  these standards from the OJ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o allow that Finland can demand an additional test in order to determine the correct flue gas temperature class of chimney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Something el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latunnisteen paikkamerkki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ian numeron paikkamerkki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2B70-66FE-49E9-AB9E-207B4CC30EDE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at to do with chimneys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EN TC 166 has started to discus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Deficiencie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Higher flue gas temperature class than T 600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Durability of thermal insulation material at high temperature (e.g. 500-600 </a:t>
            </a:r>
            <a:r>
              <a:rPr b="0" lang="fi-FI" sz="16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C) for longer perio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Wall thickness of metal flue liners in CE-mark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Thick thermal insulation in the roo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Temperarure  will much higher than  tests where thermal insulation (200 mm)  is us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How to seal chimneys and how to test sea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In the ro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On the ro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Connection between CE-marking and assembly instruc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There are national  assembly standards and additional  assembly tests in some Member St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Reduction of tes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E.g. One chimney type has 14 different mark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Calculation methods should be develop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et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latunnisteen paikkamerkki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Dian numeron paikkamerkki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9177-E05D-4AC3-885C-E65F80A048F3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nnish letter to the Commission (25.5.20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 lot of fire cases related to fireplaces and chimneys including also products with CE-mar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e have studied EN-standards of chimneys and fire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 lot of deficienc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EN TC 295 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Residential solid fuel burning appliances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and CEN TC 166 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Chimneys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 do not discussed with each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re are Finnish tests which gave results that EN-standards are not suffic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Finland is the coldest country in the EU. Heating is need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ian numeron paikkamerkki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6374-1EC2-4814-8475-7EFBE4F2BCE3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latunnisteen paikkamerk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st 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e wanted to give evidences to support our requirem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inistry of the Environment has ordered the following tests from VTT which is a notified body under the C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low heat release fire appliances according to EN 1525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auna stoves according to EN 1582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oomheaters fired by solid fuel according to EN 132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re will be a test report in English before the end of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test program covers aspects related to fireplaces mentioned in our let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ian numeron paikkamerkki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980D-CE2B-467F-9B98-D90BA7F4F044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latunnisteen paikkamerk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Firs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est product = a commercial slow heat release appliance fired by solid fu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est according to EN 15250 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Slow heat release appliances fired by solid fuel:Requirements and test 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Firstly , normal test= to determine flue gas temperature in CE-marking as required in EN 152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ext test is the safety test but flue gas temperature has also been measured (not required in EN 1525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Finally an additional heating test (not in EN 1525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Flue draught (red line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ian numeron paikkamerkki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FCB1-FADE-4BEB-8B37-74B4E3BFC9E5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latunnisteen paikkamerk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latunnisteen paikkamerkki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ian numeron paikkamerkki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585E-221B-49D2-A83C-D842B98D0B57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23840" y="907920"/>
            <a:ext cx="89121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Bypass device is op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st product = the same slow heat release appli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cording to EN 1525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ypass device is o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ypass device is to improve igni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ypas device can be used in summertime avoiding heat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Dian numeron paikkamerkki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92CA-68E9-40A1-BD42-85066309B8A2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latunnisteen paikkamerk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latunnisteen paikkamerkki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ian numeron paikkamerkki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91E7-F11A-41C2-9138-C981D28596E5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1476360" y="83664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198360" y="463680"/>
            <a:ext cx="883764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auna sto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st sauna stove = a commercial product on the mark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st according to 158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mperature is 90 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sau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est will be the safety test according to EN 15821 where temperature of flue gas is also measured (not required in EN 1582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Dian numeron paikkamerkki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D8B7-041D-43A7-AAB9-D497D88BA2E9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latunnisteen paikkamerk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Kaavio 1" descr=""/>
          <p:cNvPicPr/>
          <p:nvPr/>
        </p:nvPicPr>
        <p:blipFill>
          <a:blip r:embed="rId1"/>
          <a:stretch/>
        </p:blipFill>
        <p:spPr>
          <a:xfrm>
            <a:off x="-36360" y="615960"/>
            <a:ext cx="9223200" cy="5632560"/>
          </a:xfrm>
          <a:prstGeom prst="rect">
            <a:avLst/>
          </a:prstGeom>
          <a:ln w="0">
            <a:noFill/>
          </a:ln>
        </p:spPr>
      </p:pic>
      <p:sp>
        <p:nvSpPr>
          <p:cNvPr id="73" name="Dian numeron paikkamerkki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452A-9840-484A-A133-BD77229B9F3D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latunnisteen paikkamerkki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05:23:36Z</dcterms:created>
  <dc:creator>virtanenmat</dc:creator>
  <dc:description/>
  <dc:language>en-US</dc:language>
  <cp:lastModifiedBy>virtanenmat</cp:lastModifiedBy>
  <dcterms:modified xsi:type="dcterms:W3CDTF">2011-10-11T11:05:06Z</dcterms:modified>
  <cp:revision>31</cp:revision>
  <dc:subject/>
  <dc:title>VTT:n tulisijatestejä</dc:title>
</cp:coreProperties>
</file>