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BA34-6623-4246-BC9D-74D33DACC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BD13-A367-4989-9CD7-3D34F2E6F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3153-BA0B-48CF-995C-37F4BBADF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AB20-6CBC-4A3B-9ABB-CADEC4640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DED50-6FF6-4606-BE51-C0BA6E93A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D0ED0-4B2C-48A6-AB1C-E436A1EB3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B7F5F-9D1F-447A-A4B2-BA566B276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558E9-E90B-4949-B4EC-F5E4B0883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05CE0-E26A-4E11-AB9E-839DF9392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BFA7B-30EE-4AE8-B83C-B49B0E7DB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5E0FE-D112-4E46-A9FB-68321D18E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59AF-D463-4261-8052-83C9AE4C4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E75B2-2948-4FC9-A4CE-5626418F4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38094-267D-44A5-9A0E-C667A50D1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E2A91-A1DA-411C-BED1-3ABE43235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9B712-9E14-4911-B5A2-044B5E5BA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D2703-F7C9-4EB0-B7DF-861CD7A10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54D6-EEDA-4337-AE5C-CAED56A3D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9350-A4C6-4CA9-B40E-4CF28AE9C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CF7D-4BFF-46B9-A540-243F2FE1D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E9F8-533A-4B6C-8A8C-3851DDF3B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2B74-9191-470D-9044-24C8545F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B9E2-B257-4C9E-9703-74D5F2F0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8F92-6DC2-4FE7-8084-330FB84E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C31ED-B2AF-4159-ABF3-497EFC1188DE}" type="slidenum">
              <a:rPr b="0" lang="fr-BE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B1095-9C97-476E-9F5E-A4D1EF889AC4}" type="slidenum">
              <a:rPr b="0" lang="fr-BE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First Standing Committee on Construction (Regulation (EU) 305/2011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157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ffffff"/>
                </a:solidFill>
                <a:latin typeface="Verdana"/>
              </a:rPr>
              <a:t>Member States Rights &amp; Obligation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6F0E-7426-4C77-AA2A-810AFDA81ED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612720" y="277920"/>
            <a:ext cx="929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TABs</a:t>
            </a:r>
            <a:br>
              <a:rPr sz="4000"/>
            </a:b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Ar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Conten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Rights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Obligation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207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09" name=""/>
          <p:cNvGraphicFramePr/>
          <p:nvPr/>
        </p:nvGraphicFramePr>
        <p:xfrm>
          <a:off x="900000" y="1557360"/>
          <a:ext cx="7715520" cy="4448160"/>
        </p:xfrm>
        <a:graphic>
          <a:graphicData uri="http://schemas.openxmlformats.org/drawingml/2006/table">
            <a:tbl>
              <a:tblPr/>
              <a:tblGrid>
                <a:gridCol w="432000"/>
                <a:gridCol w="1297080"/>
                <a:gridCol w="2879640"/>
                <a:gridCol w="3106800"/>
              </a:tblGrid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2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AB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signation within their territories of TABs (making use of product areas of table 1 AIV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mmunication of info to other MS and Co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3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2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AB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sultation of the list made electronicaly available by Co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nitoring activities and competences of their TABs; Evaluation of TABs (use of table 2, AIV); Information to Com on national procedure for designation and monitor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4F45-A578-4C28-8B53-8872D047438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612720" y="277920"/>
            <a:ext cx="929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TABs</a:t>
            </a:r>
            <a:br>
              <a:rPr sz="4000"/>
            </a:b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Ar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Conten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Rights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Obligation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213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15" name=""/>
          <p:cNvGraphicFramePr/>
          <p:nvPr/>
        </p:nvGraphicFramePr>
        <p:xfrm>
          <a:off x="900000" y="1557360"/>
          <a:ext cx="7715520" cy="2998800"/>
        </p:xfrm>
        <a:graphic>
          <a:graphicData uri="http://schemas.openxmlformats.org/drawingml/2006/table">
            <a:tbl>
              <a:tblPr/>
              <a:tblGrid>
                <a:gridCol w="432000"/>
                <a:gridCol w="1511280"/>
                <a:gridCol w="3024000"/>
                <a:gridCol w="2748240"/>
              </a:tblGrid>
              <a:tr h="107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2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uideline for TABs evalu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o be consulted (SCC) before adoption by CO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ithdrawal of TAB designation when it does not satisfy any more the requirements of table 2, AI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7161-F5C5-4171-825D-CC85200270A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155520" y="260280"/>
            <a:ext cx="929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Notified bodies (NB)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br>
              <a:rPr sz="4000"/>
            </a:b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Ar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Conten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Rights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Obligation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219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21" name=""/>
          <p:cNvGraphicFramePr/>
          <p:nvPr/>
        </p:nvGraphicFramePr>
        <p:xfrm>
          <a:off x="900000" y="1557360"/>
          <a:ext cx="7715520" cy="3228840"/>
        </p:xfrm>
        <a:graphic>
          <a:graphicData uri="http://schemas.openxmlformats.org/drawingml/2006/table">
            <a:tbl>
              <a:tblPr/>
              <a:tblGrid>
                <a:gridCol w="432000"/>
                <a:gridCol w="1511280"/>
                <a:gridCol w="2089080"/>
                <a:gridCol w="3683160"/>
              </a:tblGrid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39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otific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otification to Com and other MS of bodies authorised to carry out third-party tasks in the process of AVC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4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otifying authority (N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ciding that national accreditation bodies may be 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signation of a notifying authority responsible for procedures for assessment and notif of NBs and their monitor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0C04-FE81-4F05-A7CA-2678CD613B4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612720" y="277920"/>
            <a:ext cx="929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Notified bodies (NB) </a:t>
            </a:r>
            <a:br>
              <a:rPr sz="4000"/>
            </a:b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Ar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Conten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Rights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Obligation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225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27" name=""/>
          <p:cNvGraphicFramePr/>
          <p:nvPr/>
        </p:nvGraphicFramePr>
        <p:xfrm>
          <a:off x="900000" y="1557360"/>
          <a:ext cx="7715520" cy="4843440"/>
        </p:xfrm>
        <a:graphic>
          <a:graphicData uri="http://schemas.openxmlformats.org/drawingml/2006/table">
            <a:tbl>
              <a:tblPr/>
              <a:tblGrid>
                <a:gridCol w="432000"/>
                <a:gridCol w="2016000"/>
                <a:gridCol w="2160720"/>
                <a:gridCol w="3106800"/>
              </a:tblGrid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4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0.3 Notifying author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legation to non governmental ent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nsuring legal status of this entity and coverage of liabil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4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quirements for 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nsuring no conflict of interest with notified bodies; Objective and impartial; respect of organisational rules as mentioned in 41.3,4,5 and 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formation oblig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ccess to the Com publicly available inform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forming Com on national procedures for assessment and notification of bod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D6D6-5585-4EC2-935C-5DF03E0A03A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612720" y="277920"/>
            <a:ext cx="929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Notified bodies (NB) </a:t>
            </a:r>
            <a:br>
              <a:rPr sz="4000"/>
            </a:b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Ar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Conten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Rights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Obligation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231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33" name=""/>
          <p:cNvGraphicFramePr/>
          <p:nvPr/>
        </p:nvGraphicFramePr>
        <p:xfrm>
          <a:off x="900000" y="1557360"/>
          <a:ext cx="7715520" cy="4538520"/>
        </p:xfrm>
        <a:graphic>
          <a:graphicData uri="http://schemas.openxmlformats.org/drawingml/2006/table">
            <a:tbl>
              <a:tblPr/>
              <a:tblGrid>
                <a:gridCol w="432000"/>
                <a:gridCol w="1871640"/>
                <a:gridCol w="2305080"/>
                <a:gridCol w="3106800"/>
              </a:tblGrid>
              <a:tr h="13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4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quirements for N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ssuming liability insurance (43.9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A authority checking compliance of NBs with art 43 and A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1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4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otification procedu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m and other MS to be informed of notification (preferably making use of Com EE° tool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1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4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and still period after notification (depending if accreditation used or not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80D8-F2E1-45EC-B199-89D158DF49D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612720" y="277920"/>
            <a:ext cx="929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Notified bodies (NB) </a:t>
            </a:r>
            <a:br>
              <a:rPr sz="4000"/>
            </a:b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Ar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Conten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Rights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Obligation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237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39" name=""/>
          <p:cNvGraphicFramePr/>
          <p:nvPr/>
        </p:nvGraphicFramePr>
        <p:xfrm>
          <a:off x="900000" y="1557360"/>
          <a:ext cx="7715520" cy="4843440"/>
        </p:xfrm>
        <a:graphic>
          <a:graphicData uri="http://schemas.openxmlformats.org/drawingml/2006/table">
            <a:tbl>
              <a:tblPr/>
              <a:tblGrid>
                <a:gridCol w="432000"/>
                <a:gridCol w="1727280"/>
                <a:gridCol w="2449440"/>
                <a:gridCol w="3106800"/>
              </a:tblGrid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0.2 Important modifications in notific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nsuring the transfer of file if necessary and keeping the file available for NA and MS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5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allenge of the competence of the N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oviding info as foreseen in § 2; Taking of appropriate measures as foreseen in § 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0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5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xchange of experie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king use by MS national authority of the system organised by Co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F664-DAE4-4321-82CC-D485B3EFA99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612720" y="277920"/>
            <a:ext cx="929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Notified bodies (NB) </a:t>
            </a:r>
            <a:br>
              <a:rPr sz="4000"/>
            </a:b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Ar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Conten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Rights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Obligation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243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45" name=""/>
          <p:cNvGraphicFramePr/>
          <p:nvPr/>
        </p:nvGraphicFramePr>
        <p:xfrm>
          <a:off x="900000" y="1773360"/>
          <a:ext cx="7715520" cy="1309680"/>
        </p:xfrm>
        <a:graphic>
          <a:graphicData uri="http://schemas.openxmlformats.org/drawingml/2006/table">
            <a:tbl>
              <a:tblPr/>
              <a:tblGrid>
                <a:gridCol w="432000"/>
                <a:gridCol w="1727280"/>
                <a:gridCol w="2449440"/>
                <a:gridCol w="3106800"/>
              </a:tblGrid>
              <a:tr h="13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5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ordination of N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nsuring their NBs comply with obligations set up in art 5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63A9-33EF-4893-808E-475E720C856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612720" y="277920"/>
            <a:ext cx="929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Market Surveillance (SM)</a:t>
            </a:r>
            <a:br>
              <a:rPr sz="4000"/>
            </a:b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Ar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Conten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Rights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Obligation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249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51" name=""/>
          <p:cNvGraphicFramePr/>
          <p:nvPr/>
        </p:nvGraphicFramePr>
        <p:xfrm>
          <a:off x="900000" y="1557360"/>
          <a:ext cx="7715520" cy="3747960"/>
        </p:xfrm>
        <a:graphic>
          <a:graphicData uri="http://schemas.openxmlformats.org/drawingml/2006/table">
            <a:tbl>
              <a:tblPr/>
              <a:tblGrid>
                <a:gridCol w="432000"/>
                <a:gridCol w="1584360"/>
                <a:gridCol w="2160360"/>
                <a:gridCol w="3538800"/>
              </a:tblGrid>
              <a:tr h="37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§1 Procedure for product presenting a ris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aking action pursuant to Regulation 765/2008; Cooperation of the economic operator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arrying out evaluation as foreseen in 56§1; If product not complyith possibili with the requirements of CPR, requiring economic operator (EO) taking appropriate corrective actions, with possibility of withdrawal or recall of the product; information to NB if involv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F9F0-AD29-4928-A283-C40B4171044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-612720" y="277920"/>
            <a:ext cx="929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Market Surveillance (SM) </a:t>
            </a:r>
            <a:br>
              <a:rPr sz="4000"/>
            </a:b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Ar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Conten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Rights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Obligation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255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57" name=""/>
          <p:cNvGraphicFramePr/>
          <p:nvPr/>
        </p:nvGraphicFramePr>
        <p:xfrm>
          <a:off x="900000" y="1557360"/>
          <a:ext cx="7715520" cy="4017960"/>
        </p:xfrm>
        <a:graphic>
          <a:graphicData uri="http://schemas.openxmlformats.org/drawingml/2006/table">
            <a:tbl>
              <a:tblPr/>
              <a:tblGrid>
                <a:gridCol w="432000"/>
                <a:gridCol w="1584360"/>
                <a:gridCol w="2592360"/>
                <a:gridCol w="3106800"/>
              </a:tblGrid>
              <a:tr h="179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§2 Procedure for product presenting a ris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formation of Com and other MS if non compliance not only limited to the national territo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§4,5 Procedure for product presenting a ris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f adequate corrective measures not taken in due time SMA takes appropriate measures; Information on this measures to Com and other M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7F72-DD82-44B0-876D-FDD1E9692DF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-612720" y="277920"/>
            <a:ext cx="929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Market Surveillance (SM) 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Ar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Conten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Rights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Obligation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261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63" name=""/>
          <p:cNvGraphicFramePr/>
          <p:nvPr/>
        </p:nvGraphicFramePr>
        <p:xfrm>
          <a:off x="900000" y="1557360"/>
          <a:ext cx="7715520" cy="5065560"/>
        </p:xfrm>
        <a:graphic>
          <a:graphicData uri="http://schemas.openxmlformats.org/drawingml/2006/table">
            <a:tbl>
              <a:tblPr/>
              <a:tblGrid>
                <a:gridCol w="432000"/>
                <a:gridCol w="1511280"/>
                <a:gridCol w="2665440"/>
                <a:gridCol w="3106800"/>
              </a:tblGrid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§6,7 Procedure for product presenting a ris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xchange of info between MS and Com about the non complianc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§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aking of restrictive measur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3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7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ion safeguard procedu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Nh or EAD to be modified if they are the source of the risk (shortcomings) after consultation of 98/34 or Standing Committe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intaining or deletion of the taken national measures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8BB1-D238-48FA-9DD0-1C265B2803A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ccecff"/>
                </a:solidFill>
                <a:latin typeface="Arial"/>
              </a:rPr>
              <a:t>Member States Rights &amp; Obliga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Verdana"/>
              </a:rPr>
              <a:t>General regulations framewor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Verdana"/>
              </a:rPr>
              <a:t>General remark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Verdana"/>
              </a:rPr>
              <a:t>Subsidiarity and BW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Verdana"/>
              </a:rPr>
              <a:t>Main poi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163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7BA4-7BBA-48F8-9D43-C6B86526203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-612720" y="277920"/>
            <a:ext cx="929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Market Surveillance (SM) 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br>
              <a:rPr sz="4000"/>
            </a:b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Ar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Conten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Rights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Obligation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267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69" name=""/>
          <p:cNvGraphicFramePr/>
          <p:nvPr/>
        </p:nvGraphicFramePr>
        <p:xfrm>
          <a:off x="900000" y="1557360"/>
          <a:ext cx="7715520" cy="2165400"/>
        </p:xfrm>
        <a:graphic>
          <a:graphicData uri="http://schemas.openxmlformats.org/drawingml/2006/table">
            <a:tbl>
              <a:tblPr/>
              <a:tblGrid>
                <a:gridCol w="432000"/>
                <a:gridCol w="2087640"/>
                <a:gridCol w="1873080"/>
                <a:gridCol w="3322800"/>
              </a:tblGrid>
              <a:tr h="21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mplying construction products which nevertheless present a risk to health and safety</a:t>
                      </a:r>
                      <a:r>
                        <a:rPr b="0" lang="fr-BE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entioned in §1,3 and 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D88A-B09B-41E3-8F88-5E092C2ABC3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-612720" y="277920"/>
            <a:ext cx="929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Delegated Acts (Lisbon)</a:t>
            </a:r>
            <a:br>
              <a:rPr sz="4000"/>
            </a:b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Ar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Conten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Rights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Obligation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273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75" name=""/>
          <p:cNvGraphicFramePr/>
          <p:nvPr/>
        </p:nvGraphicFramePr>
        <p:xfrm>
          <a:off x="900000" y="1557360"/>
          <a:ext cx="7715520" cy="3124080"/>
        </p:xfrm>
        <a:graphic>
          <a:graphicData uri="http://schemas.openxmlformats.org/drawingml/2006/table">
            <a:tbl>
              <a:tblPr/>
              <a:tblGrid>
                <a:gridCol w="432000"/>
                <a:gridCol w="1584360"/>
                <a:gridCol w="2592360"/>
                <a:gridCol w="3106800"/>
              </a:tblGrid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vocation of the deleg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vocation (Council) possible at any ti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 62 §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1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bjections to delegated ac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bjection (Council) within 3 months (extension of 3 months possibl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BEE6-8BAF-4289-80F4-F1E89B4FDC5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-612720" y="277920"/>
            <a:ext cx="929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  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Standing Committee on Construction</a:t>
            </a:r>
            <a:br>
              <a:rPr sz="4000"/>
            </a:b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Ar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Conten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Rights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Obligation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279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81" name=""/>
          <p:cNvGraphicFramePr/>
          <p:nvPr/>
        </p:nvGraphicFramePr>
        <p:xfrm>
          <a:off x="900000" y="1557360"/>
          <a:ext cx="7715520" cy="1079640"/>
        </p:xfrm>
        <a:graphic>
          <a:graphicData uri="http://schemas.openxmlformats.org/drawingml/2006/table">
            <a:tbl>
              <a:tblPr/>
              <a:tblGrid>
                <a:gridCol w="432000"/>
                <a:gridCol w="1297080"/>
                <a:gridCol w="2879640"/>
                <a:gridCol w="3106800"/>
              </a:tblGrid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se of decision 1999/468/EC art 3 &amp; 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quirements for members in art 64§3 CP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D376-210B-47A3-8E3E-3A0987AFC2A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-468360" y="404280"/>
            <a:ext cx="929952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onclusion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3534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Verdana"/>
              </a:rPr>
              <a:t>A regulation does not need to be transposed</a:t>
            </a:r>
            <a:r>
              <a:rPr b="0" lang="fr-BE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fr-BE" sz="2800" spc="-1" strike="noStrike">
                <a:solidFill>
                  <a:srgbClr val="ffffff"/>
                </a:solidFill>
                <a:latin typeface="Verdana"/>
              </a:rPr>
              <a:t>(that, everybody knows!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Verdana"/>
              </a:rPr>
              <a:t>The CPR needs some work in the MS  before national procedures will be conform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Verdana"/>
              </a:rPr>
              <a:t>Good luck to everyone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285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2410920" y="1341360"/>
            <a:ext cx="4038840" cy="4530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195C-DE49-4114-9083-B5AEB16F5AA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ccecff"/>
                </a:solidFill>
                <a:latin typeface="Arial"/>
              </a:rPr>
              <a:t>General Regulation Framewor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494000" y="333360"/>
          <a:ext cx="7149960" cy="582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4000" y="333360"/>
                    <a:ext cx="7149960" cy="58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8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169" name="" descr=""/>
            <p:cNvPicPr/>
            <p:nvPr/>
          </p:nvPicPr>
          <p:blipFill>
            <a:blip r:embed="rId3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AF5C-8A1F-45C1-AFAD-BD24C0FA845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ccecff"/>
                </a:solidFill>
                <a:latin typeface="Arial"/>
              </a:rPr>
              <a:t>General remark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Verdana"/>
              </a:rPr>
              <a:t>Dates of Application</a:t>
            </a:r>
            <a:r>
              <a:rPr b="0" lang="fr-BE" sz="3200" spc="-1" strike="noStrike">
                <a:solidFill>
                  <a:srgbClr val="ff0066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0066"/>
                </a:solidFill>
                <a:latin typeface="Verdana"/>
              </a:rPr>
              <a:t>2011</a:t>
            </a:r>
            <a:r>
              <a:rPr b="0" lang="fr-BE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fr-BE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fr-BE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fr-BE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fr-BE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fr-BE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fr-BE" sz="3200" spc="-1" strike="noStrike">
                <a:solidFill>
                  <a:srgbClr val="ffffff"/>
                </a:solidFill>
                <a:latin typeface="Verdana"/>
              </a:rPr>
              <a:t>201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Verdana"/>
              </a:rPr>
              <a:t>Disclaim: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content of this unformal communication is not necessarily fully endorsed by the Belgian authorities;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nly Wording of CPR is correct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174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72EF-0B08-4294-8166-24835CE525B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1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ccecff"/>
                </a:solidFill>
                <a:latin typeface="Arial"/>
              </a:rPr>
              <a:t>Subsidiarity and BW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Verdana"/>
              </a:rPr>
              <a:t>Subsidiarity !! Righ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Verdana"/>
              </a:rPr>
              <a:t>National rules mentioned in 8.6 (ENh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Verdana"/>
              </a:rPr>
              <a:t>and BWR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Verdana"/>
              </a:rPr>
              <a:t>Annex 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Verdana"/>
              </a:rPr>
              <a:t>Right of adopting BW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Verdana"/>
              </a:rPr>
              <a:t>Making use of modifications of BWRin CP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Verdana"/>
              </a:rPr>
              <a:t>Oblig of making use of ENh (8.6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179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7CF1-74B1-4069-84D2-E022C0975CB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612720" y="277920"/>
            <a:ext cx="929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      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BWR and essential characteristics</a:t>
            </a:r>
            <a:br>
              <a:rPr sz="4000"/>
            </a:b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Ar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Conten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Rights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Obligation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184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86" name=""/>
          <p:cNvGraphicFramePr/>
          <p:nvPr/>
        </p:nvGraphicFramePr>
        <p:xfrm>
          <a:off x="900000" y="1557360"/>
          <a:ext cx="7715520" cy="2519280"/>
        </p:xfrm>
        <a:graphic>
          <a:graphicData uri="http://schemas.openxmlformats.org/drawingml/2006/table">
            <a:tbl>
              <a:tblPr/>
              <a:tblGrid>
                <a:gridCol w="432000"/>
                <a:gridCol w="1297080"/>
                <a:gridCol w="2879640"/>
                <a:gridCol w="3106800"/>
              </a:tblGrid>
              <a:tr h="167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irst §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ope of making use of essential characteristics define by Com by 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? Adapting MS requirements accordingly (art 8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econd §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dem for threshold lev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CC5B-D4E1-482D-9C82-7A2EE4942A2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-973440" y="277920"/>
            <a:ext cx="9659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     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General principles and use CE mark</a:t>
            </a:r>
            <a:br>
              <a:rPr sz="4000"/>
            </a:b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Ar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Rights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Obligation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189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91" name=""/>
          <p:cNvGraphicFramePr/>
          <p:nvPr/>
        </p:nvGraphicFramePr>
        <p:xfrm>
          <a:off x="826920" y="1413000"/>
          <a:ext cx="6788160" cy="4614840"/>
        </p:xfrm>
        <a:graphic>
          <a:graphicData uri="http://schemas.openxmlformats.org/drawingml/2006/table">
            <a:tbl>
              <a:tblPr/>
              <a:tblGrid>
                <a:gridCol w="430560"/>
                <a:gridCol w="2787480"/>
                <a:gridCol w="3570120"/>
              </a:tblGrid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 ref to marking attesting conf in DoP other than 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.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hibit or impede use or making available of CP with a declared performance not in accordance with national requiremen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t prohibit or impede () making available or use of products bearing CE if declared performances correspond to MS requiremen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90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.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ethods used in Requirements for works in accordance with EN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6C89-CC99-408E-8A8A-8558B319D95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-612720" y="277920"/>
            <a:ext cx="929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PCP &amp; Stakeholders</a:t>
            </a:r>
            <a:br>
              <a:rPr sz="4000"/>
            </a:b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Ar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Conten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Rights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Obligation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195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97" name=""/>
          <p:cNvGraphicFramePr/>
          <p:nvPr/>
        </p:nvGraphicFramePr>
        <p:xfrm>
          <a:off x="900000" y="1557360"/>
          <a:ext cx="7715520" cy="4613400"/>
        </p:xfrm>
        <a:graphic>
          <a:graphicData uri="http://schemas.openxmlformats.org/drawingml/2006/table">
            <a:tbl>
              <a:tblPr/>
              <a:tblGrid>
                <a:gridCol w="432000"/>
                <a:gridCol w="1727280"/>
                <a:gridCol w="2449440"/>
                <a:gridCol w="3106800"/>
              </a:tblGrid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C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 or mo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? Same as 764/200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signation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o conflict of intere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?Central notific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9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bligations Stakeholder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art 11 to 16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 Imposing language for safety instruct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 To be informed in case of product presenting a ris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9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monstration of C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formity with Do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 Receiving info in a languaga easily understoo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 Imposing the elimination of the risk (hazard ?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king of a « reasoned request » if CP presents a ris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5405-6013-4074-8DE1-CB3BE16339E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612720" y="277920"/>
            <a:ext cx="929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ENh &amp;EAD</a:t>
            </a:r>
            <a:br>
              <a:rPr sz="4000"/>
            </a:b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Ar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Content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Rights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ccecff"/>
                </a:solidFill>
                <a:latin typeface="Arial"/>
              </a:rPr>
              <a:t>Obligation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659640" y="5445000"/>
            <a:ext cx="2282400" cy="900000"/>
            <a:chOff x="6659640" y="5445000"/>
            <a:chExt cx="2282400" cy="900000"/>
          </a:xfrm>
        </p:grpSpPr>
        <p:pic>
          <p:nvPicPr>
            <p:cNvPr id="201" name="" descr=""/>
            <p:cNvPicPr/>
            <p:nvPr/>
          </p:nvPicPr>
          <p:blipFill>
            <a:blip r:embed="rId1"/>
            <a:stretch/>
          </p:blipFill>
          <p:spPr>
            <a:xfrm>
              <a:off x="6659640" y="5758560"/>
              <a:ext cx="228240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6813720" y="5445000"/>
              <a:ext cx="199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Jacques Vertes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03" name=""/>
          <p:cNvGraphicFramePr/>
          <p:nvPr/>
        </p:nvGraphicFramePr>
        <p:xfrm>
          <a:off x="900000" y="1557360"/>
          <a:ext cx="7715520" cy="4133880"/>
        </p:xfrm>
        <a:graphic>
          <a:graphicData uri="http://schemas.openxmlformats.org/drawingml/2006/table">
            <a:tbl>
              <a:tblPr/>
              <a:tblGrid>
                <a:gridCol w="432000"/>
                <a:gridCol w="1297080"/>
                <a:gridCol w="2879640"/>
                <a:gridCol w="310680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N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CC being consulted by Com before request to C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bjection EN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f MS consider ENh not entirely satisfy mandate use of SCC or 98/ 34 committe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m decis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1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bjection EA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f MS consider EAD not entirely satisfy demands ./. BWR use of SCC committe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-07-06 1st SCC Regulation (EU) 305/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044F-C7F7-4436-B38B-A2F3DAB8EB4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5T15:24:24Z</dcterms:created>
  <dc:creator>Vertessen</dc:creator>
  <dc:description/>
  <dc:language>en-US</dc:language>
  <cp:lastModifiedBy>katsage</cp:lastModifiedBy>
  <dcterms:modified xsi:type="dcterms:W3CDTF">2011-07-01T15:29:13Z</dcterms:modified>
  <cp:revision>16</cp:revision>
  <dc:subject/>
  <dc:title>Diapositive 1</dc:title>
</cp:coreProperties>
</file>