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C3DE-8E5B-4332-B8DD-0AC636FE62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13DB-42A0-440A-AFA7-957E626A6A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1624-40FE-4B42-8373-19DD6C8A3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15A5-9EBC-464C-BD70-69FB2BB78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12E9-3006-4D78-B17C-D4B0E7A82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5D57-B023-415D-A02A-6D4FC2FED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FB4E1-F783-4E1F-88FC-64F65783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493F9-A583-433A-A19B-FCD58EA3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714C3-5D7B-4CB8-A62A-25214732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9B3A0-A23B-4E0B-9A0B-82DDFEEB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FE30E-848C-4E0D-8E5F-AF708E20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43461-A9E0-47FF-951C-6783E6A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3E1C1-0F6C-423C-A160-883BC64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C1DD-D7CB-412C-90DD-0F53D5F2B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C750F-73E5-4498-B3F4-E8313D0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0C3D-AD8B-49E5-8D86-29546A5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04C7C-B1CD-403A-A2B4-ADD21C33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2E206-976F-4C90-B1BC-47B13861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4CCCE-C143-4AA9-841D-4A1F4418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0C54C-246F-4054-B806-F1A06251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9E48CA-A7C8-46AC-AC66-E35BEEC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916C9-74E1-4283-A13B-A00C45EF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7A840B-8A5B-4E70-BCFA-B92B04F1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CE852-AA01-442B-A35A-E824DE95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B193-D723-4D41-B79A-224F6BB768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8E830-8874-4901-9465-DB19259C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51A50-5D22-4F53-964C-10E5ADA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60966-030A-4DAD-A42C-131965F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4343F-793C-4571-AA6D-7BF1DB1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18A8F-C77E-4136-9A05-8C06949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FFA5BE-E149-47CB-A713-8B467D23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C18EF-C5C3-4377-9F82-BB810FA3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B6A33-19AC-48EE-9ED4-3CBEBE7FB6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BF336-2CF4-49ED-A54D-7AB186D443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0A169-098D-472F-9872-8954A0761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723C-9E89-44BE-954B-3D6B4096D6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1DB76-0A74-4EFB-BF87-777C9B8C1D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9C17D-A676-49D2-972A-3F9DFD979E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1EC1D-F952-4435-8772-AFF9C42EC5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C8B40-C25B-4024-9389-48E18F0181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7360B-8561-4D06-AC82-C3E8200473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5EC17-C72B-4C51-B521-74AF33C16C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25FC2-06DB-4028-8805-5DBC8783CB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3DD19-8F29-4532-BDC4-DB0C850223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4BC3F-E44B-4607-BE39-8CEF415C1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A81D-CAB4-48AB-90E2-98F914A05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9A9EF-B1D0-453A-9F34-F713DC133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F541-44AC-4260-B2AE-B348E492A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90A5-F8CA-4BBF-8318-6A35DD4EC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7018-89E8-4AA9-BD23-EBE4EAEBD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379E-8EC1-415B-BB57-61E9687E9C1F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1081-660C-4FCD-B3C3-5F72401D7E5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C7E-782F-4070-9D2C-CD5AFD142C6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48CB-395A-4874-A95E-FB9F7BA964F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8B1-CFE4-47F6-B25E-4825BD0C26B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FEFB-935A-429C-AC88-544AC6B5BDC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to be applied for derogation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5)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and public inform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37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ontact Points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finition of types of information (free of charge or charged)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4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169-7AC7-4448-A137-89BA099609A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48A-22B9-4BC8-825B-AF7C5D3090B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12A1-5570-4C9A-856B-B483434116D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C84D-A872-415E-91F7-0A9686909BD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katsage</cp:lastModifiedBy>
  <cp:lastPrinted>2000-03-16T10:24:10Z</cp:lastPrinted>
  <dcterms:modified xsi:type="dcterms:W3CDTF">2011-07-01T15:46:43Z</dcterms:modified>
  <cp:revision>538</cp:revision>
  <dc:subject/>
  <dc:title>Aucun titre de diapositive</dc:title>
</cp:coreProperties>
</file>