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1320" y="6302520"/>
              <a:ext cx="201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11320" y="6566040"/>
              <a:ext cx="201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111320" y="6302520"/>
              <a:ext cx="0" cy="26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24080" y="6302520"/>
              <a:ext cx="0" cy="26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2781360"/>
            <a:ext cx="7993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SCC CPR meeting 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ussels, 5 Jul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413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Construction Products Regulation</a:t>
            </a: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fr-FR" sz="2800" spc="-1" strike="noStrike">
                <a:solidFill>
                  <a:srgbClr val="000099"/>
                </a:solidFill>
                <a:latin typeface="Arial"/>
              </a:rPr>
              <a:t>Rules of procedure for the SCC</a:t>
            </a:r>
            <a:r>
              <a:rPr b="1" lang="fr-FR" sz="6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4797360"/>
            <a:ext cx="8459640" cy="9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. Mikkeli/ E. Mat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an Commiss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ate-General Enterprise and Industr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G5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, pressure equipment and metr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99"/>
                </a:solidFill>
                <a:latin typeface="Arial"/>
              </a:rPr>
              <a:t>SCC proced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Comitology 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t 64(2) CPR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mDec 1999/468/E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eg 182/2011, Art 1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previous references to this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g 182/2011, Implementing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t 9(1), Rules of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sis: Standard rules (EC, OJ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t yet               only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raft: Reg 182/2011 (both generally &amp; by proced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515772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263700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306864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9" dur="1" fill="hold"/>
                                  <p:tgtEl>
                                    <p:spTgt spid="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0" dur="1" fill="hold"/>
                                  <p:tgtEl>
                                    <p:spTgt spid="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" dur="1" fill="hold"/>
                                  <p:tgtEl>
                                    <p:spTgt spid="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2" dur="1" fill="hold"/>
                                  <p:tgtEl>
                                    <p:spTgt spid="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99"/>
                </a:solidFill>
                <a:latin typeface="Arial"/>
              </a:rPr>
              <a:t>Decision-making within the SC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cedures defined in Reg 182/20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 SCC, advisory (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rt 4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[Art 3 of Dec 1999/468 &amp; Art 13(1)(a) of Reg.182/201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f necessary, simply majority of MS [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/2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Art 4(1) of Reg 182/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ensus-building aspects of Art 3(4) of Reg 182/201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within the general rules for all proced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fa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99"/>
                </a:solidFill>
                <a:latin typeface="Arial"/>
              </a:rPr>
              <a:t>Specific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 expert paid for each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presentation rul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cf also Art 64(3) of C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nutes (Art 3(6) of Reg 182/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Without delay»: 1 mon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f «summary record» for EP (&amp; Council)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fa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katsage</cp:lastModifiedBy>
  <cp:lastPrinted>2008-06-02T19:37:29Z</cp:lastPrinted>
  <dcterms:modified xsi:type="dcterms:W3CDTF">2011-07-01T16:50:10Z</dcterms:modified>
  <cp:revision>166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3182646</vt:r8>
  </property>
  <property fmtid="{D5CDD505-2E9C-101B-9397-08002B2CF9AE}" pid="3" name="_AuthorEmail">
    <vt:lpwstr>Maria.MATEO-BUESA@ext.ec.europa.eu</vt:lpwstr>
  </property>
  <property fmtid="{D5CDD505-2E9C-101B-9397-08002B2CF9AE}" pid="4" name="_AuthorEmailDisplayName">
    <vt:lpwstr>MATEO BUESA Elena (ENTR-EXT)</vt:lpwstr>
  </property>
  <property fmtid="{D5CDD505-2E9C-101B-9397-08002B2CF9AE}" pid="5" name="_EmailSubject">
    <vt:lpwstr>Presentation on SRoP of the SCC-1st SCC under the CPR</vt:lpwstr>
  </property>
  <property fmtid="{D5CDD505-2E9C-101B-9397-08002B2CF9AE}" pid="6" name="_NewReviewCycle">
    <vt:lpwstr/>
  </property>
  <property fmtid="{D5CDD505-2E9C-101B-9397-08002B2CF9AE}" pid="7" name="_PreviousAdHocReviewCycleID">
    <vt:r8>-73730951</vt:r8>
  </property>
  <property fmtid="{D5CDD505-2E9C-101B-9397-08002B2CF9AE}" pid="8" name="_ReviewingToolsShownOnce">
    <vt:lpwstr/>
  </property>
</Properties>
</file>