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1320" y="630252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11320" y="656604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132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2408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2781360"/>
            <a:ext cx="7993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CC CPR meeting 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ussels, 5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413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nstruction Products Regulation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     Notified Bodies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4941720"/>
            <a:ext cx="845964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 Gómez Ló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Commi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ate-General Enterprise and Industr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G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, Pressure Equipment and Metr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64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3600" indent="0">
              <a:buNone/>
              <a:tabLst>
                <a:tab algn="l" pos="0"/>
                <a:tab algn="l" pos="1698480"/>
                <a:tab algn="l" pos="22352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otifying Authorities and NBs in CP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pter VII (Articles 39 to 55) and Annex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ble as of 24/04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s 39 – 4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ifying Authorities (NAs), MSs’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s 43 – 4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fied Bodies (NBs)’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 4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Use of manufacturer’s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s 47 – 5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, notification procedure, N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 5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Challenge of competence of N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s 52 &amp; 5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ligations for N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 5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Ss’ exchange of experience on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ticle 55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269568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nex V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s of assessment and verif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of constancy of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8728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What is new for NAs under CPR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416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66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36680" indent="-3430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fying Authorities to make sure that </a:t>
            </a: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NBs follow requir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defined in Art. 43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3430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LF provisions on </a:t>
            </a: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Accred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appl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04560">
              <a:lnSpc>
                <a:spcPct val="80000"/>
              </a:lnSpc>
              <a:spcBef>
                <a:spcPts val="751"/>
              </a:spcBef>
              <a:buClr>
                <a:srgbClr val="6b6b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gulation (EC) No 765/2008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04560">
              <a:lnSpc>
                <a:spcPct val="80000"/>
              </a:lnSpc>
              <a:spcBef>
                <a:spcPts val="1001"/>
              </a:spcBef>
              <a:buClr>
                <a:srgbClr val="6b6b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ecision (EC) No 768/2008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6680" indent="-3430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Information obligation for M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C</a:t>
            </a: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4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680" indent="-3430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Exchange of experie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mong Notifying Authorities </a:t>
            </a:r>
            <a:br>
              <a:rPr sz="1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6680" indent="-343080">
              <a:lnSpc>
                <a:spcPct val="80000"/>
              </a:lnSpc>
              <a:spcBef>
                <a:spcPts val="624"/>
              </a:spcBef>
              <a:buClr>
                <a:srgbClr val="005fa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gulation (EC) No 765/2008 of EP and of EC of 9 July 2008 setting out the requirements for accreditation and market surveillance relating to the marketing of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6680" indent="-343080">
              <a:lnSpc>
                <a:spcPct val="80000"/>
              </a:lnSpc>
              <a:spcBef>
                <a:spcPts val="624"/>
              </a:spcBef>
              <a:buClr>
                <a:srgbClr val="005fa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ision (EC) No 768/2008 of EP and of EC of 9 July 2008 on a common framework for the marketing of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8728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What is new for NBs under CPR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ticle 4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anufacturer’s facil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ticle 4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Accreditation</a:t>
            </a:r>
            <a:r>
              <a:rPr b="1" lang="en-GB" sz="1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938"/>
              </a:spcBef>
              <a:buClr>
                <a:srgbClr val="005f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ek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consultation period in NAN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938"/>
              </a:spcBef>
              <a:buClr>
                <a:srgbClr val="005f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further documentation to be provi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938"/>
              </a:spcBef>
              <a:buClr>
                <a:srgbClr val="005f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uidance availab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938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RTIF 2009-06 rev 6 – Cross border accredi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81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RTIF 2010-06 – Notifications of NBs in NANDO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Non Accreditation</a:t>
            </a:r>
            <a:r>
              <a:rPr b="1" lang="en-GB" sz="1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938"/>
              </a:spcBef>
              <a:buClr>
                <a:srgbClr val="005f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onth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consultation period in NAN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938"/>
              </a:spcBef>
              <a:buClr>
                <a:srgbClr val="005f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cumentary evidence of competence to be provi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938"/>
              </a:spcBef>
              <a:buClr>
                <a:srgbClr val="005fa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uidance availab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938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RTIF 2010-08 rev 1 – Notification without accreditation (Art. 5.2 of Reg. 765/200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8728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What is new for NBs ?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(2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416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t. 48, Annex V – pa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Horizontal no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following essentia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24696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 (reaction, resistance, external fire 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24696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24696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ission of dangerous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ticle 51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 of competence of N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8728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What is new for NBs ?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(3/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692280"/>
            <a:ext cx="741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ticle 5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Operational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rtionality – avoid unnecessary burden to ec.oper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ctive measures to be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1125"/>
              </a:spcBef>
              <a:buClr>
                <a:srgbClr val="6b6b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not taken, NB may restrict, suspend, withdraw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ticle 53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Information obligation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NBs to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sal, restriction, suspension or withdrawal of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s in conditions f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Market Surveillance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25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part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Information obligation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NBs to other N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28728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What is new for NBs?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(4/4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nex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ufacturer’s Declaration of performance in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C System 2 abo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rth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station of “Conformity” (AoC) Systems =&gt;</a:t>
            </a:r>
            <a:br>
              <a:rPr sz="2400"/>
            </a:b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Systems of assessment and verification of constancy of performance (AVCP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AGs and CUAPs ~&gt;  </a:t>
            </a: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1437"/>
              </a:spcBef>
              <a:buClr>
                <a:srgbClr val="005f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sential Requirements (ERs) =&gt; </a:t>
            </a:r>
            <a:br>
              <a:rPr sz="2400"/>
            </a:br>
            <a:r>
              <a:rPr b="0" lang="en-GB" sz="2300" spc="-1" strike="noStrike">
                <a:solidFill>
                  <a:srgbClr val="336600"/>
                </a:solidFill>
                <a:latin typeface="Arial"/>
              </a:rPr>
              <a:t>Basic Requirements for Construction Works (BR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402840"/>
            <a:ext cx="741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hat does not chang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7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monised Technical Specific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s for the work of N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N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9480" indent="-342720">
              <a:lnSpc>
                <a:spcPct val="80000"/>
              </a:lnSpc>
              <a:spcBef>
                <a:spcPts val="1250"/>
              </a:spcBef>
              <a:buClr>
                <a:srgbClr val="6b6b6b"/>
              </a:buClr>
              <a:buFont typeface="Wingdings" charset="2"/>
              <a:buChar char=""/>
              <a:tabLst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R part to be set up shortl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spirit as NANDO-C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9480" indent="-342720">
              <a:lnSpc>
                <a:spcPct val="80000"/>
              </a:lnSpc>
              <a:spcBef>
                <a:spcPts val="1250"/>
              </a:spcBef>
              <a:buClr>
                <a:srgbClr val="6b6b6b"/>
              </a:buClr>
              <a:buFont typeface="Wingdings" charset="2"/>
              <a:buChar char=""/>
              <a:tabLst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s to be designated under NANDO-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9480" indent="-342720">
              <a:lnSpc>
                <a:spcPct val="80000"/>
              </a:lnSpc>
              <a:spcBef>
                <a:spcPts val="1250"/>
              </a:spcBef>
              <a:buClr>
                <a:srgbClr val="6b6b6b"/>
              </a:buClr>
              <a:buFont typeface="Wingdings" charset="2"/>
              <a:buChar char=""/>
              <a:tabLst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NDO-CPR and NANDO-CPD will coexist until 30/06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GN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coordination of NBs recognized in Art. 5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) For products going through OTAB, NBs perform FPC on the grounds of EAD or E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gomezin</cp:lastModifiedBy>
  <cp:lastPrinted>2008-06-02T19:37:29Z</cp:lastPrinted>
  <dcterms:modified xsi:type="dcterms:W3CDTF">2011-06-28T09:33:35Z</dcterms:modified>
  <cp:revision>19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4729366</vt:r8>
  </property>
  <property fmtid="{D5CDD505-2E9C-101B-9397-08002B2CF9AE}" pid="3" name="_AuthorEmail">
    <vt:lpwstr>Manuela.BERNHOLZ@ec.europa.eu</vt:lpwstr>
  </property>
  <property fmtid="{D5CDD505-2E9C-101B-9397-08002B2CF9AE}" pid="4" name="_AuthorEmailDisplayName">
    <vt:lpwstr>BERNHOLZ Manuela (ENTR)</vt:lpwstr>
  </property>
  <property fmtid="{D5CDD505-2E9C-101B-9397-08002B2CF9AE}" pid="5" name="_EmailSubject">
    <vt:lpwstr>SCC-CPR meeting 5 July 2011 -  Presentation TABs and new organisation of TABs</vt:lpwstr>
  </property>
  <property fmtid="{D5CDD505-2E9C-101B-9397-08002B2CF9AE}" pid="6" name="_NewReviewCycle">
    <vt:lpwstr/>
  </property>
  <property fmtid="{D5CDD505-2E9C-101B-9397-08002B2CF9AE}" pid="7" name="_PreviousAdHocReviewCycleID">
    <vt:r8>-1720380437</vt:r8>
  </property>
  <property fmtid="{D5CDD505-2E9C-101B-9397-08002B2CF9AE}" pid="8" name="_ReviewingToolsShownOnce">
    <vt:lpwstr/>
  </property>
</Properties>
</file>