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dt" idx="9"/>
          </p:nvPr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EPMC General Assemb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sldImg"/>
          </p:nvPr>
        </p:nvSpPr>
        <p:spPr>
          <a:xfrm>
            <a:off x="918720" y="744120"/>
            <a:ext cx="496116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ftr" idx="10"/>
          </p:nvPr>
        </p:nvSpPr>
        <p:spPr>
          <a:xfrm>
            <a:off x="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 type="sldNum" idx="11"/>
          </p:nvPr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DBA2B-F6B2-4227-B4D6-FD70930928A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3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EPMC General Assemb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68835-A57D-464E-8060-975ADB6A01D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03D23-E08A-4242-9273-4A979D7400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28240" y="385632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E531A-0537-493E-A61E-764E1B234A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048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23AC5-7BB7-4321-9C27-F3100F07FE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8204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3548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22824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8204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3548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6BE56-C8DE-46D7-9757-37AD13D0E9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56B302-B142-4DA9-9A43-322ACFC06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28240" y="1599840"/>
            <a:ext cx="87361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75CB48-2933-42A1-BFD4-1863BF277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736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23DE70-1E1C-495A-A928-963DB459A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64CB4F-CC65-4036-9ACE-ADC9A5326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0F9104-066C-44F4-87DF-3DBECEC8D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50560" y="907920"/>
            <a:ext cx="8713800" cy="23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5D948E-8F43-4CCF-A29D-99FE2CDC8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4F1235-36B9-4B2C-8937-7655FB45A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228240" y="1599840"/>
            <a:ext cx="87361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FC5D6-F74B-4424-BF5A-192F3857F9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048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36B3EB-8DE4-41B1-9436-4E0489008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92E6D7-47BA-4637-A31F-993BA5AEC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28240" y="385632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9A935E-5D39-4B09-B3A7-604E15DF4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048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F24596-DEED-4F94-BB3F-37E9C9985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8204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3548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2824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8204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3548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B64D7C-9695-40DD-9EB2-85D926795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F910F4F-0DFB-406D-8E13-7DD7EB2E2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28240" y="1599840"/>
            <a:ext cx="87361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EFDD4DA-8F7C-40B0-A410-D4ED90075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736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9A87046-D081-4A0C-A7CD-78F4CA0E8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3860FAC-E3BD-4120-A95D-4F06CA3C9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B7F44F5-0DF9-4ACE-BAA7-58840A4EA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736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A57B9-B120-4F92-B616-D06E2C26C60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250560" y="907920"/>
            <a:ext cx="8713800" cy="23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B68045E-29B5-4C6B-B65C-E5CF52DF0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342EB8F-81A9-4017-975F-A0F957FA4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7048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1277EC9-D497-49BE-9BFE-5E1B0CE77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D4A2622-17EB-43A7-ADB0-DD380332E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228240" y="385632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FD79D64-F704-4271-ABEA-43A2E2483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7048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03BE9DA-52EA-4371-BF37-29E222225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18204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13548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22824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18204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13548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58CB55D-C7E3-4D6B-9E0B-C9B1E7B87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11F5D2-BEC4-46CD-A0E0-3E7DC9ADA68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228240" y="1599840"/>
            <a:ext cx="87361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81C844-6494-4175-B80A-C01D9A82EC4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736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39343C-1218-4A80-85BE-39AC64C35F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D494E-354A-474D-891D-1252FE7AE67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F29CE5-5EFB-4805-9D06-AD924A3DC40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48BE12-63D3-43F0-9E04-C12328B6EF8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250560" y="907920"/>
            <a:ext cx="8713800" cy="23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C82807-FD7A-4C2E-9090-2CB043FCB99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5DD737-2C01-4E44-A63E-98EBD939C1D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048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D8ABDE-3004-4128-829E-6A48CDD7831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5A8B29-0E72-47D6-B020-FAC7E4AE485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228240" y="385632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7DB8EB-D9CB-499E-ABF2-5893620576C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048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DD59CD-410A-48FF-9923-01F8662F913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18204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3548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22824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18204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3548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5EDA8F-00C6-4A08-B459-496215AF94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3D7AF-D9AD-4190-BA42-7C0555AF43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250560" y="907920"/>
            <a:ext cx="8713800" cy="23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C1861-E664-4516-A70B-0EDFEEE696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520E4-D6E2-4527-982F-662484649C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048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E5928-096A-4EB9-B589-4D9ED0E633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25313-D7A6-4C37-A3DF-5BB0AA592A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0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7238880" y="655272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D0CF4-C318-4FE7-874B-8D369EF2A4A0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2"/>
          <p:cNvSpPr/>
          <p:nvPr/>
        </p:nvSpPr>
        <p:spPr>
          <a:xfrm>
            <a:off x="3960" y="6613560"/>
            <a:ext cx="82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5 July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13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solidFill>
            <a:srgbClr val="ecb9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14" descr=""/>
          <p:cNvPicPr/>
          <p:nvPr/>
        </p:nvPicPr>
        <p:blipFill>
          <a:blip r:embed="rId2"/>
          <a:stretch/>
        </p:blipFill>
        <p:spPr>
          <a:xfrm>
            <a:off x="179280" y="49320"/>
            <a:ext cx="1241640" cy="715680"/>
          </a:xfrm>
          <a:prstGeom prst="rect">
            <a:avLst/>
          </a:prstGeom>
          <a:ln w="0">
            <a:noFill/>
          </a:ln>
        </p:spPr>
      </p:pic>
      <p:sp>
        <p:nvSpPr>
          <p:cNvPr id="5" name="Text Box 16"/>
          <p:cNvSpPr/>
          <p:nvPr/>
        </p:nvSpPr>
        <p:spPr>
          <a:xfrm>
            <a:off x="1547640" y="44280"/>
            <a:ext cx="6096240" cy="74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C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ouncil of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E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uropean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P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roducers of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M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aterials for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C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onstruc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C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onseil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E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uropéen des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 P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roducteurs de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 M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atériaux de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C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onstruc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V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ereinigung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E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uropäischer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B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austoffherstell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17"/>
          <p:cNvSpPr/>
          <p:nvPr/>
        </p:nvSpPr>
        <p:spPr>
          <a:xfrm>
            <a:off x="0" y="836640"/>
            <a:ext cx="9144000" cy="647640"/>
          </a:xfrm>
          <a:prstGeom prst="rect">
            <a:avLst/>
          </a:prstGeom>
          <a:solidFill>
            <a:srgbClr val="eadd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body"/>
          </p:nvPr>
        </p:nvSpPr>
        <p:spPr>
          <a:xfrm>
            <a:off x="228240" y="1599840"/>
            <a:ext cx="8736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375"/>
              </a:spcBef>
              <a:buClr>
                <a:srgbClr val="8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1375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1375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3" marL="1562040" indent="-228600" algn="just">
              <a:spcBef>
                <a:spcPts val="1375"/>
              </a:spcBef>
              <a:buClr>
                <a:srgbClr val="808080"/>
              </a:buClr>
              <a:buSzPct val="75000"/>
              <a:buFont typeface="ZapfDingbats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4" marL="1981080" indent="-228600" algn="just">
              <a:spcBef>
                <a:spcPts val="1375"/>
              </a:spcBef>
              <a:buClr>
                <a:srgbClr val="5f5f5f"/>
              </a:buClr>
              <a:buFont typeface="Symbol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5" marL="1981080" indent="-228600" algn="just">
              <a:spcBef>
                <a:spcPts val="1375"/>
              </a:spcBef>
              <a:buClr>
                <a:srgbClr val="000000"/>
              </a:buClr>
              <a:buFont typeface="Symbol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6" marL="1981080" indent="-228600" algn="just">
              <a:spcBef>
                <a:spcPts val="1375"/>
              </a:spcBef>
              <a:buClr>
                <a:srgbClr val="000000"/>
              </a:buClr>
              <a:buFont typeface="Symbol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Text Box 21"/>
          <p:cNvSpPr/>
          <p:nvPr/>
        </p:nvSpPr>
        <p:spPr>
          <a:xfrm>
            <a:off x="0" y="6629400"/>
            <a:ext cx="9144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ffffff"/>
                </a:solidFill>
                <a:latin typeface="Arial"/>
              </a:rPr>
              <a:t>CEPMC | Boulevard du Souverain 68 - B-1170 Brussels | Tel: +32 (0)2 645 52 07 | info@cepmc.org | www.cepmc.or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15/04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DD42F-2241-437E-8716-94AE021F2FB5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15/04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369AB-24D4-4024-A7E2-F2A60F386E59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10"/>
          <p:cNvSpPr/>
          <p:nvPr/>
        </p:nvSpPr>
        <p:spPr>
          <a:xfrm>
            <a:off x="0" y="927000"/>
            <a:ext cx="91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d55031"/>
                </a:solidFill>
                <a:latin typeface="Arial"/>
              </a:rPr>
              <a:t>CPD Working Gro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13"/>
          <p:cNvSpPr/>
          <p:nvPr/>
        </p:nvSpPr>
        <p:spPr>
          <a:xfrm>
            <a:off x="7385040" y="404640"/>
            <a:ext cx="1219320" cy="292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GA 08-0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14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solidFill>
            <a:srgbClr val="ecb9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15"/>
          <p:cNvSpPr/>
          <p:nvPr/>
        </p:nvSpPr>
        <p:spPr>
          <a:xfrm>
            <a:off x="1547640" y="44280"/>
            <a:ext cx="6096240" cy="74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C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ouncil of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E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uropean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P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roducers of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M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aterials for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C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onstruc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C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onseil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E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uropéen des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 P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roducteurs de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 M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atériaux de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C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onstruc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V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ereinigung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E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uropäischer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B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austoffherstell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16" descr=""/>
          <p:cNvPicPr/>
          <p:nvPr/>
        </p:nvPicPr>
        <p:blipFill>
          <a:blip r:embed="rId2"/>
          <a:stretch/>
        </p:blipFill>
        <p:spPr>
          <a:xfrm>
            <a:off x="179280" y="49320"/>
            <a:ext cx="1241640" cy="71568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17"/>
          <p:cNvSpPr/>
          <p:nvPr/>
        </p:nvSpPr>
        <p:spPr>
          <a:xfrm>
            <a:off x="0" y="836640"/>
            <a:ext cx="9144000" cy="647640"/>
          </a:xfrm>
          <a:prstGeom prst="rect">
            <a:avLst/>
          </a:prstGeom>
          <a:solidFill>
            <a:srgbClr val="eadd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19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1371600" y="6600960"/>
            <a:ext cx="6324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CEPMC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 | </a:t>
            </a:r>
            <a:r>
              <a:rPr b="0" lang="fr-FR" sz="900" spc="-1" strike="noStrike">
                <a:solidFill>
                  <a:srgbClr val="ffffff"/>
                </a:solidFill>
                <a:latin typeface="Arial"/>
              </a:rPr>
              <a:t>Boulevard du Souverain 68 - B-1170 Brussels | </a:t>
            </a:r>
            <a:r>
              <a:rPr b="0" lang="de-DE" sz="900" spc="-1" strike="noStrike">
                <a:solidFill>
                  <a:srgbClr val="ffffff"/>
                </a:solidFill>
                <a:latin typeface="Arial"/>
              </a:rPr>
              <a:t>Tel: +32 (0)2 645 52 07 | info@cepmc.org | www.cepmc.or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21"/>
          <p:cNvSpPr/>
          <p:nvPr/>
        </p:nvSpPr>
        <p:spPr>
          <a:xfrm>
            <a:off x="214200" y="907920"/>
            <a:ext cx="87868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228240" y="1599840"/>
            <a:ext cx="8736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375"/>
              </a:spcBef>
              <a:buClr>
                <a:srgbClr val="8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1375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1375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3" marL="1562040" indent="-228600" algn="just">
              <a:spcBef>
                <a:spcPts val="1375"/>
              </a:spcBef>
              <a:buClr>
                <a:srgbClr val="808080"/>
              </a:buClr>
              <a:buSzPct val="75000"/>
              <a:buFont typeface="ZapfDingbats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4" marL="1981080" indent="-228600" algn="just">
              <a:spcBef>
                <a:spcPts val="1375"/>
              </a:spcBef>
              <a:buClr>
                <a:srgbClr val="5f5f5f"/>
              </a:buClr>
              <a:buFont typeface="Symbol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5" marL="1981080" indent="-228600" algn="just">
              <a:spcBef>
                <a:spcPts val="1375"/>
              </a:spcBef>
              <a:buClr>
                <a:srgbClr val="000000"/>
              </a:buClr>
              <a:buFont typeface="Symbol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6" marL="1981080" indent="-228600" algn="just">
              <a:spcBef>
                <a:spcPts val="1375"/>
              </a:spcBef>
              <a:buClr>
                <a:srgbClr val="000000"/>
              </a:buClr>
              <a:buFont typeface="Symbol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sldNum" idx="8"/>
          </p:nvPr>
        </p:nvSpPr>
        <p:spPr>
          <a:xfrm>
            <a:off x="7238880" y="655272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DBB94-5A79-43B0-90F3-445905AF5426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14240" y="2781360"/>
            <a:ext cx="8072640" cy="14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Construction Products Regulation</a:t>
            </a:r>
            <a:br>
              <a:rPr sz="2800"/>
            </a:br>
            <a:br>
              <a:rPr sz="2800"/>
            </a:b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Rights and obligations of manufacturers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1371600" y="5843160"/>
            <a:ext cx="6400800" cy="4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f5f5f"/>
                </a:solidFill>
                <a:latin typeface="Arial"/>
              </a:rPr>
              <a:t>Pascal Bar &amp; Gildas Guillevic</a:t>
            </a:r>
            <a:endParaRPr b="1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5" name="Espace réservé du numéro de diapositive 6"/>
          <p:cNvSpPr/>
          <p:nvPr/>
        </p:nvSpPr>
        <p:spPr>
          <a:xfrm>
            <a:off x="7238880" y="655308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2CE51-88ED-4F38-BF15-1C86FAA02CCA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1357200" y="4929120"/>
            <a:ext cx="6400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5f5f5f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 SCC meeting on 5</a:t>
            </a:r>
            <a:r>
              <a:rPr b="0" lang="en-US" sz="2000" spc="-1" strike="noStrike" baseline="30000">
                <a:solidFill>
                  <a:srgbClr val="5f5f5f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 July 20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250920" y="1483920"/>
            <a:ext cx="87357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500"/>
              </a:spcBef>
              <a:buClr>
                <a:srgbClr val="8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f5f5f"/>
                </a:solidFill>
                <a:latin typeface="Arial"/>
              </a:rPr>
              <a:t>Provide a clear, complete and reliable information on products placed on the market</a:t>
            </a: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624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5f5f5f"/>
                </a:solidFill>
                <a:latin typeface="Arial"/>
              </a:rPr>
              <a:t>Same obligation for all manufacturers (&amp; importers) in Europe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 algn="just">
              <a:spcBef>
                <a:spcPts val="1500"/>
              </a:spcBef>
              <a:buClr>
                <a:srgbClr val="8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f5f5f"/>
                </a:solidFill>
                <a:latin typeface="Arial"/>
              </a:rPr>
              <a:t>Declaration of performance (DoP) for a product covered by an hEN or an ETA</a:t>
            </a: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624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5f5f5f"/>
                </a:solidFill>
                <a:latin typeface="Arial"/>
              </a:rPr>
              <a:t>Determination of the “product-type”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624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5f5f5f"/>
                </a:solidFill>
                <a:latin typeface="Arial"/>
              </a:rPr>
              <a:t>Drawn up a DoP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624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5f5f5f"/>
                </a:solidFill>
                <a:latin typeface="Arial"/>
              </a:rPr>
              <a:t>Supply the DoP with the product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0" algn="just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8" name="Espace réservé du numéro de diapositive 3"/>
          <p:cNvSpPr/>
          <p:nvPr/>
        </p:nvSpPr>
        <p:spPr>
          <a:xfrm>
            <a:off x="7238880" y="655308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1C66E-8467-41D4-9B00-E7B8FF53C610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CPR: Obligations for manufacturers</a:t>
            </a: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228240" y="1600200"/>
            <a:ext cx="873612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500"/>
              </a:spcBef>
              <a:buClr>
                <a:srgbClr val="8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f5f5f"/>
                </a:solidFill>
                <a:latin typeface="Arial"/>
              </a:rPr>
              <a:t>Technical documentation </a:t>
            </a: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5f5f5f"/>
                </a:solidFill>
                <a:latin typeface="Arial"/>
              </a:rPr>
              <a:t>Description of all the relevant elements related to the assessment and verification of constancy of performances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5f5f5f"/>
                </a:solidFill>
                <a:latin typeface="Arial"/>
              </a:rPr>
              <a:t>Kept 10 years, up-dated, provided on the request of authorities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 algn="just">
              <a:spcBef>
                <a:spcPts val="1500"/>
              </a:spcBef>
              <a:buClr>
                <a:srgbClr val="8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f5f5f"/>
                </a:solidFill>
                <a:latin typeface="Arial"/>
              </a:rPr>
              <a:t>CE Marking</a:t>
            </a: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Affixed on the product, or a label, or the packaging or accompanying documents (art 9.1)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Followed by additional information, including “level and class declared”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 algn="just">
              <a:spcBef>
                <a:spcPts val="1500"/>
              </a:spcBef>
              <a:buClr>
                <a:srgbClr val="8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f5f5f"/>
                </a:solidFill>
                <a:latin typeface="Arial"/>
              </a:rPr>
              <a:t>Market Surveillance</a:t>
            </a: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Cooperate in case of request, providing all the elements above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In case of doubt or non conform product: correct, inform, cooperate (Art 11.</a:t>
            </a:r>
            <a:r>
              <a:rPr b="1" lang="en-US" sz="2000" spc="-1" strike="noStrike">
                <a:solidFill>
                  <a:srgbClr val="5f5f5f"/>
                </a:solidFill>
                <a:latin typeface="Arial"/>
              </a:rPr>
              <a:t>7-8, 56.1)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1" name="Slide Number Placeholder 2"/>
          <p:cNvSpPr/>
          <p:nvPr/>
        </p:nvSpPr>
        <p:spPr>
          <a:xfrm>
            <a:off x="7238880" y="655308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91B24-B915-412F-BBBA-0EA2EBCB0598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CPR: Obligations for manufacturers</a:t>
            </a: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214200" y="1456920"/>
            <a:ext cx="8786880" cy="48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1250"/>
              </a:spcBef>
              <a:buClr>
                <a:srgbClr val="8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5f5f5f"/>
                </a:solidFill>
                <a:latin typeface="Arial"/>
              </a:rPr>
              <a:t>Declaration of Performance (DoP)</a:t>
            </a:r>
            <a:endParaRPr b="1" lang="en-US" sz="2000" spc="-1" strike="noStrike">
              <a:solidFill>
                <a:srgbClr val="5f5f5f"/>
              </a:solidFill>
              <a:latin typeface="Arial"/>
            </a:endParaRPr>
          </a:p>
          <a:p>
            <a:pPr lvl="1" marL="735480" indent="-282960" algn="just">
              <a:spcBef>
                <a:spcPts val="499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Possible derogations (art 5)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lvl="1" marL="735480" indent="-282960" algn="just">
              <a:spcBef>
                <a:spcPts val="499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NPD option (no test!) where essential characteristic is not regulated (art 6)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lvl="1" marL="735480" indent="-282960" algn="just">
              <a:spcBef>
                <a:spcPts val="499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Draw up the DoP on the basis of existing CE marking affixed under CPD (art 66)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marL="339480" indent="-339480" algn="just">
              <a:spcBef>
                <a:spcPts val="1250"/>
              </a:spcBef>
              <a:buClr>
                <a:srgbClr val="8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5f5f5f"/>
                </a:solidFill>
                <a:latin typeface="Arial"/>
              </a:rPr>
              <a:t>Determination of Product-type: Simplified procedures</a:t>
            </a:r>
            <a:endParaRPr b="1" lang="en-US" sz="2000" spc="-1" strike="noStrike">
              <a:solidFill>
                <a:srgbClr val="5f5f5f"/>
              </a:solidFill>
              <a:latin typeface="Arial"/>
            </a:endParaRPr>
          </a:p>
          <a:p>
            <a:pPr lvl="1" marL="735480" indent="-282960" algn="just">
              <a:spcBef>
                <a:spcPts val="499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Deemed to satisfy procedure (Art 27.5)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lvl="1" marL="735480" indent="-282960" algn="just">
              <a:spcBef>
                <a:spcPts val="499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WT/WFT, Shared IT, Cascading (Art 36)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lvl="1" marL="735480" indent="-282960" algn="just">
              <a:spcBef>
                <a:spcPts val="499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micro-enterprises turning system 3 into system 4 (Rec 27, Art 37)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lvl="1" marL="735480" indent="-282960" algn="just">
              <a:spcBef>
                <a:spcPts val="499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Products individually manufactured turning system 3 into system 4 (Art 38)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marL="339480" indent="-339480" algn="just">
              <a:spcBef>
                <a:spcPts val="1250"/>
              </a:spcBef>
              <a:buClr>
                <a:srgbClr val="8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5f5f5f"/>
                </a:solidFill>
                <a:latin typeface="Arial"/>
              </a:rPr>
              <a:t>European Technical Assessment</a:t>
            </a:r>
            <a:endParaRPr b="1" lang="en-US" sz="2000" spc="-1" strike="noStrike">
              <a:solidFill>
                <a:srgbClr val="5f5f5f"/>
              </a:solidFill>
              <a:latin typeface="Arial"/>
            </a:endParaRPr>
          </a:p>
          <a:p>
            <a:pPr lvl="1" marL="735480" indent="-282960" algn="just">
              <a:spcBef>
                <a:spcPts val="499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Request an ETA when hENs do not allow to assess the product (Art 19) 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lvl="1" marL="735480" indent="-282960" algn="just">
              <a:spcBef>
                <a:spcPts val="499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For ETAs issued before 1/07/2013, EADs consistent with existing ETAGs/CUAPS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marL="339480" indent="-339480" algn="just">
              <a:spcBef>
                <a:spcPts val="1250"/>
              </a:spcBef>
              <a:buClr>
                <a:srgbClr val="8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5f5f5f"/>
                </a:solidFill>
                <a:latin typeface="Arial"/>
              </a:rPr>
              <a:t>Information</a:t>
            </a:r>
            <a:endParaRPr b="1" lang="en-US" sz="2000" spc="-1" strike="noStrike">
              <a:solidFill>
                <a:srgbClr val="5f5f5f"/>
              </a:solidFill>
              <a:latin typeface="Arial"/>
            </a:endParaRPr>
          </a:p>
          <a:p>
            <a:pPr lvl="1" marL="735480" indent="-282960" algn="just">
              <a:spcBef>
                <a:spcPts val="499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Product Contact Points (Rec 42-44, Art 10), Information campaigns (Rec 54) 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lvl="2" marL="1131480" indent="0" algn="just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4" name="Espace réservé du numéro de diapositive 3"/>
          <p:cNvSpPr/>
          <p:nvPr/>
        </p:nvSpPr>
        <p:spPr>
          <a:xfrm>
            <a:off x="7238880" y="655308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B34E5-0D54-46CA-B233-DE74D58FDFD3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CPR: Rights for manufacturers</a:t>
            </a: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16T09:00:45Z</dcterms:created>
  <dc:creator>GUILLEVIC</dc:creator>
  <dc:description/>
  <dc:language>en-US</dc:language>
  <cp:lastModifiedBy>Pascal Bar</cp:lastModifiedBy>
  <cp:lastPrinted>2000-03-16T10:24:10Z</cp:lastPrinted>
  <dcterms:modified xsi:type="dcterms:W3CDTF">2011-07-04T16:22:28Z</dcterms:modified>
  <cp:revision>599</cp:revision>
  <dc:subject/>
  <dc:title>Aucun titre de diapositive</dc:title>
</cp:coreProperties>
</file>