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5624640" y="0"/>
            <a:ext cx="4303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520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5624640" y="6457680"/>
            <a:ext cx="43034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0BA-354F-4607-98D3-246A6BDB41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CF4-E61B-40E1-88EB-7791105D3A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B02F-A618-4C66-A7AE-CE35CD2761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DF21-04D4-4AAE-9C16-47DDB60919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1D6-EFB8-4D5E-8360-B8F67AD88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556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DGENTR-signature-flag"/>
          <p:cNvPicPr/>
          <p:nvPr/>
        </p:nvPicPr>
        <p:blipFill>
          <a:blip r:embed="rId3"/>
          <a:stretch/>
        </p:blipFill>
        <p:spPr>
          <a:xfrm>
            <a:off x="685800" y="6299280"/>
            <a:ext cx="3430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24"/>
          <p:cNvGrpSpPr/>
          <p:nvPr/>
        </p:nvGrpSpPr>
        <p:grpSpPr>
          <a:xfrm>
            <a:off x="1111320" y="6302520"/>
            <a:ext cx="2012760" cy="263520"/>
            <a:chOff x="1111320" y="6302520"/>
            <a:chExt cx="2012760" cy="263520"/>
          </a:xfrm>
        </p:grpSpPr>
        <p:sp>
          <p:nvSpPr>
            <p:cNvPr id="4" name=""/>
            <p:cNvSpPr/>
            <p:nvPr/>
          </p:nvSpPr>
          <p:spPr>
            <a:xfrm>
              <a:off x="1111320" y="6302520"/>
              <a:ext cx="201276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uropean Commis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nterprise and Indu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5fa9"/>
                </a:solidFill>
                <a:latin typeface="Arial"/>
              </a:rPr>
              <a:t>« Regulation 305/2011/EU: Construction Products Regulation (CPR)»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« From the problems of the CPD to the objectives of the CPR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Arial"/>
              </a:rPr>
              <a:t>Vicente Leoz Argü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5fa9"/>
                </a:solidFill>
                <a:latin typeface="Arial"/>
              </a:rPr>
              <a:t>From the problems of the Directive to the objectives of the Regulation: Essenti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1. Elements of conceptual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fact of replacing the Directive by a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Regulation highlights more clearly than the Directive the main differences with the « New Approach 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Basic Requirements of Works (instead of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 Essential 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5fa9"/>
                </a:solidFill>
                <a:latin typeface="Wingdings"/>
                <a:ea typeface="Wingdings"/>
              </a:rPr>
              <a:t>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Essential Product Caracteristics (</a:t>
            </a:r>
            <a:r>
              <a:rPr b="0" i="1" lang="fr-BE" sz="2000" spc="-1" strike="noStrike">
                <a:solidFill>
                  <a:srgbClr val="005fa9"/>
                </a:solidFill>
                <a:latin typeface="Arial"/>
              </a:rPr>
              <a:t>new concept</a:t>
            </a: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DoP (Declaration of Performance) is the key-concept of the CPR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5fa9"/>
                </a:solidFill>
                <a:latin typeface="Arial"/>
              </a:rPr>
              <a:t>The CE marking has a clear meaning, very different from the meaning of this term under the « New Approach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2. Elements of functional CLARIFICATION</a:t>
            </a:r>
            <a:br>
              <a:rPr sz="2400"/>
            </a:br>
            <a:r>
              <a:rPr b="1" lang="fr-BE" sz="2400" spc="-1" strike="noStrike">
                <a:solidFill>
                  <a:srgbClr val="005fa9"/>
                </a:solidFill>
                <a:latin typeface="Arial"/>
              </a:rPr>
              <a:t>(rights and obliga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5fa9"/>
                </a:solidFill>
                <a:latin typeface="Arial"/>
              </a:rPr>
              <a:t>The Basic Requirements of Works (Annex I) do not create « per se » any legal obligation for any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is mandatory for every construction product which is covered by a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harmonised standard or conforms to a European Technical Assessment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(Art.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DoP shall contain information about the use of the product foreseen by the manufacturer (Art.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the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 list of the essential characteristics which are considered pertinent in the relevant harmonised technical specification, for the declared intended use or us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It shall also contain </a:t>
            </a: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performance of at least one of the essential characteristics of the construction product in that list (NPD for othe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mandatory if a DoP has been drawn up(Art.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5fa9"/>
                </a:solidFill>
                <a:latin typeface="Arial"/>
              </a:rPr>
              <a:t>The CE marking is the only marking associated with the essential characteristics of the products. No other mark, notably national marks, can make reference to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5fa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fa9"/>
                </a:solidFill>
                <a:latin typeface="Arial"/>
              </a:rPr>
              <a:t>The CE marking shall be followed by the declared  level or class of the performance </a:t>
            </a:r>
            <a:r>
              <a:rPr b="0" lang="fr-BE" sz="1800" spc="-1" strike="noStrike">
                <a:solidFill>
                  <a:srgbClr val="005fa9"/>
                </a:solidFill>
                <a:latin typeface="Arial"/>
                <a:ea typeface="Arial"/>
              </a:rPr>
              <a:t>(Art. 9(2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5fa9"/>
                </a:solidFill>
                <a:latin typeface="Arial"/>
              </a:rPr>
              <a:t>Thank you for your attention</a:t>
            </a:r>
            <a:r>
              <a:rPr b="1" lang="fr-B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ttp</a:t>
            </a:r>
            <a:r>
              <a:rPr b="1" lang="fr-BE" sz="3200" spc="-1" strike="noStrike">
                <a:solidFill>
                  <a:srgbClr val="000099"/>
                </a:solidFill>
                <a:latin typeface="Arial"/>
              </a:rPr>
              <a:t>://ec.europa</a:t>
            </a: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.eu/enterprise/construction/index_en.ht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leozavi</cp:lastModifiedBy>
  <cp:lastPrinted>2008-06-02T19:37:29Z</cp:lastPrinted>
  <dcterms:modified xsi:type="dcterms:W3CDTF">2011-06-22T16:32:56Z</dcterms:modified>
  <cp:revision>1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251541</vt:r8>
  </property>
  <property fmtid="{D5CDD505-2E9C-101B-9397-08002B2CF9AE}" pid="3" name="_AuthorEmail">
    <vt:lpwstr>Vicente.Leoz-Arguelles@ec.europa.eu</vt:lpwstr>
  </property>
  <property fmtid="{D5CDD505-2E9C-101B-9397-08002B2CF9AE}" pid="4" name="_AuthorEmailDisplayName">
    <vt:lpwstr>LEOZ ARGUELLES Vicente (ENTR)</vt:lpwstr>
  </property>
  <property fmtid="{D5CDD505-2E9C-101B-9397-08002B2CF9AE}" pid="5" name="_EmailSubject">
    <vt:lpwstr>CPR.ppt</vt:lpwstr>
  </property>
  <property fmtid="{D5CDD505-2E9C-101B-9397-08002B2CF9AE}" pid="6" name="_NewReviewCycle">
    <vt:lpwstr/>
  </property>
</Properties>
</file>