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9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PMC Genera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0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1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25AE-5806-4271-AF3D-928E46FECD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3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PMC Genera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6C42-9F00-4026-9D61-93D53DE710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E105C-5A18-4800-BA34-5C700F58B7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B5CE9-9B2F-4390-BBD6-8AE2F24D3E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08591-C121-4C11-9FDB-CFB1484640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156A6-87B2-4017-8965-82FFA1EBE4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E5FA57-28B2-4756-BB8E-F25FB36B6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290E4-7C7A-4EA3-8D61-33E167DC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0FDAAD-53D4-4445-823B-E72D627C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518BED-B61B-4C97-867A-89AE5DFB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6F85A6-3620-4730-B2EE-E0BC347C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DBCF3E-8BBB-44D2-9CD0-24B54AB5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ACBC02-5757-4BC1-91F4-C7D0B2D8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F3EE9-DC92-42E1-BCDC-BC17CE5C10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1CA6BE-41E7-4ACA-AB2D-0E7AEEE3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D9A09-DB66-4CB9-8A3A-6A901C78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614AE6-EFA3-4B91-BBFB-5B7B0B56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392CCD-9C9F-40A9-BE9E-8F6F40E7C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2CAFBD-1D14-4054-BF76-8F2D97EC9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8959A6-2DD8-4EA0-BED7-E10B5932E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11CE70-977B-4789-9D5C-E5520630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266733-19A5-465F-990B-E02832EE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9CB752-BB01-4258-9FDC-5A73444B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C611FD-CE5E-4A57-9B73-3DE6A25E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55124-F733-4EF9-A035-3FD091C96A1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F605D2-BA49-473C-947C-A7F44C1E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E7C31C-DE0D-4BCD-B9BC-B57F4D18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95D03C-8693-45E8-9190-B0150243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8C3B30-AD3F-4A0C-BDCD-0C7E9A3C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319B16-7B0B-45EA-931B-E8F4215C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7A0807-BB3E-41CA-83AC-1E0D54539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C70B0A-961C-4D75-8E55-EFE57440B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9EB1CC-6FC3-436D-BAD2-D2C9B9FDD51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41DD22-4F1D-4241-AB01-7CD472FECD6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C094CE-0201-4488-B909-5CBC5AB4A3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31653-BBD3-4D49-B089-073B14594FC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0BD550-A24B-4034-8376-2FCDF8ADBC3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CBBFD5-5FFC-43B5-B5FE-BDC97793A02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7F0E94-A8C4-4836-A7CF-9BEB21F825F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32A8CB-19E7-40A1-96E1-68486E762C1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55BE4D-6787-4213-A478-E52E3DFF8A0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9D81AE-3FE9-4952-9077-2254BCC1414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03B745-A7E0-4DF0-A760-0CB994AC359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D0512E-44E9-4411-91FD-F5923DC73EC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27084D-DE79-4619-81B9-359CF87D94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B17C3-7E0C-4D76-83A7-9ACB2336C4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9B5CD-AEC9-41B4-B54C-2DF2389089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2BADB-2093-4F6C-B262-43B2145D66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34491-EFBE-4017-8E0F-2EA1BEC1BD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C09F2-7A9E-4519-9942-D5DCFF00DF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1436-61C9-40A5-86F0-BC4E0690304C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2"/>
          <p:cNvSpPr/>
          <p:nvPr/>
        </p:nvSpPr>
        <p:spPr>
          <a:xfrm>
            <a:off x="3960" y="6613560"/>
            <a:ext cx="82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5 Jul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3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ecb9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2"/>
          <a:stretch/>
        </p:blipFill>
        <p:spPr>
          <a:xfrm>
            <a:off x="179280" y="49320"/>
            <a:ext cx="1241640" cy="715680"/>
          </a:xfrm>
          <a:prstGeom prst="rect">
            <a:avLst/>
          </a:prstGeom>
          <a:ln w="0">
            <a:noFill/>
          </a:ln>
        </p:spPr>
      </p:pic>
      <p:sp>
        <p:nvSpPr>
          <p:cNvPr id="5" name="Text Box 16"/>
          <p:cNvSpPr/>
          <p:nvPr/>
        </p:nvSpPr>
        <p:spPr>
          <a:xfrm>
            <a:off x="1547640" y="44280"/>
            <a:ext cx="609624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uncil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ean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ers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erials fo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eil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éen des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teurs de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ériaux de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V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ereinigung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äische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B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ustoffherstell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0" y="836640"/>
            <a:ext cx="9144000" cy="647640"/>
          </a:xfrm>
          <a:prstGeom prst="rect">
            <a:avLst/>
          </a:prstGeom>
          <a:solidFill>
            <a:srgbClr val="eadd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3" marL="156204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ZapfDingba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4" marL="1981080" indent="-228600" algn="just">
              <a:spcBef>
                <a:spcPts val="1375"/>
              </a:spcBef>
              <a:buClr>
                <a:srgbClr val="5f5f5f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5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6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Text Box 21"/>
          <p:cNvSpPr/>
          <p:nvPr/>
        </p:nvSpPr>
        <p:spPr>
          <a:xfrm>
            <a:off x="0" y="662940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ffff"/>
                </a:solidFill>
                <a:latin typeface="Arial"/>
              </a:rPr>
              <a:t>CEPMC | Boulevard du Souverain 68 - B-1170 Brussels | Tel: +32 (0)2 645 52 07 | info@cepmc.org | www.cepmc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15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A0F5-FE43-43DC-9CBC-EEE874F86680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15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E285-EBB4-48F2-8625-F594C584CE25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0"/>
          <p:cNvSpPr/>
          <p:nvPr/>
        </p:nvSpPr>
        <p:spPr>
          <a:xfrm>
            <a:off x="0" y="927000"/>
            <a:ext cx="91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d55031"/>
                </a:solidFill>
                <a:latin typeface="Arial"/>
              </a:rPr>
              <a:t>CPD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7385040" y="404640"/>
            <a:ext cx="1219320" cy="29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GA 08-0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ecb9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1547640" y="44280"/>
            <a:ext cx="609624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uncil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ean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ers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erials fo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eil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éen des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teurs de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ériaux de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V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ereinigung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äische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B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ustoffherstell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6" descr=""/>
          <p:cNvPicPr/>
          <p:nvPr/>
        </p:nvPicPr>
        <p:blipFill>
          <a:blip r:embed="rId2"/>
          <a:stretch/>
        </p:blipFill>
        <p:spPr>
          <a:xfrm>
            <a:off x="179280" y="49320"/>
            <a:ext cx="1241640" cy="7156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7"/>
          <p:cNvSpPr/>
          <p:nvPr/>
        </p:nvSpPr>
        <p:spPr>
          <a:xfrm>
            <a:off x="0" y="836640"/>
            <a:ext cx="9144000" cy="647640"/>
          </a:xfrm>
          <a:prstGeom prst="rect">
            <a:avLst/>
          </a:prstGeom>
          <a:solidFill>
            <a:srgbClr val="eadd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1371600" y="6600960"/>
            <a:ext cx="632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EPMC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| </a:t>
            </a:r>
            <a:r>
              <a:rPr b="0" lang="fr-FR" sz="900" spc="-1" strike="noStrike">
                <a:solidFill>
                  <a:srgbClr val="ffffff"/>
                </a:solidFill>
                <a:latin typeface="Arial"/>
              </a:rPr>
              <a:t>Boulevard du Souverain 68 - B-1170 Brussels | </a:t>
            </a: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Tel: +32 (0)2 645 52 07 | info@cepmc.org | www.cepmc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1"/>
          <p:cNvSpPr/>
          <p:nvPr/>
        </p:nvSpPr>
        <p:spPr>
          <a:xfrm>
            <a:off x="214200" y="907920"/>
            <a:ext cx="8786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Transition from the CPD to the C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3" marL="156204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ZapfDingba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4" marL="1981080" indent="-228600" algn="just">
              <a:spcBef>
                <a:spcPts val="1375"/>
              </a:spcBef>
              <a:buClr>
                <a:srgbClr val="5f5f5f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5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6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8"/>
          </p:nvPr>
        </p:nvSpPr>
        <p:spPr>
          <a:xfrm>
            <a:off x="723888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70AE-6F57-4F1B-B757-68C26DA23682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4240" y="3071520"/>
            <a:ext cx="8072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1</a:t>
            </a:r>
            <a:r>
              <a:rPr b="1" lang="en-US" sz="2800" spc="-1" strike="noStrike" baseline="30000">
                <a:solidFill>
                  <a:srgbClr val="cc3300"/>
                </a:solidFill>
                <a:latin typeface="Arial"/>
                <a:ea typeface="Times New Roman"/>
              </a:rPr>
              <a:t>st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 priority issues for manufacturer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5843160"/>
            <a:ext cx="6400800" cy="4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Pascal Bar &amp; Gildas Guillevic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5" name="Espace réservé du numéro de diapositive 6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3EE2-8AE7-4323-A8FE-495BA7036C81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357200" y="4929120"/>
            <a:ext cx="6400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5f5f5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SCC meeting on 5</a:t>
            </a:r>
            <a:r>
              <a:rPr b="0" lang="en-US" sz="2000" spc="-1" strike="noStrike" baseline="30000">
                <a:solidFill>
                  <a:srgbClr val="5f5f5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July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28240" y="1886040"/>
            <a:ext cx="87361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Manufacturers are working on CPR implementation which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Does not introduce additional burdens and cost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Preserves customers' confidence in the Declaration of Performance &amp; CE Marking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And hence in the products themselve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With one single assessment of products valid everywhere in the EU and recognized by all the Members States and local authoritie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Allowing users to check compliance with local regulations and fitness for us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CC7F-C251-4215-8DE7-1118F3272F28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419040" y="1000080"/>
            <a:ext cx="872496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takes for manufacturer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28240" y="1500120"/>
            <a:ext cx="87361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Simplification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3300"/>
                </a:solidFill>
                <a:latin typeface="Arial"/>
              </a:rPr>
              <a:t>Possible use of websites for supplying DoP</a:t>
            </a: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 (Article 7.3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3300"/>
                </a:solidFill>
                <a:latin typeface="Arial"/>
              </a:rPr>
              <a:t>Determination of the useful information to be provided on or with products</a:t>
            </a: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 (Article 9.2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3300"/>
                </a:solidFill>
                <a:latin typeface="Arial"/>
              </a:rPr>
              <a:t>Information to be declared on Hazardous Substances </a:t>
            </a: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(Article 6.5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3300"/>
                </a:solidFill>
                <a:latin typeface="Arial"/>
              </a:rPr>
              <a:t>Need for clear procedure guaranteeing confidentiality and flexibility for “European Technical Assessments” </a:t>
            </a: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(Articles 19 – 26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Avoiding possible distortion of competition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Procedures to be applied for derogations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(Article 5)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and public information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Procedures usable by micro-enterprises: Consequences for competition on the market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(Article 37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Contact Points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: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Definition of types of information (free of charge or charged)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(Recital 43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Preservation of the “acquis” (Technical Specifications)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Transitional provisions to be applied for hENs on DoP, CE Marking and time schedule for products placed on the market before 01/07/2013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(Article 66.1-2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Revision of hENs: Intended uses of products (and generic products) to be declared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(Article 6.3.e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Clarify the procedure to be applied after the period of validity of ETAs issued before 01/07/2013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(Article 66.4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Voluntary marks: Market needs have to be taken into account to define and use them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(Recital 33, Article 8.3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43080" indent="0" algn="just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B876-5F14-4FE2-9CCD-9D17064CD68A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419040" y="981000"/>
            <a:ext cx="872496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cc3300"/>
                </a:solidFill>
                <a:latin typeface="Arial"/>
              </a:rPr>
              <a:t>CPR implementation: 1</a:t>
            </a:r>
            <a:r>
              <a:rPr b="1" lang="en-GB" sz="2300" spc="-1" strike="noStrike" baseline="30000">
                <a:solidFill>
                  <a:srgbClr val="cc3300"/>
                </a:solidFill>
                <a:latin typeface="Arial"/>
              </a:rPr>
              <a:t>st</a:t>
            </a:r>
            <a:r>
              <a:rPr b="1" lang="en-GB" sz="2300" spc="-1" strike="noStrike">
                <a:solidFill>
                  <a:srgbClr val="cc3300"/>
                </a:solidFill>
                <a:latin typeface="Arial"/>
              </a:rPr>
              <a:t> priority issues</a:t>
            </a:r>
            <a:endParaRPr b="1" lang="en-US" sz="23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560" y="3133440"/>
            <a:ext cx="87138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nnex </a:t>
            </a:r>
            <a:br>
              <a:rPr sz="2400"/>
            </a:b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Priority issues for manufacturer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4" name="Espace réservé du numéro de diapositive 2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8E35-1D2B-46DD-80C9-4D4434808169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28240" y="1571400"/>
            <a:ext cx="873612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63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Arial"/>
              </a:rPr>
              <a:t>Simplification</a:t>
            </a:r>
            <a:endParaRPr b="1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Declaration of Performance” (Articles 4, 5, 6 &amp; 7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3300"/>
                </a:solidFill>
                <a:latin typeface="Arial"/>
              </a:rPr>
              <a:t>Possible use of websites for supplying DoP and information to be declared on Hazardous Substances and Substances of Very High Concern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Rules and conditions for applying the CE Marking” (Articles 8 &amp; 9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3300"/>
                </a:solidFill>
                <a:latin typeface="Arial"/>
              </a:rPr>
              <a:t>Determine the useful information to be provided e.g. on "performance(s) declared" (Article 9.2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European Assessment Documents” &amp; “European Technical Assessments” (Articles 19 – 26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Need for clear procedure guaranteeing confidentiality and flexibility, mainly for new/innovative products and intended uses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Basic requirements for construction works” (Article 3, Annex II and Recitals 6 &amp; 10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Monitor the risk of creation of new barriers to trade through new European or National provisions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063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Arial"/>
              </a:rPr>
              <a:t>Avoiding distortion of competition and discrimination</a:t>
            </a:r>
            <a:endParaRPr b="1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Derogations from drawing up a declaration of performance (Article 5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Define procedures and make publically available the products under derogation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Procedures possibly used by micro-enterprises (Article 37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Monitor possible consequences for competition on the market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338D-A595-4CE7-96F6-19D97AD2188A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419040" y="981000"/>
            <a:ext cx="872496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cc3300"/>
                </a:solidFill>
                <a:latin typeface="Arial"/>
              </a:rPr>
              <a:t>CPR implementation: priority issues </a:t>
            </a:r>
            <a:r>
              <a:rPr b="0" lang="en-GB" sz="2300" spc="-1" strike="noStrike">
                <a:solidFill>
                  <a:srgbClr val="cc3300"/>
                </a:solidFill>
                <a:latin typeface="Arial"/>
              </a:rPr>
              <a:t>(1/2)</a:t>
            </a:r>
            <a:endParaRPr b="1" lang="en-US" sz="23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28600" y="1571400"/>
            <a:ext cx="87724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63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Arial"/>
              </a:rPr>
              <a:t>Preservation of the “acquis” (Technical Specifications)</a:t>
            </a:r>
            <a:endParaRPr b="1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Transitional provisions for hENs (Article 66.1-2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Clarify procedures to be applied on DoP &amp; CE Marking for products placed on the market before 01/07/2013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Revisions of existing harmonized standards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Define how the new terminology will be taken into account in technical specifications (Article 2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Clarify the need for declaring intended uses of products, including generic products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(Article 6.3.e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Transitional provisions for ETA Guides and CUAPs of the CPD (Article 66.3-4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Clarify the procedure to be applied after the period of validity of ETAs issued before 01/07/2013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Simplified procedures using Appropriate Technical Documentation (Article 36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Maintain, as they are, procedures already used for "without testing and without further testing", for using test results obtained by another manufacturer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Voluntary marks (Recital 33, Article 8.3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Market needs have to be taken into account to define and use them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063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Arial"/>
              </a:rPr>
              <a:t>Contribution to define an efficient market surveillance (Article 56)</a:t>
            </a:r>
            <a:endParaRPr b="1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Develop exchanges of experience, and possibly with other industrial sectors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0" algn="just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1D7B-4D98-4668-A4A3-55CA12F83322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285840" y="981000"/>
            <a:ext cx="872496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cc3300"/>
                </a:solidFill>
                <a:latin typeface="Arial"/>
              </a:rPr>
              <a:t>CPR implementation: priority issues </a:t>
            </a:r>
            <a:r>
              <a:rPr b="0" lang="en-GB" sz="2300" spc="-1" strike="noStrike">
                <a:solidFill>
                  <a:srgbClr val="cc3300"/>
                </a:solidFill>
                <a:latin typeface="Arial"/>
              </a:rPr>
              <a:t>(2/2)</a:t>
            </a:r>
            <a:endParaRPr b="1" lang="en-US" sz="23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6T09:00:45Z</dcterms:created>
  <dc:creator>GUILLEVIC</dc:creator>
  <dc:description/>
  <dc:language>en-US</dc:language>
  <cp:lastModifiedBy>katsage</cp:lastModifiedBy>
  <cp:lastPrinted>2000-03-16T10:24:10Z</cp:lastPrinted>
  <dcterms:modified xsi:type="dcterms:W3CDTF">2011-07-01T15:46:43Z</dcterms:modified>
  <cp:revision>538</cp:revision>
  <dc:subject/>
  <dc:title>Aucun titre de diapositive</dc:title>
</cp:coreProperties>
</file>