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71C-5521-4AC0-B544-C4EB8FB7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BF6-F1FD-4069-B2DE-55BCBFCC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FB99-E589-4E53-A156-D913219F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D63-1B6E-4F30-978A-17B3C9B0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DA57-014D-4962-A4B8-476A10A0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2C0A-0368-47AE-8C37-107144E4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0D16-72A8-4A81-A2D5-2A68A51D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175E-D474-4C8C-9648-55A2C185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D97E-1E92-4207-8090-633BB0E3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6BE6-678F-4362-93E5-FE25BF36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70A5-F5D0-40CB-9F60-4D6132D9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984D-EA13-40A6-92AE-B0F13A0B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71EF-E94C-428E-8D79-9FFCF317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88D1-8F69-471B-9FE8-97A656AD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8976-ECAA-43F4-98CD-C6D023B0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8B02-A07D-4136-BCF9-59B402B2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5241-7867-43C9-9D00-65CC7792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0E4-C2A1-4B25-8DEB-9A28CEFA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00E3-4720-48FD-A62F-A25B4830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BBF2-23C9-4475-B80E-342C9A7D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BA0B-D675-4E81-8836-D67E4A55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74A9-6BB3-4F1E-9842-67AD39B7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E87-ACE1-4A7F-AE2F-BAF19C8B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D70-E6DC-4125-ACFE-AD2D6A6D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99BF-92CA-420C-AC8F-67BD660DBF3B}" type="slidenum">
              <a:rPr b="0" lang="fr-B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4E6E-DC67-43AA-8D32-8F69BB2B12DD}" type="slidenum">
              <a:rPr b="0" lang="fr-B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First Standing Committee on Construction (Regulation (EU) 305/2011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Verdana"/>
              </a:rPr>
              <a:t>Member States Rights &amp; Obligatio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FBF-2811-437E-B33B-96512FF521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TAB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9" name=""/>
          <p:cNvGraphicFramePr/>
          <p:nvPr/>
        </p:nvGraphicFramePr>
        <p:xfrm>
          <a:off x="900000" y="1557360"/>
          <a:ext cx="7715520" cy="444816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B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ation within their territories of TABs (making use of product areas of table 1 AIV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munication of info to other MS and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B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ultation of the list made electronicaly available by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itoring activities and competences of their TABs; Evaluation of TABs (use of table 2, AIV); Information to Com on national procedure for designation and monito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E624-DE4B-446C-9F90-496479B94E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TAB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5" name=""/>
          <p:cNvGraphicFramePr/>
          <p:nvPr/>
        </p:nvGraphicFramePr>
        <p:xfrm>
          <a:off x="900000" y="1557360"/>
          <a:ext cx="7715520" cy="2998800"/>
        </p:xfrm>
        <a:graphic>
          <a:graphicData uri="http://schemas.openxmlformats.org/drawingml/2006/table">
            <a:tbl>
              <a:tblPr/>
              <a:tblGrid>
                <a:gridCol w="432000"/>
                <a:gridCol w="1511280"/>
                <a:gridCol w="3024000"/>
                <a:gridCol w="2748240"/>
              </a:tblGrid>
              <a:tr h="107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uideline for TABs eval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 be consulted (SCC) before adoption by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thdrawal of TAB designation when it does not satisfy any more the requirements of table 2, A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82C2-3873-4DA3-9687-A92A514205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155520" y="26028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900000" y="1557360"/>
          <a:ext cx="7715520" cy="3228840"/>
        </p:xfrm>
        <a:graphic>
          <a:graphicData uri="http://schemas.openxmlformats.org/drawingml/2006/table">
            <a:tbl>
              <a:tblPr/>
              <a:tblGrid>
                <a:gridCol w="432000"/>
                <a:gridCol w="1511280"/>
                <a:gridCol w="2089080"/>
                <a:gridCol w="368316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3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ication to Com and other MS of bodies authorised to carry out third-party tasks in the process of AVC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ying authority (N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ciding that national accreditation bodies may be 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ation of a notifying authority responsible for procedures for assessment and notif of NBs and their monito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AF7-FE17-4AF2-BF15-C8DFD7B7D9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7" name=""/>
          <p:cNvGraphicFramePr/>
          <p:nvPr/>
        </p:nvGraphicFramePr>
        <p:xfrm>
          <a:off x="900000" y="1557360"/>
          <a:ext cx="7715520" cy="4843440"/>
        </p:xfrm>
        <a:graphic>
          <a:graphicData uri="http://schemas.openxmlformats.org/drawingml/2006/table">
            <a:tbl>
              <a:tblPr/>
              <a:tblGrid>
                <a:gridCol w="432000"/>
                <a:gridCol w="2016000"/>
                <a:gridCol w="2160720"/>
                <a:gridCol w="31068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.3 Notifying author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legation to non governmental 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legal status of this entity and coverage of li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for 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no conflict of interest with notified bodies; Objective and impartial; respect of organisational rules as mentioned in 41.3,4,5 and 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on oblig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cess to the Com publicly available in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ing Com on national procedures for assessment and notification of bod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D57-833C-4171-9D26-C25D6B1851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900000" y="1557360"/>
          <a:ext cx="7715520" cy="4538520"/>
        </p:xfrm>
        <a:graphic>
          <a:graphicData uri="http://schemas.openxmlformats.org/drawingml/2006/table">
            <a:tbl>
              <a:tblPr/>
              <a:tblGrid>
                <a:gridCol w="432000"/>
                <a:gridCol w="1871640"/>
                <a:gridCol w="2305080"/>
                <a:gridCol w="3106800"/>
              </a:tblGrid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for N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suming liability insurance (43.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 authority checking compliance of NBs with art 43 and A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ication proced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 and other MS to be informed of notification (preferably making use of Com EE° tool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nd still period after notification (depending if accreditation used or no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31A-C529-4E9A-AEEF-AB82665EDB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9" name=""/>
          <p:cNvGraphicFramePr/>
          <p:nvPr/>
        </p:nvGraphicFramePr>
        <p:xfrm>
          <a:off x="900000" y="1557360"/>
          <a:ext cx="7715520" cy="4843440"/>
        </p:xfrm>
        <a:graphic>
          <a:graphicData uri="http://schemas.openxmlformats.org/drawingml/2006/table">
            <a:tbl>
              <a:tblPr/>
              <a:tblGrid>
                <a:gridCol w="432000"/>
                <a:gridCol w="1727280"/>
                <a:gridCol w="2449440"/>
                <a:gridCol w="31068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.2 Important modifications in not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the transfer of file if necessary and keeping the file available for NA and M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llenge of the competence of the N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viding info as foreseen in § 2; Taking of appropriate measures as foreseen in §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change of experi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ing use by MS national authority of the system organised by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23D-437C-4B5D-A199-4F47ABD4F8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45" name=""/>
          <p:cNvGraphicFramePr/>
          <p:nvPr/>
        </p:nvGraphicFramePr>
        <p:xfrm>
          <a:off x="900000" y="1773360"/>
          <a:ext cx="7715520" cy="1309680"/>
        </p:xfrm>
        <a:graphic>
          <a:graphicData uri="http://schemas.openxmlformats.org/drawingml/2006/table">
            <a:tbl>
              <a:tblPr/>
              <a:tblGrid>
                <a:gridCol w="432000"/>
                <a:gridCol w="1727280"/>
                <a:gridCol w="2449440"/>
                <a:gridCol w="3106800"/>
              </a:tblGrid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rdination of N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their NBs comply with obligations set up in art 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3F8D-7134-445A-85D1-9A5F24F4AB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1" name=""/>
          <p:cNvGraphicFramePr/>
          <p:nvPr/>
        </p:nvGraphicFramePr>
        <p:xfrm>
          <a:off x="900000" y="1557360"/>
          <a:ext cx="7715520" cy="3747960"/>
        </p:xfrm>
        <a:graphic>
          <a:graphicData uri="http://schemas.openxmlformats.org/drawingml/2006/table">
            <a:tbl>
              <a:tblPr/>
              <a:tblGrid>
                <a:gridCol w="432000"/>
                <a:gridCol w="1584360"/>
                <a:gridCol w="2160360"/>
                <a:gridCol w="3538800"/>
              </a:tblGrid>
              <a:tr h="37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1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king action pursuant to Regulation 765/2008; Cooperation of the economic operator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rrying out evaluation as foreseen in 56§1; If product not complyith possibili with the requirements of CPR, requiring economic operator (EO) taking appropriate corrective actions, with possibility of withdrawal or recall of the product; information to NB if involv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622-B948-4090-A6C1-EAEA65EFCB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900000" y="1557360"/>
          <a:ext cx="7715520" cy="4017960"/>
        </p:xfrm>
        <a:graphic>
          <a:graphicData uri="http://schemas.openxmlformats.org/drawingml/2006/table">
            <a:tbl>
              <a:tblPr/>
              <a:tblGrid>
                <a:gridCol w="432000"/>
                <a:gridCol w="1584360"/>
                <a:gridCol w="2592360"/>
                <a:gridCol w="3106800"/>
              </a:tblGrid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2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on of Com and other MS if non compliance not only limited to the national territ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4,5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f adequate corrective measures not taken in due time SMA takes appropriate measures; Information on this measures to Com and other 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A68B-7991-4D0B-9071-F17781985E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3" name=""/>
          <p:cNvGraphicFramePr/>
          <p:nvPr/>
        </p:nvGraphicFramePr>
        <p:xfrm>
          <a:off x="900000" y="1557360"/>
          <a:ext cx="7715520" cy="5065560"/>
        </p:xfrm>
        <a:graphic>
          <a:graphicData uri="http://schemas.openxmlformats.org/drawingml/2006/table">
            <a:tbl>
              <a:tblPr/>
              <a:tblGrid>
                <a:gridCol w="432000"/>
                <a:gridCol w="1511280"/>
                <a:gridCol w="2665440"/>
                <a:gridCol w="3106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6,7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change of info between MS and Com about the non complian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king of restrictive mea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on safeguard proced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h or EAD to be modified if they are the source of the risk (shortcomings) after consultation of 98/34 or Standing Committ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taining or deletion of the taken national measu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DEF7-7974-4DCC-B167-6A29E7453E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Member States Rights &amp; Oblig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General regulations frame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General remar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Subsidiarity and BW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9D1C-E220-498A-8CDB-DF686BAD45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9" name=""/>
          <p:cNvGraphicFramePr/>
          <p:nvPr/>
        </p:nvGraphicFramePr>
        <p:xfrm>
          <a:off x="900000" y="1557360"/>
          <a:ext cx="7715520" cy="2165400"/>
        </p:xfrm>
        <a:graphic>
          <a:graphicData uri="http://schemas.openxmlformats.org/drawingml/2006/table">
            <a:tbl>
              <a:tblPr/>
              <a:tblGrid>
                <a:gridCol w="432000"/>
                <a:gridCol w="2087640"/>
                <a:gridCol w="1873080"/>
                <a:gridCol w="3322800"/>
              </a:tblGrid>
              <a:tr h="21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ying construction products which nevertheless present a risk to health and safety</a:t>
                      </a:r>
                      <a:r>
                        <a:rPr b="0" lang="fr-BE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ntioned in §1,3 and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1AF-212A-4E9A-90AD-DA10816B08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Delegated Acts (Lisbon)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900000" y="1557360"/>
          <a:ext cx="7715520" cy="3124080"/>
        </p:xfrm>
        <a:graphic>
          <a:graphicData uri="http://schemas.openxmlformats.org/drawingml/2006/table">
            <a:tbl>
              <a:tblPr/>
              <a:tblGrid>
                <a:gridCol w="432000"/>
                <a:gridCol w="1584360"/>
                <a:gridCol w="2592360"/>
                <a:gridCol w="3106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vocation of the deleg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vocation (Council) possible at any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 62 §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s to delegated a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 (Council) within 3 months (extension of 3 months possibl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D22-C138-4DC8-BBED-810CA4034E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Standing Committee on Construction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900000" y="1557360"/>
          <a:ext cx="7715520" cy="107964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e of decision 1999/468/EC art 3 &amp; 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for members in art 64§3 C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0226-289D-4D09-9BCE-84CB1C7D6B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468360" y="404280"/>
            <a:ext cx="92995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3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A regulation does not need to be transposed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(that, everybody knows!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The CPR needs some work in the MS  before national procedures will be conform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Good luck to everyone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410920" y="1341360"/>
            <a:ext cx="4038840" cy="453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222-47B9-411E-9651-3C85447810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General Regulation Fra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494000" y="333360"/>
          <a:ext cx="7149960" cy="58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333360"/>
                    <a:ext cx="71499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19A9-881E-4BC2-B2A8-2371E3C71E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General remark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Dates of Application</a:t>
            </a:r>
            <a:r>
              <a:rPr b="0" lang="fr-BE" sz="3200" spc="-1" strike="noStrike">
                <a:solidFill>
                  <a:srgbClr val="ff0066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0066"/>
                </a:solidFill>
                <a:latin typeface="Verdana"/>
              </a:rPr>
              <a:t>2011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201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Disclaim: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ontent of this unformal communication is not necessarily fully endorsed by the Belgian authorities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nly Wording of CPR is correc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BBC-BBD3-4AEB-B3BD-69FE641DE5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Subsidiarity and BW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Subsidiarity !! Righ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National rules mentioned in 8.6 (EN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and BW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Annex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Right of adopting BW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Making use of modifications of BWRin CP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Oblig of making use of ENh (8.6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BEF-1633-49C1-B3EF-E047FA9D8E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BWR and essential characteristic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6" name=""/>
          <p:cNvGraphicFramePr/>
          <p:nvPr/>
        </p:nvGraphicFramePr>
        <p:xfrm>
          <a:off x="900000" y="1557360"/>
          <a:ext cx="7715520" cy="251928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6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rst §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pe of making use of essential characteristics define by Com by 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 Adapting MS requirements accordingly (art 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ond §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dem for threshold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799-4B85-462F-B31B-F6298EF5EE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973440" y="277920"/>
            <a:ext cx="96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General principles and use CE mark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1" name=""/>
          <p:cNvGraphicFramePr/>
          <p:nvPr/>
        </p:nvGraphicFramePr>
        <p:xfrm>
          <a:off x="826920" y="1413000"/>
          <a:ext cx="6788160" cy="4614840"/>
        </p:xfrm>
        <a:graphic>
          <a:graphicData uri="http://schemas.openxmlformats.org/drawingml/2006/table">
            <a:tbl>
              <a:tblPr/>
              <a:tblGrid>
                <a:gridCol w="430560"/>
                <a:gridCol w="2787480"/>
                <a:gridCol w="357012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ref to marking attesting conf in DoP other than 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hibit or impede use or making available of CP with a declared performance not in accordance with national require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 prohibit or impede () making available or use of products bearing CE if declared performances correspond to MS require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thods used in Requirements for works in accordance with EN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3163-5819-4B52-9DFE-6288DDDE44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PCP &amp; Stakeholder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7" name=""/>
          <p:cNvGraphicFramePr/>
          <p:nvPr/>
        </p:nvGraphicFramePr>
        <p:xfrm>
          <a:off x="900000" y="1557360"/>
          <a:ext cx="7715520" cy="4613400"/>
        </p:xfrm>
        <a:graphic>
          <a:graphicData uri="http://schemas.openxmlformats.org/drawingml/2006/table">
            <a:tbl>
              <a:tblPr/>
              <a:tblGrid>
                <a:gridCol w="432000"/>
                <a:gridCol w="1727280"/>
                <a:gridCol w="2449440"/>
                <a:gridCol w="310680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C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or m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 Same as 764/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a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 conflict of inter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Central not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ligations Stakehol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rt 11 to 16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Imposing language for safety instru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To be informed in case of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monstration of C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formity with Do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Receiving info in a languaga easily underst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Imposing the elimination of the risk (hazard ?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ing of a « reasoned request » if CP presents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E96F-4F15-4FB3-81ED-BE62FF5297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ENh &amp;EAD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3" name=""/>
          <p:cNvGraphicFramePr/>
          <p:nvPr/>
        </p:nvGraphicFramePr>
        <p:xfrm>
          <a:off x="900000" y="1557360"/>
          <a:ext cx="7715520" cy="413388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C being consulted by Com before request to C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 EN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f MS consider ENh not entirely satisfy mandate use of SCC or 98/ 34 committ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 deci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 E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f MS consider EAD not entirely satisfy demands ./. BWR use of SCC committ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4466-5A46-4207-9412-30EB7FBFF1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5:24:24Z</dcterms:created>
  <dc:creator>Vertessen</dc:creator>
  <dc:description/>
  <dc:language>en-US</dc:language>
  <cp:lastModifiedBy>katsage</cp:lastModifiedBy>
  <dcterms:modified xsi:type="dcterms:W3CDTF">2011-07-01T15:29:13Z</dcterms:modified>
  <cp:revision>16</cp:revision>
  <dc:subject/>
  <dc:title>Diapositive 1</dc:title>
</cp:coreProperties>
</file>