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9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0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1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1359-54BE-41B2-89B4-9907B1E6C8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D215-2BB6-4829-9738-4CD7E3B165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D345C-C461-430B-87B7-54ED0EDF22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76923-68C8-4EFC-88E9-660FDF2EF3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BD56C-4C5A-4931-A36C-DA5456D10E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CC0BF-21FF-47BF-ACD4-620C96AA9C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264C6-8FC7-45A8-AEF0-67D34277B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CC5ED-220E-4397-8CA8-2E53CC69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592E5E-F65B-4EA4-8EDE-EF604F2D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E7204-FC76-4413-9AFB-DC084985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1396F-7937-437D-8621-F280519C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3AF1C-3126-431E-A8A4-1EC03D98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2EA13-9C88-4A03-8E0B-A9DD86DE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BA2E4-B48C-4DC2-925A-B13A363EB8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5C203-A7D2-4E53-9703-01AE74A1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95233-84B4-4DA5-BAF6-36FE221A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B97CD-9244-486D-814C-99330706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AB683-EAAD-4374-8842-5D7E14A4E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83F75-C5E0-4409-8240-D77133D72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36D510-5064-4719-98E3-6523CAC19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EAFC6C-44EE-49FF-8953-AAFF674A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08C7A2-15AF-42B7-A13E-206DCF9A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48CFA4-F28E-4C9F-9EA5-AA169E33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EC5DD3-9A05-4EFB-A9B3-31468736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F847F-8470-4D92-B761-0A653E6C979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29C8D0-8EA8-4CB5-9B72-19872E7E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37955E-5813-4A53-9CF3-D389AD15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7DB4BD-7938-4C80-BAB7-16F77271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125011-480E-4271-869E-6859639D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2BDDB0-A989-453E-AA0A-3A58E5D3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262F7F-DA18-4404-9906-A7FA16F83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8A58E7-40C4-45CB-8B62-100CF47A0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16CB24-A91E-40BF-8C21-11D220B8E8E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31DC9C-BCFD-4913-80FA-F5E0D7B9C64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EEE04D-7EAA-48A6-89BD-EB76D83033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690A7-3FFD-46B9-9133-5722E63E4EB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10DB3C-A9B6-4D6F-802B-EA671590AD7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A9E1A4-44D7-40B8-9E2D-20CB15D7651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F8B4F8-701F-40C7-81BF-90E4731B29F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86E9BF-7649-466A-A27F-6163A4DD690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3680E7-C82A-4749-A0F8-74560E3B7AE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67980D-84D0-443C-8A15-F99582098ED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7565A5-6FF2-48DD-B3F2-0A60582F7BC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8E1169-F11F-4286-B70A-9F11623318D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C20009-F6F3-46CB-8A36-BB8A704558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237E4-E1A9-4CAE-AD3B-B2EBEE4AA3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C416D-2CC9-40F6-8E2D-D5F33B32D4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915E6-7E15-4157-AB5A-C191045CAE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1F1DA-AAD6-4216-BA02-6673872E60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8D8DB-765C-426E-969D-01211CA1A2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72D7-A987-4BAF-A355-BBF9F5D3458D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2"/>
          <p:cNvSpPr/>
          <p:nvPr/>
        </p:nvSpPr>
        <p:spPr>
          <a:xfrm>
            <a:off x="3960" y="6613560"/>
            <a:ext cx="8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5 Jul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3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5" name="Text Box 16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Text Box 21"/>
          <p:cNvSpPr/>
          <p:nvPr/>
        </p:nvSpPr>
        <p:spPr>
          <a:xfrm>
            <a:off x="0" y="662940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CEPMC | Boulevard du Souverain 68 - B-1170 Brussels | 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9138-3FE7-4737-912D-8CDAEEDF66D3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98E2-A3F0-4F44-846A-0BAF9A64AB2B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0"/>
          <p:cNvSpPr/>
          <p:nvPr/>
        </p:nvSpPr>
        <p:spPr>
          <a:xfrm>
            <a:off x="0" y="927000"/>
            <a:ext cx="91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d55031"/>
                </a:solidFill>
                <a:latin typeface="Arial"/>
              </a:rPr>
              <a:t>CPD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7385040" y="404640"/>
            <a:ext cx="1219320" cy="29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GA 08-0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6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1371600" y="6600960"/>
            <a:ext cx="632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EPMC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| </a:t>
            </a: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Boulevard du Souverain 68 - B-1170 Brussels | </a:t>
            </a: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214200" y="907920"/>
            <a:ext cx="8786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8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F923-6635-468F-B237-5B17F5C0C694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4240" y="2781360"/>
            <a:ext cx="8072640" cy="14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nstruction Products Regulation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Rights and obligations of manufacturer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5843160"/>
            <a:ext cx="6400800" cy="4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Pascal Bar &amp; Gildas Guillevic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5" name="Espace réservé du numéro de diapositive 6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9E00-E9CC-44B6-8AEE-C8D2F8C488BF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357200" y="4929120"/>
            <a:ext cx="6400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SCC meeting on 5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July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1483920"/>
            <a:ext cx="87357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Provide a clear, complete and reliable information on products placed on the market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Same obligation for all manufacturers (&amp; importers) in Europ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Declaration of performance (DoP) for a product covered by an hEN or an ETA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Determination of the “product-type”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Drawn up a DoP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Supply the DoP with the product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0" algn="just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0E75-3886-4694-B60B-67BA50595D2A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PR: Obligation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228240" y="1600200"/>
            <a:ext cx="87361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Technical documentation 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Description of all the relevant elements related to the assessment and verification of constancy of performances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Kept 10 years, up-dated, provided on the request of authorities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CE Marking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ffixed on the product, or a label, or the packaging or accompanying documents (art 9.1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llowed by additional information, including “level and class declared”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Market Surveillance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ooperate in case of request, providing all the elements above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In case of doubt or non conform product: correct, inform, cooperate (Art 11.</a:t>
            </a: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7-8, 56.1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Slide Number Placeholder 2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A3F5-0DD6-4E43-9217-487128A35E03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PR: Obligation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14200" y="1456920"/>
            <a:ext cx="878688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125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Declaration of Performance (DoP)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Possible derogations (art 5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NPD option (no test!) where essential characteristic is not regulated (art 6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Draw up the DoP on the basis of existing CE marking affixed under CPD (art 66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 algn="just">
              <a:spcBef>
                <a:spcPts val="125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Determination of Product-type: Simplified procedures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Deemed to satisfy procedure (Art 27.5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WT/WFT, Shared IT, Cascading (Art 36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micro-enterprises turning system 3 into system 4 (Rec 27, Art 37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Products individually manufactured turning system 3 into system 4 (Art 38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 algn="just">
              <a:spcBef>
                <a:spcPts val="125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European Technical Assessment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Request an ETA when hENs do not allow to assess the product (Art 19)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For ETAs issued before 1/07/2013, EADs consistent with existing ETAGs/CUAP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 algn="just">
              <a:spcBef>
                <a:spcPts val="125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Information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Product Contact Points (Rec 42-44, Art 10), Information campaigns (Rec 54)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1131480" indent="0" algn="just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74F9-D420-43D8-BF8A-1E551D69803E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PR: Right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09:00:45Z</dcterms:created>
  <dc:creator>GUILLEVIC</dc:creator>
  <dc:description/>
  <dc:language>en-US</dc:language>
  <cp:lastModifiedBy>Pascal Bar</cp:lastModifiedBy>
  <cp:lastPrinted>2000-03-16T10:24:10Z</cp:lastPrinted>
  <dcterms:modified xsi:type="dcterms:W3CDTF">2011-07-04T16:22:28Z</dcterms:modified>
  <cp:revision>599</cp:revision>
  <dc:subject/>
  <dc:title>Aucun titre de diapositive</dc:title>
</cp:coreProperties>
</file>