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54B-FE7A-4595-8850-D29C56D8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295-E437-4B4B-A5BB-62EDAD25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782-BAED-4C61-9F30-AB8AEC37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934-20FC-4319-A065-B0F5FB56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DB5-169D-46F0-AFA0-69945CBE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AD2-892D-44D2-A058-B453B4F3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3B6-A173-4683-AB08-4AB9A018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256-CA96-44E0-9A66-3E3CA00B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E25-FEFF-479F-9B1A-0FFC66AF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B80-6E45-454E-8477-3492EFE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63E-AF3B-4203-AD88-C3036955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AF3-5262-4B33-B52B-895DE1A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760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d2760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FFD0-A563-4493-B618-1027A366116B}" type="slidenum">
              <a:rPr b="1" lang="en-US" sz="1000" spc="-1" strike="noStrike">
                <a:solidFill>
                  <a:srgbClr val="d2760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08000" y="6353280"/>
          <a:ext cx="1008000" cy="38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6353280"/>
                    <a:ext cx="1008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Market Surveillance for 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r. Rainer Mikulits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hairman AdCo MS-CP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General Framework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C) Nr. 765/2008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General Provisions and obligations of Member Stat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Procedur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Products presenting a serious risk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RAPEX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General information support system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ontrol of imports from third countr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Cooperation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Exchange of information and mutual assistance of Market Surveillance Authorit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Sharing of resources (training programmes, exchange of experiences, information campaigns)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U) No 305/2011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Specific provisions regarding Construction Products (Art. 56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Action pursuant Art. 20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t only „products presenting a serious risk“, but also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Products which do not achieve the declared performance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and present a 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risk for the fulfilment of the basic requirements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valuation, benchmark are the requirements of the CPR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nformation of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hen non-compliance is not limited to the own Member Sta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cc. to Art. 21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Corrective actions – to bring the product into compliance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notably with the declared performance“ – before measures ar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formation of Notified Body (if involved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eedback loop and Safeguard Procedure (Art. 57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Authority informs EC and Member States about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details of the cas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(restrictive) measures to b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reason for non-compliance (“bad product” or “bad specifications”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re only “provisional” during 15 days reaction time for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objections are raised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Safeguard Procedure acc. to Art. 57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consults Member States and economic operator(s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evaluates the (provisional) national measures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decides whether justified or not 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“bad specification”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hE information of CEN an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Committee 98/34/E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EA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SC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ormal non-compliance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ases acc. to Art. 59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CE marking although there is a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CE marking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declaration of performance although required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technical documentation missing or incomple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ember State (sic!) shall require the economic operator to put an end to the non-compliance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Otherwise the Member State shall take appropriate measures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Open questions: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(“feedback loop”) apply to cases of Art. 59.2 (measures in case of formal non-conformity) in analogy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also apply to cases where the non-conformity is limited to the national territory of the market surveillance authority concerned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What is the purpose and meaning of Art. 58 (complying construction products which nevertheless present a risk to health and safety)?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440" y="2654280"/>
            <a:ext cx="88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ff33"/>
                </a:solidFill>
                <a:latin typeface="Tahoma"/>
              </a:rPr>
              <a:t>Thank you very much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2:33:31Z</dcterms:created>
  <dc:creator>Rainer Mikulits</dc:creator>
  <dc:description/>
  <dc:language>en-US</dc:language>
  <cp:lastModifiedBy>katsage</cp:lastModifiedBy>
  <dcterms:modified xsi:type="dcterms:W3CDTF">2011-07-04T07:20:16Z</dcterms:modified>
  <cp:revision>8</cp:revision>
  <dc:subject/>
  <dc:title>Market Surveillance for Construction Products</dc:title>
</cp:coreProperties>
</file>