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9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1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EF2E-A9C6-4DAB-9B87-1856C3FD9E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PMC Genera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C574-3739-419E-B5B1-E694CDFC34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8830-667D-4DF7-BFC7-FB51AC6C6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7AE2-D75A-4166-819A-D42BDC007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54BD-D247-480E-9BBB-67C2A00CC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3B30-DD03-4125-9F02-177F65416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B748A-40EC-4A4B-88EC-7F2DA372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F03BD-058F-4A7D-B6EF-F4E90ED2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FAE35-DA93-4813-B1FB-64896CD3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DB7F1-B7B3-470C-8AE5-C031465E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2D5C3-AC76-4187-BDF1-014AA8CB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B885D-9DD6-40CA-9C15-B47E8BD9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1E25E-96A1-4751-9295-9E8A19C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6374-E083-46B9-9631-4D7E8FE32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3D2EE-E567-49A3-AAA5-218D4EA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736F2-D2C2-45CB-981E-27F80E7E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71A79-A709-4487-92EB-CAA3B9AC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007D2-03B6-4F03-9A49-C18D8565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DBA8C-DE6B-49CA-8C88-541A926D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B38225-1199-432A-B439-ABE3C7A1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E5343-5AA7-45CE-99D1-77AB586B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59B98B-69F7-4A64-BC32-BEB174FE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8C73C-2648-443C-B08B-91D101FF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E22A3-50F6-4ECD-8904-EB1338BD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D11B-9A7C-4BC2-B085-930E71FEF9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ECF275-80D9-41DD-9087-3F8B03B1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7A715-8982-486A-962D-8F89AE05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E18CF7-1FFF-49DB-9534-162CCD0B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A00B1-6079-41A4-965A-A86852F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96658-76DB-4222-B73E-1FC55ECF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6D4B0-D1AC-464D-85A6-D5F01A61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58E06-0367-41E8-8DA9-4DC56CC7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73428-CEE9-4F0B-B554-0C9FD584D2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40F17-5144-48AB-9F80-5F523F27A0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508A7-B22F-45EF-B1D4-4627ABF5D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C8BE-9083-4C0B-AF18-5D240407E9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E08E9-CA21-45D2-B058-15E7A9E43A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43082-A0D2-4A75-A9BA-8EC283687C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FF5BC-2502-40DE-BDE0-3FEDC32F59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DAF42-AD44-4487-AFAD-885F751EAE8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EBCB3-5C8D-447B-9E7E-554E00C321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0DCA3-8105-4A28-BF8E-CF0AC4BEB9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5082A-E552-4B4F-8237-931BB4D516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713F7-0F9B-4656-99FE-A2C706993C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204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35480" y="159984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282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204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35480" y="3856320"/>
            <a:ext cx="281268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DEF8C-3854-4760-9EDF-3335A3BCD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436E-C30B-469C-878D-CF5F6FA92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0560" y="907920"/>
            <a:ext cx="87138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8B6E-2769-47CE-B582-FA6A97CCA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9A21-A90F-4454-93A9-CA4EE8BC4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85632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C4F7-B449-457E-A427-54EAFFA7A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1599840"/>
            <a:ext cx="4263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856320"/>
            <a:ext cx="87361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2868-4A3B-4D65-AF3F-D3E66CC8C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E539-86E3-4E0B-978A-1AC35725F2D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3960" y="66135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5 July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0" y="662940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CEPMC | Boulevard du Souverain 68 - B-1170 Brussels | 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2696-2F96-4EBD-9E72-6FF218AE6F3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15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70E7-20CE-4470-8BDE-A757007370B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0" y="92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55031"/>
                </a:solidFill>
                <a:latin typeface="Arial"/>
              </a:rPr>
              <a:t>CPD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7385040" y="404640"/>
            <a:ext cx="1219320" cy="2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 08-0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cb9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547640" y="44280"/>
            <a:ext cx="609624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uncil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ean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ers of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erials fo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eil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éen des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P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roducteurs de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 M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tériaux de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C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onstru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V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ereinigung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E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uropäischer </a:t>
            </a:r>
            <a:r>
              <a:rPr b="1" lang="en-GB" sz="1300" spc="-1" strike="noStrike">
                <a:solidFill>
                  <a:srgbClr val="5c2500"/>
                </a:solidFill>
                <a:latin typeface="Arial"/>
              </a:rPr>
              <a:t>B</a:t>
            </a:r>
            <a:r>
              <a:rPr b="0" lang="en-GB" sz="1300" spc="-1" strike="noStrike">
                <a:solidFill>
                  <a:srgbClr val="5c2500"/>
                </a:solidFill>
                <a:latin typeface="Arial"/>
              </a:rPr>
              <a:t>austoffherstell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6" descr=""/>
          <p:cNvPicPr/>
          <p:nvPr/>
        </p:nvPicPr>
        <p:blipFill>
          <a:blip r:embed="rId2"/>
          <a:stretch/>
        </p:blipFill>
        <p:spPr>
          <a:xfrm>
            <a:off x="179280" y="49320"/>
            <a:ext cx="1241640" cy="7156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7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solidFill>
            <a:srgbClr val="ead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371600" y="6600960"/>
            <a:ext cx="632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EPMC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</a:rPr>
              <a:t>Boulevard du Souverain 68 - B-1170 Brussels | </a:t>
            </a: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el: +32 (0)2 645 52 07 | info@cepmc.org | www.cepmc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214200" y="907920"/>
            <a:ext cx="8786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Transition from the CPD to the C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907920"/>
            <a:ext cx="8713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736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3" marL="1562040" indent="-228600" algn="just">
              <a:spcBef>
                <a:spcPts val="1375"/>
              </a:spcBef>
              <a:buClr>
                <a:srgbClr val="808080"/>
              </a:buClr>
              <a:buSzPct val="75000"/>
              <a:buFont typeface="ZapfDingba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4" marL="1981080" indent="-228600" algn="just">
              <a:spcBef>
                <a:spcPts val="1375"/>
              </a:spcBef>
              <a:buClr>
                <a:srgbClr val="5f5f5f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5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  <a:p>
            <a:pPr lvl="6" marL="1981080" indent="-228600" algn="just">
              <a:spcBef>
                <a:spcPts val="1375"/>
              </a:spcBef>
              <a:buClr>
                <a:srgbClr val="000000"/>
              </a:buClr>
              <a:buFont typeface="Symbol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8"/>
          </p:nvPr>
        </p:nvSpPr>
        <p:spPr>
          <a:xfrm>
            <a:off x="72388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7022-7228-4480-BD33-D635E807177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4240" y="307152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cc3300"/>
                </a:solidFill>
                <a:latin typeface="Arial"/>
                <a:ea typeface="Times New Roman"/>
              </a:rPr>
              <a:t>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priority issu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843160"/>
            <a:ext cx="6400800" cy="4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ascal Bar &amp; Gildas Guillevic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Espace réservé du numéro de diapositive 6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E461-945F-4DA0-B58B-A541F0E1970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357200" y="4929120"/>
            <a:ext cx="64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SCC meeting on 5</a:t>
            </a:r>
            <a:r>
              <a:rPr b="0" lang="en-US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 July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240" y="188604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anufacturers are working on CPR implementation which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Does not introduce additional burdens and cos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eserves customers' confidence in the Declaration of Performance &amp; CE Mark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nd hence in the products themsel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With one single assessment of products valid everywhere in the EU and recognized by all the Members States and local authorit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Allowing users to check compliance with local regulations and fitness for us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BAE9-547C-4931-B39D-E025F298EEC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9040" y="100008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akes for manufacture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1500120"/>
            <a:ext cx="8736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Possible use of websites for supplying DoP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7.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Determination of the useful information to be provided on or with products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(Article 9.2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Information to be declared on Hazardous Substances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 6.5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Need for clear procedure guaranteeing confidentiality and flexibility for “European Technical Assessments”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(Articles 19 – 26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voiding possible distortion of competi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to be applied for derogations (Article 5) and public information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ocedures usable by micro-enterprises: Consequences for competition on the market (Article 37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561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ntact Points: Definition of types of information (free of charge or charged) (Recital 4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just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9366-2C49-42B0-8384-593964D6359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1</a:t>
            </a:r>
            <a:r>
              <a:rPr b="1" lang="en-GB" sz="2300" spc="-1" strike="noStrike" baseline="30000">
                <a:solidFill>
                  <a:srgbClr val="cc3300"/>
                </a:solidFill>
                <a:latin typeface="Arial"/>
              </a:rPr>
              <a:t>st</a:t>
            </a: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 priority issues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28240" y="1600200"/>
            <a:ext cx="8736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ransitional provisions to be applied for hENs on DoP, CE Marking and time schedule for products placed on the market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1-2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vision of hENs: Intended uses of products (and generic products) to be declared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Article 66.4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624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oluntary marks: Market needs have to be taken into account to define and use them 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(Recital 33, Article 8.3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443C-CFB3-4ACA-B5E6-7D394848C6E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133440"/>
            <a:ext cx="87138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nex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iority issues for manufacturer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F049-0E11-4D17-AD42-2DA56031CC3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1571400"/>
            <a:ext cx="8736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Simplific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Declaration of Performance” (Articles 4, 5, 6 &amp; 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Possible use of websites for supplying DoP and information to be declared on Hazardous Substances and Substances of Very High Concer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Rules and conditions for applying the CE Marking” (Articles 8 &amp; 9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Arial"/>
              </a:rPr>
              <a:t>Determine the useful information to be provided e.g. on "performance(s) declared" (Article 9.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European Assessment Documents” &amp; “European Technical Assessments” (Articles 19 – 2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Need for clear procedure guaranteeing confidentiality and flexibility, mainly for new/innovative products and intended use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“</a:t>
            </a: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Basic requirements for construction works” (Article 3, Annex II and Recitals 6 &amp; 10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onitor the risk of creation of new barriers to trade through new European or National provision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Avoiding distortion of competition and discrimination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Derogations from drawing up a declaration of performance (Article 5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procedures and make publically available the products under derogation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Procedures possibly used by micro-enterprises (Article 37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onitor possible consequences for competition on the marke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FE45-9033-4C29-BA2A-BD877CA5D05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190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1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571400"/>
            <a:ext cx="8772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Preservation of the “acquis” (Technical Specifications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hENs (Article 66.1-2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arify procedures to be applied on DoP &amp; CE Marking for products placed on the market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Revisions of existing harmonized standards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Define how the new terminology will be taken into account in technical specifications (Article 2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need for declaring intended uses of products, including generic products </a:t>
            </a: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(Article 6.3.e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Transitional provisions for ETA Guides and CUAPs of the CPD (Article 66.3-4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Clarify the procedure to be applied after the period of validity of ETAs issued before 01/07/2013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5f5f5f"/>
                </a:solidFill>
                <a:latin typeface="Arial"/>
              </a:rPr>
              <a:t>Simplified procedures using Appropriate Technical Documentation (Article 36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f5f5f"/>
                </a:solidFill>
                <a:latin typeface="Arial"/>
              </a:rPr>
              <a:t>Maintain, as they are, procedures already used for "without testing and without further testing", for using test results obtained by another manufacturer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62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Voluntary marks (Recital 33, Article 8.3)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Market needs have to be taken into account to define and use the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8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f5f5f"/>
                </a:solidFill>
                <a:latin typeface="Arial"/>
              </a:rPr>
              <a:t>Contribution to define an efficient market surveillance (Article 56)</a:t>
            </a:r>
            <a:endParaRPr b="1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437"/>
              </a:spcBef>
              <a:buClr>
                <a:srgbClr val="80808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Develop exchanges of experience, and possibly with other industrial sectors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0" algn="just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7238880" y="655308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02D7-4FB6-41E0-B9CB-9538D253389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85840" y="981000"/>
            <a:ext cx="872496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cc3300"/>
                </a:solidFill>
                <a:latin typeface="Arial"/>
              </a:rPr>
              <a:t>CPR implementation: priority issues </a:t>
            </a:r>
            <a:r>
              <a:rPr b="0" lang="en-GB" sz="2300" spc="-1" strike="noStrike">
                <a:solidFill>
                  <a:srgbClr val="cc3300"/>
                </a:solidFill>
                <a:latin typeface="Arial"/>
              </a:rPr>
              <a:t>(2/2)</a:t>
            </a:r>
            <a:endParaRPr b="1" lang="en-US" sz="23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09:00:45Z</dcterms:created>
  <dc:creator>GUILLEVIC</dc:creator>
  <dc:description/>
  <dc:language>en-US</dc:language>
  <cp:lastModifiedBy>Pascal Bar</cp:lastModifiedBy>
  <cp:lastPrinted>2000-03-16T10:24:10Z</cp:lastPrinted>
  <dcterms:modified xsi:type="dcterms:W3CDTF">2011-07-04T16:26:48Z</dcterms:modified>
  <cp:revision>539</cp:revision>
  <dc:subject/>
  <dc:title>Aucun titre de diapositive</dc:title>
</cp:coreProperties>
</file>