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5"/>
          </p:nvPr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ftr" idx="16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 type="sldNum" idx="17"/>
          </p:nvPr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F4F7-3195-4717-8EAE-2D68D87B9CBC}" type="slidenum">
              <a:rPr b="0" lang="fr-B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EDC1-124E-471D-98A3-E870F696533E}" type="slidenum">
              <a:rPr b="0" lang="fr-B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BF67-E5D4-4D27-A8D9-D6DF6130F461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2005 CEN – all rights reserv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</a:t>
            </a:r>
            <a:fld id="{8753A9CB-083C-4D97-A43D-74545396A76D}" type="datetime">
              <a:rPr b="0" lang="en-GB" sz="13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6772-7FAD-4285-B1D4-47B5A1CEE98F}" type="slidenum">
              <a:rPr b="0" lang="fr-B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E7BC-F1EB-4FB6-9D4F-42850F763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12F4-5066-4D3C-9A8D-97DCB7003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B881-D2A6-4151-87C2-7A068406A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1873-CB45-4747-A1CC-BF1C18461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0BE7-D2BB-4938-8857-E6AE96570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A3DAF-1C3D-4A6C-8331-54DE641D76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89A84-AAAD-4371-96BA-5B80F9B253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F11BE-4CAC-47A0-9210-F2A5366E74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83285-1501-41C6-8A42-212E38848F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69933-F4A1-427A-9DD0-0363190488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6A63-2AE9-419D-B027-DF45F4F95B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96942-9420-45C3-AE15-FE093B3BFB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70C03-81C0-43FC-9EAB-52A0454477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3AFC7-C719-489C-BCC2-6DF0364FD1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4B61F-B5B2-43B5-AB0D-6A455443D7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A1537-9A2C-497B-AD27-EE2B780794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5F0B7-D4E1-4A70-A860-BBB53A65ED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C6198-522F-4AD8-8A7E-DD8711E312A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F7C0-5E41-4104-9797-167D31634A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BB82-23C3-4634-9A55-009DEA78701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5883-F970-471B-8F96-B14837FC1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01D7-D4C5-4953-9EE2-8998CC4F3C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9B67-54B1-405F-80DB-2EB1106B766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745F-DC40-4EDB-849F-BF9B7FCF48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5511-EF34-4743-A136-C670B5CF2AE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2618-0E84-47F7-B2C1-18B946B2286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703E-18A9-4130-890A-B7E861C0CA5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FFBB-800F-477F-8575-EF7EF279296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857E-127C-4188-91D9-256E48F9204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FE30-288C-4B4D-8381-13A52E99B5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C722-ADF4-4D3E-9F60-C0B199E2C7D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41577-F0C4-4373-AB94-E264E7268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2FBAB-A9A5-4D75-B1C6-C0CFE844689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3649D-D10C-4D4C-973B-F2B417D16DF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1A11AF-6BD1-4D5B-A4EE-E1F2534ABAC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5B6444-3275-4E12-8EAC-DD24E0C12A1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C95E6-2526-44A1-BD7D-69E8E22EDF6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026369-6160-4B11-A1CD-F2A66D9C0F1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5F9CC-11EC-4E55-8FA5-37B055FDDEE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AB902D-AC73-4347-9930-47E3BE74FD8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E6712-4CD7-4635-BCEF-14706F7D860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E577E-5207-47F9-A0A4-2DC14D83B1D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D886D-AA55-44C4-9C9A-6D577B02D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513F8-E114-4BB8-BD89-833ED180D54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74155D-E109-4B46-A3D6-076EEDDA014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A09214-4555-4749-A6C9-28CB715C023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53F4BA-5CCD-4774-A61E-40E4038C2AE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157B21-C9D8-4D75-B7B2-49F6B40DE77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9041D8-D071-4627-ADCA-515DA9E799F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F16C0B-A4C1-46A6-A756-0E821B1EB7C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FEDB56-1F6E-4D8F-AF9B-956FFB48C7A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C59837-4E21-4D74-8C94-6D7B8545891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B7A500-96B9-4C53-8A86-C7BC2112F17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1DAA1F-061D-4672-9105-5DF50D58C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8F38D-70C6-4C82-A109-B6FA4BADAFD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38DA2F-6824-41D3-A9CE-4908E78DE89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4CA36C-F6F6-4315-83A2-C458AD5067F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88D726-8064-4885-831A-13821810E6C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57054-4B1D-4843-BE92-697F036E49C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7949B-B57A-446D-9128-AB29212AA38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E342F-FBCC-4707-8CA7-33556F96CFC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3F97E-2750-4391-AA56-7F353AECDBC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6618C-06BF-43EB-9627-2262EB34085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26D5C-EC8D-4363-8484-C8128BC63BA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F103B-CBFE-4A52-A002-6517976A2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5A7B-F903-45D6-B70E-796F5CCB4B5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CD8BB-492F-4CCD-8409-DC7A4C44D28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E4B58-9081-4545-AB96-6ACAF8E4B7E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CEF6F-D3C9-4D2B-8FA2-CDB3FF89153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313CF-7EE1-44FE-AA4B-C75800EB17F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DEB3D-C11E-4CEF-9609-1647F003E49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362CD5-2C0A-4EBE-905A-31AB4CAC437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3001B3-6223-4A7B-9AEE-424B81172B1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AC0F4-B1B9-4483-B639-54B00E2AEF3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EB9D7B-670B-4185-96FA-A6EEC9C18B7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5C33E3-330F-42BF-88AA-D77AAA03E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3035-B27F-4F91-8A07-969A195B747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EAFDC0-C45B-4436-93C7-89BD514E035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339A97-C4BF-4EF4-98A4-898A7FE3CDF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62C6A7-BA48-4E63-BCBE-78E818534D7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72E733-0031-43EF-98F7-BD3D45551C4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55AD5-3BDC-4E85-AA37-CF6A546A1EB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6F5714-1218-48A3-8435-FDD18DC090D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CBA252-3554-45A7-A26D-D6DC1BD40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C6990819-00A1-4406-8EEA-9B4B13A38066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4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CEN-CENELEC-PPT template_layouts_V04_logo.png"/>
          <p:cNvPicPr/>
          <p:nvPr/>
        </p:nvPicPr>
        <p:blipFill>
          <a:blip r:embed="rId2"/>
          <a:stretch/>
        </p:blipFill>
        <p:spPr>
          <a:xfrm>
            <a:off x="6786720" y="357120"/>
            <a:ext cx="2357280" cy="8114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7" descr="CEN_CENELEC-PPT_themes_V10+elements_ExtRelations_p13_PNG24.png"/>
          <p:cNvPicPr/>
          <p:nvPr/>
        </p:nvPicPr>
        <p:blipFill>
          <a:blip r:embed="rId3"/>
          <a:srcRect l="0" t="31594" r="28738" b="32743"/>
          <a:stretch/>
        </p:blipFill>
        <p:spPr>
          <a:xfrm>
            <a:off x="0" y="1341360"/>
            <a:ext cx="6516720" cy="25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499680" y="5661000"/>
            <a:ext cx="84646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2800" spc="-1" strike="noStrike">
                <a:solidFill>
                  <a:srgbClr val="ffffff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  <a:ea typeface="Verdana"/>
              </a:rPr>
              <a:t>Name</a:t>
            </a:r>
            <a:br>
              <a:rPr sz="2800"/>
            </a:br>
            <a:r>
              <a:rPr b="0" lang="fr-BE" sz="2800" spc="-1" strike="noStrike">
                <a:solidFill>
                  <a:srgbClr val="ffffff"/>
                </a:solidFill>
                <a:latin typeface="Verdana"/>
                <a:ea typeface="Verdana"/>
              </a:rPr>
              <a:t>Desig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4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CEN-CENELEC-PPT template_layouts_V04_logo.png"/>
          <p:cNvPicPr/>
          <p:nvPr/>
        </p:nvPicPr>
        <p:blipFill>
          <a:blip r:embed="rId2"/>
          <a:stretch/>
        </p:blipFill>
        <p:spPr>
          <a:xfrm>
            <a:off x="6786720" y="5732640"/>
            <a:ext cx="2357280" cy="811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4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5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910B6248-6E0D-43AA-80F5-CFFFC33A64DA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CEN-CENELEC-PPT template_layouts_V04_logo.png"/>
          <p:cNvPicPr/>
          <p:nvPr/>
        </p:nvPicPr>
        <p:blipFill>
          <a:blip r:embed="rId3"/>
          <a:stretch/>
        </p:blipFill>
        <p:spPr>
          <a:xfrm>
            <a:off x="6786720" y="5732640"/>
            <a:ext cx="2357280" cy="811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6ECC8A02-D90A-48F8-8701-7A330895EF9A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7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8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C4BB1EDB-AF43-44A0-934A-716A478275CD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9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0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9D5A60CC-C2C9-4E17-9D94-931BF89FCF2F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2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826E4CBA-B24C-42A6-98A2-853AD101154B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3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4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0CE22631-2BF7-4579-90FF-593885A8053C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en.eu/" TargetMode="External"/><Relationship Id="rId2" Type="http://schemas.openxmlformats.org/officeDocument/2006/relationships/hyperlink" Target="http://www.cenelec.eu/" TargetMode="External"/><Relationship Id="rId3" Type="http://schemas.openxmlformats.org/officeDocument/2006/relationships/hyperlink" Target="mailto:adacosta@cencenelec.eu" TargetMode="Externa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0040" y="4005000"/>
            <a:ext cx="84297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d9d9d9"/>
                </a:solidFill>
                <a:latin typeface="Arial"/>
                <a:ea typeface="Arial"/>
              </a:rPr>
              <a:t>1st MEETING OF SCC </a:t>
            </a:r>
            <a:br>
              <a:rPr sz="2000"/>
            </a:br>
            <a:r>
              <a:rPr b="0" lang="fr-BE" sz="2000" spc="-1" strike="noStrike">
                <a:solidFill>
                  <a:srgbClr val="d9d9d9"/>
                </a:solidFill>
                <a:latin typeface="Arial"/>
                <a:ea typeface="Arial"/>
              </a:rPr>
              <a:t>(Art.64 of Regulation (EU) N° 305/2011)</a:t>
            </a:r>
            <a:endParaRPr b="0" lang="en-US" sz="20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0040" y="4724280"/>
            <a:ext cx="84549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afdb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afdb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STANDARDS AND STANDARDIZATION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500040" y="5661000"/>
            <a:ext cx="84646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  <a:ea typeface="Verdana"/>
              </a:rPr>
              <a:t>Amilcar da C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Arial"/>
                <a:ea typeface="Verdana"/>
              </a:rPr>
              <a:t>CEN/CENELEC Programme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Arial"/>
                <a:ea typeface="Verdana"/>
              </a:rPr>
              <a:t>2011-07-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BF7A-D818-4721-B53E-495B2155D291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4005360"/>
            <a:ext cx="84074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CPR – Impact on European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fbfbf"/>
                </a:solidFill>
                <a:latin typeface="Arial"/>
                <a:ea typeface="Arial"/>
              </a:rPr>
              <a:t>  </a:t>
            </a:r>
            <a:r>
              <a:rPr b="1" lang="en-GB" sz="2800" spc="-1" strike="noStrike">
                <a:solidFill>
                  <a:srgbClr val="bfbfbf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Road map for the adaptation of 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Revision of model Annex 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fbfbf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Information to Technical Commit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afdb"/>
                </a:solidFill>
                <a:latin typeface="Arial"/>
                <a:ea typeface="Arial"/>
              </a:rPr>
              <a:t>Thank you! – Questions?</a:t>
            </a:r>
            <a:br>
              <a:rPr sz="4000"/>
            </a:br>
            <a:endParaRPr b="0" lang="en-US" sz="40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1E9B81A2-8695-4F4C-A778-58470C1E9E21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en.eu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www.cenelec.eu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fdb"/>
                </a:solidFill>
                <a:latin typeface="Verdana"/>
              </a:rPr>
              <a:t>Amilcar da Costa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afdb"/>
                </a:solidFill>
                <a:latin typeface="Verdana"/>
              </a:rPr>
              <a:t>CEN/CENELEC Programme Manager</a:t>
            </a:r>
            <a:endParaRPr b="0" lang="en-US" sz="20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adacosta@cencenelec.eu</a:t>
            </a:r>
            <a:endParaRPr b="0" lang="en-US" sz="18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afdb"/>
                </a:solidFill>
                <a:latin typeface="Verdana"/>
              </a:rPr>
              <a:t>+32.2550.0974</a:t>
            </a:r>
            <a:endParaRPr b="0" lang="en-US" sz="1800" spc="-1" strike="noStrike">
              <a:solidFill>
                <a:srgbClr val="00afdb"/>
              </a:solidFill>
              <a:latin typeface="Verdana"/>
            </a:endParaRPr>
          </a:p>
        </p:txBody>
      </p:sp>
      <p:pic>
        <p:nvPicPr>
          <p:cNvPr id="341" name="Picture 7" descr="MCj00787110000[1]"/>
          <p:cNvPicPr/>
          <p:nvPr/>
        </p:nvPicPr>
        <p:blipFill>
          <a:blip r:embed="rId4"/>
          <a:stretch/>
        </p:blipFill>
        <p:spPr>
          <a:xfrm>
            <a:off x="5572080" y="1571760"/>
            <a:ext cx="1900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8:03:13Z</dcterms:created>
  <dc:creator>denmat</dc:creator>
  <dc:description/>
  <dc:language>en-US</dc:language>
  <cp:lastModifiedBy>CEN</cp:lastModifiedBy>
  <dcterms:modified xsi:type="dcterms:W3CDTF">2011-07-04T14:07:55Z</dcterms:modified>
  <cp:revision>72</cp:revision>
  <dc:subject/>
  <dc:title>Shaping European Standards</dc:title>
</cp:coreProperties>
</file>