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1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ED4B-4C89-4917-B11D-CF24C575A972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A0F-BFAE-400D-8417-043FC5F7E5B7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ADAD-BDA4-4308-8DE7-EC7A3567AB3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2005 CEN – all rights reser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CD05154A-A1ED-475C-86F7-2F8779E300F2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E17-B91D-44B6-B525-1F34D94CF5F7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7A81-917F-48C4-850F-CF2C1D0CC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59F6-9275-4D75-8DF0-D7F30D5A8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CC49-7DD4-429E-BBB0-B191C15DE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C6BC-AEFB-41AC-9AB4-1D222F3C4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467A-D25F-4409-A88D-4D9AED410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0F25A-6035-43D8-9D17-0AFA4110AF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39751-EE1F-4A20-805D-E7F803E7E3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6C4FE-59B3-4AAE-B1DB-E23E8735D0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A7BE4-83CC-4C22-8338-C47549236D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4C32B-10E8-41F6-8469-58FCC7961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0293-2FF8-44B6-AACB-54CFBC6D6E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5A5A8-F07A-4284-917D-C5B377B102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C47EA-B072-407E-B774-9190260F2C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F00FC-C010-4D72-B940-F7DBD66846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882B0-F905-4F76-BC55-EF18ADB798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E8217-C0AF-4A73-BB7B-0641580A0A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E12DD-7661-47DB-99A5-A72133A876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21096-238D-4073-8DF6-30FD8A0AB0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38B3-2B1D-46D6-BB28-F7B7CE0E5A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E65-1619-40F2-846C-8A4E3346BF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C76D-938E-4198-82C4-B5BC4CADA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A184-AC2D-4F0E-97EB-12D5FBE61B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4381-88EA-4F24-98A1-BD6CFBD893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C369-D1A2-43B9-8496-BA2D764B1D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12AF-7EEA-45D3-91B7-3649BBE1F9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069E-9DE8-4696-857A-549F54FF76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F433-8FE5-42A3-91DF-F3602AF977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FA77-A028-4E9F-BFBF-7371D7C5B2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2589-DC8F-4397-8D81-82575CCCED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64E3-BC2C-4668-8941-46690BA472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A504-FA8A-4309-BF2C-D465CDDF00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71841-CEFA-47B5-BED9-E1D3CC734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9453-7F1D-4715-84AD-5CBC4B7907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85422-0129-4733-8F18-991099BBCD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BC5C3-DDF4-483F-BB7C-1A2841CBAE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10445-451B-4B6B-9CE6-E1F8CDEA30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3E041-EA66-49C8-A1FC-D50D3C0DDE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BC8DA-7C1B-4DFF-BCEE-16CDF76002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A909F-E5B9-4F0E-9ACA-B582658888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9AA55-3E6D-4BBF-9FB3-A13E676BB0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E2012-7015-4F06-9DCB-63570EDC88A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E7213-6F6B-4076-9EB7-0D7E0C3B06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61A5C-ACF2-4907-828B-BAA0102EA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9EAF-94E1-46DF-9D8F-542C8DDAFE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50565-A526-46B9-93DC-0DB73711CE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C5AB6-B167-40EB-9669-D98D234C48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8C8C7-7EB3-4143-8444-A59F3B834B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2DCF5-E65A-41AC-A1DF-FFC115A005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34239-4DBA-4714-A3D7-8139E74E0A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E62CC-417B-48D6-AE32-8063F8F45B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777C8-929F-41ED-A8B1-9979CAA50C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9ED1D-480E-4A6F-9FD0-C230B3462C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CBB35-986D-461C-B9CD-4C9CA0D6D1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4CAF3-9760-42A3-B669-68D167C33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288B-9891-437E-8C09-3DC0425A43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FBD30-825D-4FFD-B751-2216007016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A30BD-BC09-4920-83D8-1FE442F585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A54FCE-EC19-4122-AEE6-279359224B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7F02-18C5-4819-80BB-631902F65A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2D336-B849-4C8F-B7B8-631F603F1D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0134-5D79-455F-A0EE-5CBE27ACC8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7B71-1F10-4608-93EC-E75B2DF66A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D305-C825-41B3-97A3-7CB5BCB1A9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A85D-A79D-4B9E-A159-7826FDA378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C137-E77F-464D-AE6B-9E592D01F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6DB7-B225-4BD0-97DB-61A2C49409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930E1-1830-4789-A194-CF41243738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10255-7501-4838-8ED8-452BBEC853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E816-3858-4B62-8838-13C8A0FF37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2CB1-66E6-4117-8CF9-B1D0979AE8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B918-5EE3-4554-9F56-BC5566E13A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A8348-304B-490D-AD6C-F88CBBC309E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CE888-8930-41BE-9B35-A5BA821735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51F74-F065-4AC0-9528-C860B93775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34FAC-A150-4616-938B-F37B229251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D64AB-D56F-4814-920B-3E6980AFF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700A-28DE-4148-886A-713B4A26D4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E6BE4-9200-403B-A390-F8513BFC6A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553D7-C27B-4979-AB81-A45392D255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AF931-5F89-454A-91A2-BEAA837E59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765C3-758E-4ED4-ADF0-087BA61A35B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64B27-6D51-44E8-A7B5-B2C57FC337A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CECFA-00F0-4B77-BE49-8527CB6F38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C1837-2460-44C7-ABD3-A34C309FC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E25300F1-B729-4C59-8883-B3CBBFF33A8B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357120"/>
            <a:ext cx="2357280" cy="811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CEN_CENELEC-PPT_themes_V10+elements_ExtRelations_p13_PNG24.png"/>
          <p:cNvPicPr/>
          <p:nvPr/>
        </p:nvPicPr>
        <p:blipFill>
          <a:blip r:embed="rId3"/>
          <a:srcRect l="0" t="31594" r="28738" b="32743"/>
          <a:stretch/>
        </p:blipFill>
        <p:spPr>
          <a:xfrm>
            <a:off x="0" y="1341360"/>
            <a:ext cx="6516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9968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8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Name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Desig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A5E0DBA7-7355-452E-B5E7-DF43382C8939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EN-CENELEC-PPT template_layouts_V04_logo.png"/>
          <p:cNvPicPr/>
          <p:nvPr/>
        </p:nvPicPr>
        <p:blipFill>
          <a:blip r:embed="rId3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BA9DB7F9-F7F9-475C-8AD0-AB224E231870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1B56EAF9-0392-4A67-91A9-98C0AA4002A9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D4E524D6-79CA-4A10-BF03-66305EBEB13E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29682E45-EE20-40D7-AFF5-8C40442D22C5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4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64A5E16A-54D5-42AC-B55A-5B3781B8D037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.eu/" TargetMode="External"/><Relationship Id="rId2" Type="http://schemas.openxmlformats.org/officeDocument/2006/relationships/hyperlink" Target="http://www.cenelec.eu/" TargetMode="External"/><Relationship Id="rId3" Type="http://schemas.openxmlformats.org/officeDocument/2006/relationships/hyperlink" Target="mailto:adacosta@cencenelec.eu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400500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1st MEETING OF SCC </a:t>
            </a:r>
            <a:br>
              <a:rPr sz="2000"/>
            </a:b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(Art.64 of Regulation (EU) N° 305/2011)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4724280"/>
            <a:ext cx="8454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S AND STANDARDIZATION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0004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  <a:ea typeface="Verdana"/>
              </a:rPr>
              <a:t>Amilcar d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  <a:ea typeface="Verdana"/>
              </a:rPr>
              <a:t>CEN/CENELEC Programm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  <a:ea typeface="Verdana"/>
              </a:rPr>
              <a:t>2011-07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B51-70E9-49FF-82D9-E504DD47B347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4005360"/>
            <a:ext cx="840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CPR – Impact on Europea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oad map for the adaptation of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evision of model Annex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Information to Technical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afdb"/>
                </a:solidFill>
                <a:latin typeface="Arial"/>
                <a:ea typeface="Arial"/>
              </a:rPr>
              <a:t>Thank you! – Questions?</a:t>
            </a:r>
            <a:br>
              <a:rPr sz="4000"/>
            </a:br>
            <a:endParaRPr b="0" lang="en-US" sz="4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55AF0444-9CD1-435B-B7AD-B004440B6D79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en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enelec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fdb"/>
                </a:solidFill>
                <a:latin typeface="Verdana"/>
              </a:rPr>
              <a:t>Amilcar da Costa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db"/>
                </a:solidFill>
                <a:latin typeface="Verdana"/>
              </a:rPr>
              <a:t>CEN/CENELEC Programme Manager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dacosta@cencenelec.eu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fdb"/>
                </a:solidFill>
                <a:latin typeface="Verdana"/>
              </a:rPr>
              <a:t>+32.2550.0974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</p:txBody>
      </p:sp>
      <p:pic>
        <p:nvPicPr>
          <p:cNvPr id="341" name="Picture 7" descr="MCj00787110000[1]"/>
          <p:cNvPicPr/>
          <p:nvPr/>
        </p:nvPicPr>
        <p:blipFill>
          <a:blip r:embed="rId4"/>
          <a:stretch/>
        </p:blipFill>
        <p:spPr>
          <a:xfrm>
            <a:off x="5572080" y="1571760"/>
            <a:ext cx="19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3:13Z</dcterms:created>
  <dc:creator>denmat</dc:creator>
  <dc:description/>
  <dc:language>en-US</dc:language>
  <cp:lastModifiedBy>CEN</cp:lastModifiedBy>
  <dcterms:modified xsi:type="dcterms:W3CDTF">2011-07-04T14:07:55Z</dcterms:modified>
  <cp:revision>72</cp:revision>
  <dc:subject/>
  <dc:title>Shaping European Standards</dc:title>
</cp:coreProperties>
</file>