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ftr" idx="16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 type="sldNum" idx="17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27C5-F96E-48DD-9FB6-76A87D78B732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61F9-70EE-4163-8E47-002491B9E5D4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3329-2727-496B-B826-01552B3C3264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2005 CEN – all rights reser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fld id="{72C18EE0-6F84-4522-B5CE-BC18886CB293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60B6-8503-422A-B521-46DE09D56BD9}" type="slidenum">
              <a:rPr b="0" lang="fr-B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A4A6-C39A-41BA-B0A7-D7B624530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0ADB-B57A-41B2-B2DE-C1BCCB7AF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442A-4FD1-4534-8BFC-0E62296CF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62E7-63E6-4BB8-B069-3627DA2F7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9917-647F-4F05-BCD6-2A66BA6C8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EB603-D3F7-40C5-B203-8D1C0778E6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E670E-0B3A-4C68-9EF9-DA459DD5F5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8AC0E-ABD1-444C-9614-7E5B539C86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E25A4-4E40-42B0-8EFA-7D9F113482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6D2E1-68FC-45C9-A956-6FD9EC9CE3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316C-A90D-4626-BAA3-5EDBE79AF3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274CA-C161-471A-AA25-6D1413F546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C2109-A57F-498B-A3B8-BDC02FD4D7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8743C-71FE-4E32-98F5-E62D0F5A4C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E951C-178A-485B-8FDB-C3D11A8804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62FD5-8313-4378-8E02-459BB7D414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2F9FE-8526-46DA-A4F6-AF8CF21A9F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21C66-C550-4D01-BB49-7083D40DF8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1131-2ED3-4EFF-89D7-89D42BD8FC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1CB8-9BE7-4011-81B9-5CD21AA609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052F-AD5E-4540-9A38-7291D91B1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16AC-73DF-4BB3-B715-AA4C84537A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CF50-AC34-4823-A650-337C32B1F4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576A-1D30-4CF0-BE79-E1DEABD6C5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FAEE-8D74-4DFE-82BB-90A541A723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1059-A426-435A-AA53-C265D96506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5CD1-1307-47D6-9E1F-DE31C50E37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ACE0-78E2-4E34-B02E-CB02934007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44B0-F080-494E-916E-2482BCB7A5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7AF2-55B0-4476-8983-BB7B225A62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78B2-F85A-4314-AA67-DF9241FE146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7B6CE-E1A4-4BDE-9023-7FCBBD3BC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5F10-CA73-4312-84EE-E98EB5E5A37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1F060-6AED-42BA-9556-6F81D3C30F1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727F4-4789-47C7-A17A-CC75B20E69E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E308E-FBF4-4544-BC81-A38B896BB0C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F4741-2BC2-4B8A-B066-BB89A01035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D5A1F-F749-4B19-9600-C6BC2366BF3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F54FC-341E-4437-B608-9C2F9C8AC44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2DACF-3D5E-4D8D-BABF-207E960EFA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516EA-AEF5-4161-A5A4-2F2857A5F5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5F572-4EB5-49B8-8E1A-EEBA59408E5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8DBE6-7DAD-409B-AA17-5555E89FD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BBE3-EA0F-4970-A422-624FE884302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44E53-A9E2-4F79-9C9A-BEB10099264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47083-D09A-40D3-92F3-9006C37DDA0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5E9AC-9534-4DAE-8066-023DE906B16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709B3-1049-4121-86E4-F6A24A37CF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8BDA5-9486-41D7-AE4E-ADB32A075F1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8B2D2-FB46-424B-816F-13FAA024F7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3C2F4-5C06-430B-AA20-6EB37816B5E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4814C-9280-462F-AC40-6733AF954E4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C518D-DEDF-4A4F-BA5B-D3EC4884EC9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B4F361-B554-42E2-8BE6-EDCE2EF7A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5871-6BF0-4C69-A8D8-8DE48121E66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32F772-ECC6-4A1F-AAEE-1820B847B31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E44B43-FE14-4CD6-A6C8-BA688D9D4BC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9D5D7-A244-4506-BCC0-F6B89AD2132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D2C4-FB56-4349-92B4-68196F318C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6E36C-D4D7-429C-B22C-4F8C2608481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C7A43-87BB-4A12-BFD2-223EC2CCDBC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D37B8-D258-4624-99C7-A9932FEAD9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6F81B-261F-4A7B-84F9-3556CF37551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197F-81C5-4F34-A53F-C806653465C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CB6FC-2A66-4886-9E02-79C393AAF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6284-D269-47C5-8A48-9B7336BB18A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1A2A7-7DCA-429C-A84D-90F4A55D994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4E634-3496-4B37-A0A7-42A9D581D7A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95EF-C8AD-4926-936C-5B91F198142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C52C4-7EF8-410D-9E5B-6527F1D35C4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EAAEF-C3C2-4C76-9188-1BBD3A36347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39BAD-2AB9-4689-BA8B-19BF23CA576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DBC54-23D4-4283-9595-37A82A123E0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24F89-3986-4657-BFD4-289B1FC58B2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A87A6-156B-43DD-81A9-A3AE3519A9E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50DA8-2E8E-40C6-A71E-3646381BE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1C50-27AA-4180-84EC-989FD4F6968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2FD89-07E6-44BD-9E52-D0FCF856588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DBDE9-59CE-4047-901A-AF10C57E62F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07A8C-5709-41BE-80C5-3C04C4391BF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D819F0-F04B-4780-8731-40B9E91E006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1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46299-04C4-4AAE-9CC4-C72C787DC5D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15200" y="160020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15200" y="3964320"/>
            <a:ext cx="3960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775FC-FE47-47B9-899D-8390D1B1232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0076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4680" y="160020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0076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4680" y="3964320"/>
            <a:ext cx="2612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0E37A-1595-414F-856A-4B992850C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B7EDF790-CE38-43DB-8691-B614A0231E40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357120"/>
            <a:ext cx="2357280" cy="8114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7" descr="CEN_CENELEC-PPT_themes_V10+elements_ExtRelations_p13_PNG24.png"/>
          <p:cNvPicPr/>
          <p:nvPr/>
        </p:nvPicPr>
        <p:blipFill>
          <a:blip r:embed="rId3"/>
          <a:srcRect l="0" t="31594" r="28738" b="32743"/>
          <a:stretch/>
        </p:blipFill>
        <p:spPr>
          <a:xfrm>
            <a:off x="0" y="1341360"/>
            <a:ext cx="6516720" cy="25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49968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28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Name</a:t>
            </a:r>
            <a:br>
              <a:rPr sz="2800"/>
            </a:br>
            <a:r>
              <a:rPr b="0" lang="fr-BE" sz="2800" spc="-1" strike="noStrike">
                <a:solidFill>
                  <a:srgbClr val="ffffff"/>
                </a:solidFill>
                <a:latin typeface="Verdana"/>
                <a:ea typeface="Verdana"/>
              </a:rPr>
              <a:t>Desig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4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CEN-CENELEC-PPT template_layouts_V04_logo.png"/>
          <p:cNvPicPr/>
          <p:nvPr/>
        </p:nvPicPr>
        <p:blipFill>
          <a:blip r:embed="rId2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23073EC8-C66E-4DE0-9CED-9E397C7CB84E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CEN-CENELEC-PPT template_layouts_V04_logo.png"/>
          <p:cNvPicPr/>
          <p:nvPr/>
        </p:nvPicPr>
        <p:blipFill>
          <a:blip r:embed="rId3"/>
          <a:stretch/>
        </p:blipFill>
        <p:spPr>
          <a:xfrm>
            <a:off x="6786720" y="5732640"/>
            <a:ext cx="2357280" cy="81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9C8A79A0-C8D4-43B1-939F-A65717932DF3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8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B3682154-7A48-475D-BF36-6618818492D6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0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87F4F90E-B61D-4755-8765-C4AC79BB5FA6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CEN_CENELEC-PPT_themes_standards_forMS.png"/>
          <p:cNvPicPr/>
          <p:nvPr/>
        </p:nvPicPr>
        <p:blipFill>
          <a:blip r:embed="rId2"/>
          <a:srcRect l="909" t="31877" r="71262" b="13748"/>
          <a:stretch/>
        </p:blipFill>
        <p:spPr>
          <a:xfrm>
            <a:off x="0" y="189000"/>
            <a:ext cx="8820000" cy="14968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09B54E13-8109-400A-A4F2-0996D9E7E559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3"/>
          </p:nvPr>
        </p:nvSpPr>
        <p:spPr>
          <a:xfrm>
            <a:off x="42840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898989"/>
                </a:solidFill>
                <a:latin typeface="Ve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Name of Pres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898989"/>
                </a:solidFill>
                <a:latin typeface="Vedana"/>
              </a:rPr>
              <a:t>Title  of event, date (yyyy-mm-d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fdb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afdb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afd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449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fdb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4"/>
          </p:nvPr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95a0a9"/>
                </a:solidFill>
                <a:latin typeface="Ve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2A263A71-617D-48F2-884A-6AE7E5A135B3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en.eu/" TargetMode="External"/><Relationship Id="rId2" Type="http://schemas.openxmlformats.org/officeDocument/2006/relationships/hyperlink" Target="http://www.cenelec.eu/" TargetMode="External"/><Relationship Id="rId3" Type="http://schemas.openxmlformats.org/officeDocument/2006/relationships/hyperlink" Target="mailto:adacosta@cencenelec.eu" TargetMode="Externa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0040" y="4005000"/>
            <a:ext cx="84297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1st MEETING OF SCC </a:t>
            </a:r>
            <a:br>
              <a:rPr sz="2000"/>
            </a:br>
            <a:r>
              <a:rPr b="0" lang="fr-BE" sz="2000" spc="-1" strike="noStrike">
                <a:solidFill>
                  <a:srgbClr val="d9d9d9"/>
                </a:solidFill>
                <a:latin typeface="Arial"/>
                <a:ea typeface="Arial"/>
              </a:rPr>
              <a:t>(Art.64 of Regulation (EU) N° 305/2011)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0040" y="4724280"/>
            <a:ext cx="84549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afdb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S AND STANDARDIZATION</a:t>
            </a:r>
            <a:endParaRPr b="0" lang="en-US" sz="28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500040" y="5661000"/>
            <a:ext cx="84646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  <a:ea typeface="Verdana"/>
              </a:rPr>
              <a:t>Amilcar da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  <a:ea typeface="Verdana"/>
              </a:rPr>
              <a:t>CEN/CENELEC Programme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Arial"/>
                <a:ea typeface="Verdana"/>
              </a:rPr>
              <a:t>2011-07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CE96-EED6-4866-BA47-84C9122FF2E0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4005360"/>
            <a:ext cx="8407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CPR – Impact on Europea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oad map for the adaptation of 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Revision of model Annex 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eeece1"/>
                </a:solidFill>
                <a:latin typeface="Arial"/>
                <a:ea typeface="Arial"/>
              </a:rPr>
              <a:t>Information to Technical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afdb"/>
                </a:solidFill>
                <a:latin typeface="Arial"/>
                <a:ea typeface="Arial"/>
              </a:rPr>
              <a:t>Thank you! – Questions?</a:t>
            </a:r>
            <a:br>
              <a:rPr sz="4000"/>
            </a:br>
            <a:endParaRPr b="0" lang="en-US" sz="4000" spc="-1" strike="noStrike">
              <a:solidFill>
                <a:srgbClr val="00afdb"/>
              </a:solidFill>
              <a:latin typeface="Verdan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786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 </a:t>
            </a:r>
            <a:r>
              <a:rPr b="0" lang="fr-BE" sz="900" spc="-1" strike="noStrike">
                <a:solidFill>
                  <a:srgbClr val="95a0a9"/>
                </a:solidFill>
                <a:latin typeface="Vedana"/>
              </a:rPr>
              <a:t>© CEN-CENELEC 2010  </a:t>
            </a:r>
            <a:fld id="{19481B27-0830-4034-8D13-232AB5A8AFB4}" type="slidenum">
              <a:rPr b="0" lang="fr-BE" sz="900" spc="-1" strike="noStrike">
                <a:solidFill>
                  <a:srgbClr val="95a0a9"/>
                </a:solidFill>
                <a:latin typeface="Ve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en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cenelec.eu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fdb"/>
                </a:solidFill>
                <a:latin typeface="Verdana"/>
              </a:rPr>
              <a:t>Amilcar da Costa</a:t>
            </a:r>
            <a:endParaRPr b="0" lang="en-US" sz="24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afdb"/>
                </a:solidFill>
                <a:latin typeface="Verdana"/>
              </a:rPr>
              <a:t>CEN/CENELEC Programme Manager</a:t>
            </a:r>
            <a:endParaRPr b="0" lang="en-US" sz="20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adacosta@cencenelec.eu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afdb"/>
                </a:solidFill>
                <a:latin typeface="Verdana"/>
              </a:rPr>
              <a:t>+32.2550.0974</a:t>
            </a:r>
            <a:endParaRPr b="0" lang="en-US" sz="1800" spc="-1" strike="noStrike">
              <a:solidFill>
                <a:srgbClr val="00afdb"/>
              </a:solidFill>
              <a:latin typeface="Verdana"/>
            </a:endParaRPr>
          </a:p>
        </p:txBody>
      </p:sp>
      <p:pic>
        <p:nvPicPr>
          <p:cNvPr id="341" name="Picture 7" descr="MCj00787110000[1]"/>
          <p:cNvPicPr/>
          <p:nvPr/>
        </p:nvPicPr>
        <p:blipFill>
          <a:blip r:embed="rId4"/>
          <a:stretch/>
        </p:blipFill>
        <p:spPr>
          <a:xfrm>
            <a:off x="5572080" y="1571760"/>
            <a:ext cx="1900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8:03:13Z</dcterms:created>
  <dc:creator>denmat</dc:creator>
  <dc:description/>
  <dc:language>en-US</dc:language>
  <cp:lastModifiedBy>CEN</cp:lastModifiedBy>
  <dcterms:modified xsi:type="dcterms:W3CDTF">2011-07-04T14:07:55Z</dcterms:modified>
  <cp:revision>72</cp:revision>
  <dc:subject/>
  <dc:title>Shaping European Standards</dc:title>
</cp:coreProperties>
</file>