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9EDA-59B7-4515-91CA-66E925561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5F6-42CD-4082-92CD-44608C0A61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966D-8F84-404D-B33A-D3A68D28F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7242-DD93-438A-8022-B074E6C89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3142-6A6F-41DC-97F1-D793E7495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A073-D337-4A91-81F7-87E6EAA37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0B5C4-B5CC-4772-A6AD-CC27DA0B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3FF2D-7DC3-4778-8768-CAD070D2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DAF2E-60DE-460F-AA66-647DCAE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EAE05-BA75-4619-A824-FC95E43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A935E-D39B-43AA-99C5-F90544B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87FF9-0ABF-4DE4-BD1F-36590D34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D7A4F-18F5-43AA-A019-105A313E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093F-5A6F-4CA4-B6E4-024E6B87E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300A3-0068-489E-B6BF-3A7E7DA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A59A7-1826-4C8F-8700-65F3825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B613-4232-434B-A1E5-82FFC742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B40F6-3038-4F85-AB61-27901595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C2D95-94A6-4722-B061-C4567682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D8AD7-7FD0-4EBC-B0A7-79336F7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D2109-A239-4F4B-AEC6-7470438F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2D346-E339-46B0-82C0-FE09D21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F7769A-D66B-4822-91CA-1D8DD30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6B61B-7FD9-4791-B973-733A6E45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B621-61B3-4DDD-AFEA-00CD9F9A38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23A65-FBB7-4699-9CB5-6401F609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EDFDF-6DC6-40F9-9CF8-1726224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0ECFF-C376-43BB-996E-6C6FB3F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5BA4E5-8357-4E4B-8D98-0CB1E5C3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EC4825-210D-43C2-A9C2-0A1963C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512A6-1D4A-4646-BC51-1A74A130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81267D-5D4B-4A5A-9654-A289B849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89819-CD95-42C5-A73A-6D23C13B5A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5A7F2-A574-417E-BBE4-BE45E3B925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8CB59-E2DB-4BB7-B2FC-A421A8F5D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D56B-C80E-4E4B-A7DB-F882B67027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B1CB5-BEAB-49F7-B183-128374EB21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0370A-2C72-470C-9C11-8BD6C21CAA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4ABB5-90DD-4396-801C-AB9244B75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22CEB-E3BC-443E-A413-6A6072986D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7EEEE-76B7-4C15-9F49-C2ECC0DBC8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62BD9-159C-46B5-B5D1-1786DE1A7B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F18D1-9897-42DB-8466-9A7D7E4470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9B81F-6A76-405B-9E6B-DCB09FDAEF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DBBFC-CD0D-4EF1-A336-DB5390EFB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0209-F7DA-4400-ABD8-31578481B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67F3E-5A59-4F0B-BC33-0814DA285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03CA-C7CA-488F-96A0-3ED7E8E6D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3525-4D1D-4E32-BC56-432A6F71D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95C9-7AA9-4866-A28B-019D94C35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CAA7-4A0A-4F2A-A5C2-0EDB5A50546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A5DE-D998-4138-A236-AC679DEE58E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A5E-C68B-44F7-B755-E55A5F96E8D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13D1-3086-47A6-BAB3-2288541747B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2781360"/>
            <a:ext cx="807264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ruction Products Regula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ights and obligations of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5FB-546A-4156-81CC-A83655729D4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73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rovide a clear, complete and reliable information on products placed on the market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ame obligation for all manufacturers (&amp; importers) in Europ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claration of performance (DoP) for a product covered by an hEN or an ET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the “product-type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rawn up a Do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upply the DoP with the produc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E9FD-EA73-46CB-A80B-1B79D3EE211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echnical documentation 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Description of all the relevant elements related to the assessment and verification of constancy of performan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Kept 10 years, up-dated, provided on the request of authoriti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E Marking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ffixed on the product, or a label, or the packaging or accompanying documents (art 9.1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llowed by additional information, including “level and class declared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rket Surveill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ooperate in case of request, providing all the elements abov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In case of doubt or non conform product: correct, inform, cooperate (Art 11.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7-8, 56.1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856-79AF-4461-8EA6-D950B046EBF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Obligation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4200" y="1456920"/>
            <a:ext cx="87868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claration of Performance (DoP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ossible derogations (art 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NPD option (no test!) where essential characteristic is not regulated (art 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Draw up the DoP on the basis of existing CE marking affixed under CPD (art 6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Determination of Product-type: Simplified procedures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Deemed to satisfy procedure (Art 27.5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WT/WFT, Shared IT, Cascading (Art 36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icro-enterprises turning system 3 into system 4 (Rec 27, Art 3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s individually manufactured turning system 3 into system 4 (Art 38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European Technical Assessmen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Request an ETA when hENs do not allow to assess the product (Art 19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or ETAs issued before 1/07/2013, EADs consistent with existing ETAGs/CUAP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 algn="just">
              <a:spcBef>
                <a:spcPts val="125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duct Contact Points (Rec 42-44, Art 10), Information campaigns (Rec 54)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113148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63A-B520-4C64-86FE-6324478092A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PR: Right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2:28Z</dcterms:modified>
  <cp:revision>599</cp:revision>
  <dc:subject/>
  <dc:title>Aucun titre de diapositive</dc:title>
</cp:coreProperties>
</file>