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D03-3D7E-478B-AC7E-958CCA4E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D40-8677-4BD2-892F-624A649B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294-8519-4C2E-A011-6C67B2A0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D83-7EF7-4AF2-8F39-71FAAE8A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127-A245-47F2-B8BB-10405D56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1D2-5538-4335-8AB3-6C1CF3A7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E0A-3EDD-4C95-9D85-3F1C0B6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4C0-9862-455B-A174-98AEF38D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D09-8D6D-456C-9D0A-67B6A757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41B-2D6D-4995-B40B-114D4870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C7A-7BB4-4D3F-AE04-B9CC9EA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F8F-E78A-4CDA-8BD5-84C7AD0A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760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279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d2760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C51-5C02-4EC6-B469-43537FC81438}" type="slidenum">
              <a:rPr b="1" lang="en-US" sz="1000" spc="-1" strike="noStrike">
                <a:solidFill>
                  <a:srgbClr val="d2760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08000" y="6353280"/>
          <a:ext cx="1008000" cy="38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6353280"/>
                    <a:ext cx="1008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Market Surveillance for 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r. Rainer Mikulits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hairman AdCo MS-CP</a:t>
            </a:r>
            <a:endParaRPr b="1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General Framework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C) Nr. 765/2008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General Provisions and obligations of Member Stat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Procedures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Products presenting a serious risk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RAPEX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General information support system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ontrol of imports from third countr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Cooperation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Exchange of information and mutual assistance of Market Surveillance Authoriti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Sharing of resources (training programmes, exchange of experiences, information campaigns)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690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27606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79f"/>
                </a:solidFill>
                <a:latin typeface="Tahoma"/>
              </a:rPr>
              <a:t>Regulation (EU) No 305/2011</a:t>
            </a:r>
            <a:endParaRPr b="1" lang="en-US" sz="2400" spc="-1" strike="noStrike">
              <a:solidFill>
                <a:srgbClr val="00279f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Specific provisions regarding Construction Products (Art. 56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Action pursuant Art. 20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t only „products presenting a serious risk“, but also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Products which do not achieve the declared performance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and present a </a:t>
            </a:r>
            <a:r>
              <a:rPr b="0" lang="en-GB" sz="1800" spc="-1" strike="noStrike" u="sng">
                <a:solidFill>
                  <a:srgbClr val="00279f"/>
                </a:solidFill>
                <a:uFillTx/>
                <a:latin typeface="Tahoma"/>
              </a:rPr>
              <a:t>risk for the fulfilment of the basic requirements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“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valuation, benchmark are the requirements of the CPR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nformation of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hen non-compliance is not limited to the own Member Sta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cc. to Art. 21 (EC-Regulation 765/2008)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Corrective actions – to bring the product into compliance</a:t>
            </a:r>
            <a:br>
              <a:rPr sz="1800"/>
            </a:b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„notably with the declared performance“ – before measures ar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formation of Notified Body (if involved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eedback loop and Safeguard Procedure (Art. 57)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arket Surveillance Authority informs EC and Member States about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details of the cas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(restrictive) measures to be taken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reason for non-compliance (“bad product” or “bad specifications”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Restrictive measures are only “provisional” during 15 days reaction time for EC and Member States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objections are raised </a:t>
            </a:r>
            <a:r>
              <a:rPr b="0" lang="en-GB" sz="20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 Safeguard Procedure acc. to Art. 57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consults Member States and economic operator(s)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evaluates the (provisional) national measures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EC decides whether justified or not 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If “bad specification”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hE information of CEN an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Committee 98/34/E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in case of EAD </a:t>
            </a:r>
            <a:r>
              <a:rPr b="0" lang="en-GB" sz="1800" spc="-1" strike="noStrike">
                <a:solidFill>
                  <a:srgbClr val="00279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 SCC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Formal non-compliance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Cases acc. to Art. 59: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CE marking although there is a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CE marking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no declaration of performance although required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wrong declaration of performanc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279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79f"/>
                </a:solidFill>
                <a:latin typeface="Tahoma"/>
              </a:rPr>
              <a:t>technical documentation missing or incomplete</a:t>
            </a:r>
            <a:endParaRPr b="0" lang="en-US" sz="18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Member State (sic!) shall require the economic operator to put an end to the non-compliance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Otherwise the Member State shall take appropriate measures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d27606"/>
                </a:solidFill>
                <a:latin typeface="Tahoma"/>
              </a:rPr>
              <a:t>Construction Products</a:t>
            </a:r>
            <a:endParaRPr b="1" lang="en-US" sz="3600" spc="-1" strike="noStrike">
              <a:solidFill>
                <a:srgbClr val="d2760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d2760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79f"/>
                </a:solidFill>
                <a:latin typeface="Tahoma"/>
              </a:rPr>
              <a:t>Open questions:</a:t>
            </a:r>
            <a:endParaRPr b="0" lang="en-US" sz="22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(“feedback loop”) apply to cases of Art. 59.2 (measures in case of formal non-conformity) in analogy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Does the procedure according to Art. 56.4 also apply to cases where the non-conformity is limited to the national territory of the market surveillance authority concerned?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79f"/>
                </a:solidFill>
                <a:latin typeface="Tahoma"/>
              </a:rPr>
              <a:t>What is the purpose and meaning of Art. 58 (complying construction products which nevertheless present a risk to health and safety)? </a:t>
            </a:r>
            <a:endParaRPr b="0" lang="en-US" sz="2000" spc="-1" strike="noStrike">
              <a:solidFill>
                <a:srgbClr val="00279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ac3"/>
            </a:gs>
            <a:gs pos="100000">
              <a:srgbClr val="c9d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440" y="2654280"/>
            <a:ext cx="88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ff33"/>
                </a:solidFill>
                <a:latin typeface="Tahoma"/>
              </a:rPr>
              <a:t>Thank you very much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2:33:31Z</dcterms:created>
  <dc:creator>Rainer Mikulits</dc:creator>
  <dc:description/>
  <dc:language>en-US</dc:language>
  <cp:lastModifiedBy>katsage</cp:lastModifiedBy>
  <dcterms:modified xsi:type="dcterms:W3CDTF">2011-07-04T07:20:16Z</dcterms:modified>
  <cp:revision>8</cp:revision>
  <dc:subject/>
  <dc:title>Market Surveillance for Construction Products</dc:title>
</cp:coreProperties>
</file>