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dt" idx="9"/>
          </p:nvPr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EPMC General Assemb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sldImg"/>
          </p:nvPr>
        </p:nvSpPr>
        <p:spPr>
          <a:xfrm>
            <a:off x="918720" y="744120"/>
            <a:ext cx="496116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ftr" idx="10"/>
          </p:nvPr>
        </p:nvSpPr>
        <p:spPr>
          <a:xfrm>
            <a:off x="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 type="sldNum" idx="11"/>
          </p:nvPr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2ED33-B7FD-40FB-8D41-E90BD3F3B81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3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EPMC General Assemb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7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79C3D-12F0-414F-9A66-2C73A75A287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048AD5-41F5-4B2F-92FF-011D5F3C63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736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28240" y="3856320"/>
            <a:ext cx="8736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B2DB23-F359-4FE7-9123-87188CC95B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28240" y="385632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04840" y="385632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35B59A-DCA5-42D8-91D2-9A46251840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82040" y="159984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135480" y="159984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228240" y="385632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82040" y="385632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135480" y="385632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01AC62-BA94-45B5-8E6E-96BEAA44F6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FDBEE6-068B-4960-8954-9735234BA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228240" y="1599840"/>
            <a:ext cx="87361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73D39C-5916-47D3-A5AC-6A63A1A4C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736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2D9E96-1371-43B5-A33C-3CA267BE4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4E7B6C-38E0-4EF1-A0A7-44D41B531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C14236-735E-4758-AD1A-04A119FC7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250560" y="907920"/>
            <a:ext cx="8713800" cy="236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AA1FBC-A5BA-4F99-BA42-647F3D0E5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228240" y="385632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CA26E5-8F05-47F7-A75C-814D8A9AA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228240" y="1599840"/>
            <a:ext cx="87361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426D84-2A38-42C7-A293-E919ED96C9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704840" y="385632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2DCB51-229A-4B28-8FBC-3DF8B5BE9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28240" y="3856320"/>
            <a:ext cx="8736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4A1797-F014-4F27-8AE5-009BB8EEF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736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228240" y="3856320"/>
            <a:ext cx="8736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8B8049-61F3-439B-9723-EE992521F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228240" y="385632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704840" y="385632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CE5737-2A91-404D-84AC-B45B86B2D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182040" y="159984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135480" y="159984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228240" y="385632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182040" y="385632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135480" y="385632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DD5CF4-03D5-49E9-9C49-B687AE245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9C93C96-FAA9-4C96-91A5-907305F81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228240" y="1599840"/>
            <a:ext cx="87361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143EC66-9ED7-4F39-B10D-22A55B06C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736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3EBBD4D-9BF5-423B-BD55-23CA3FC2C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944F98F-0348-45CE-B88A-5891CC186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E5B1C38-D8EE-4683-BA71-DF4AEAE67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736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5AFCA1-6E9F-4B74-B394-198E199E346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250560" y="907920"/>
            <a:ext cx="8713800" cy="236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6846E28-30D0-4F54-B386-C3C6B5C40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228240" y="385632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F3A4A1C-EBC8-469F-98BF-8CAF80CBF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704840" y="385632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83899A2-38FB-47E2-971D-5398005CC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228240" y="3856320"/>
            <a:ext cx="8736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49DC89B-CEE5-45D2-BF57-372690BD7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736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228240" y="3856320"/>
            <a:ext cx="8736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7C6D60C-E468-4343-8CD2-7AB4DFB0E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228240" y="385632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704840" y="385632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A607952-5282-4FB8-8FA3-5F557019A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182040" y="159984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135480" y="159984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228240" y="385632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182040" y="385632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135480" y="385632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0CA2783-CB89-41B2-95C8-6462141D9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E204EF0-7B3E-4DB1-865C-4B5B6900CBFE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228240" y="1599840"/>
            <a:ext cx="87361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546A62C-488F-4D0B-95CF-2F53CD62359E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736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F54792-E3F4-40EC-A967-B48A4833EC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519382-3F0C-4E14-B524-F19EC776866A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9801484-0208-45A9-9EFF-8CE195AF4161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B9B8011-9EAB-420E-8588-30D81B8A2A06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250560" y="907920"/>
            <a:ext cx="8713800" cy="236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CFFFBF5-B924-4A33-AF9E-FB5EA24839AF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228240" y="385632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4D612BC-38FC-4136-99A1-A6BB10B62C47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04840" y="385632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37C6EA4-6771-4925-BDD1-AB3E668D05B9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228240" y="3856320"/>
            <a:ext cx="8736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A9442BA-DD05-4E42-B9EE-1FC6FDE94942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736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228240" y="3856320"/>
            <a:ext cx="8736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14DF980-395F-4EA9-992C-16F1F9EFE4F3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228240" y="385632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04840" y="385632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D2CA3CA-227F-459F-B666-D46B2B9FB233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182040" y="159984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35480" y="159984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228240" y="385632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182040" y="385632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35480" y="385632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E5A9E7D-E2BD-4FA0-8A70-A3E08DB8A9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463529-F7C3-42F6-8A5C-E286239274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250560" y="907920"/>
            <a:ext cx="8713800" cy="236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BBD35A-3324-4143-9B21-A2C968B99C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228240" y="385632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401C93-B177-4140-AFC4-2B2496196A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704840" y="385632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6961CB-5215-488A-9FCE-0C8C76B242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28240" y="3856320"/>
            <a:ext cx="8736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05B04C-70AA-40E7-B706-D9DCC42C08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0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sldNum" idx="1"/>
          </p:nvPr>
        </p:nvSpPr>
        <p:spPr>
          <a:xfrm>
            <a:off x="7238880" y="655272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4B269-F2F6-45BD-AC1A-39973BBFA501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2"/>
          <p:cNvSpPr/>
          <p:nvPr/>
        </p:nvSpPr>
        <p:spPr>
          <a:xfrm>
            <a:off x="3960" y="6613560"/>
            <a:ext cx="826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5 July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13"/>
          <p:cNvSpPr/>
          <p:nvPr/>
        </p:nvSpPr>
        <p:spPr>
          <a:xfrm>
            <a:off x="0" y="0"/>
            <a:ext cx="9144000" cy="836640"/>
          </a:xfrm>
          <a:prstGeom prst="rect">
            <a:avLst/>
          </a:prstGeom>
          <a:solidFill>
            <a:srgbClr val="ecb9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14" descr=""/>
          <p:cNvPicPr/>
          <p:nvPr/>
        </p:nvPicPr>
        <p:blipFill>
          <a:blip r:embed="rId2"/>
          <a:stretch/>
        </p:blipFill>
        <p:spPr>
          <a:xfrm>
            <a:off x="179280" y="49320"/>
            <a:ext cx="1241640" cy="715680"/>
          </a:xfrm>
          <a:prstGeom prst="rect">
            <a:avLst/>
          </a:prstGeom>
          <a:ln w="0">
            <a:noFill/>
          </a:ln>
        </p:spPr>
      </p:pic>
      <p:sp>
        <p:nvSpPr>
          <p:cNvPr id="5" name="Text Box 16"/>
          <p:cNvSpPr/>
          <p:nvPr/>
        </p:nvSpPr>
        <p:spPr>
          <a:xfrm>
            <a:off x="1547640" y="44280"/>
            <a:ext cx="6096240" cy="74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C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ouncil of 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E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uropean 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P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roducers of 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M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aterials for 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C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onstructio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C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onseil 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E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uropéen des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 P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roducteurs de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 M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atériaux de 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C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onstructio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V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ereinigung 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E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uropäischer 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B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austoffherstell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17"/>
          <p:cNvSpPr/>
          <p:nvPr/>
        </p:nvSpPr>
        <p:spPr>
          <a:xfrm>
            <a:off x="0" y="836640"/>
            <a:ext cx="9144000" cy="647640"/>
          </a:xfrm>
          <a:prstGeom prst="rect">
            <a:avLst/>
          </a:prstGeom>
          <a:solidFill>
            <a:srgbClr val="eadd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body"/>
          </p:nvPr>
        </p:nvSpPr>
        <p:spPr>
          <a:xfrm>
            <a:off x="228240" y="1599840"/>
            <a:ext cx="8736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1375"/>
              </a:spcBef>
              <a:buClr>
                <a:srgbClr val="8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1375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 algn="just">
              <a:spcBef>
                <a:spcPts val="1375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  <a:p>
            <a:pPr lvl="3" marL="1562040" indent="-228600" algn="just">
              <a:spcBef>
                <a:spcPts val="1375"/>
              </a:spcBef>
              <a:buClr>
                <a:srgbClr val="808080"/>
              </a:buClr>
              <a:buSzPct val="75000"/>
              <a:buFont typeface="ZapfDingbats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  <a:p>
            <a:pPr lvl="4" marL="1981080" indent="-228600" algn="just">
              <a:spcBef>
                <a:spcPts val="1375"/>
              </a:spcBef>
              <a:buClr>
                <a:srgbClr val="5f5f5f"/>
              </a:buClr>
              <a:buFont typeface="Symbol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  <a:p>
            <a:pPr lvl="5" marL="1981080" indent="-228600" algn="just">
              <a:spcBef>
                <a:spcPts val="1375"/>
              </a:spcBef>
              <a:buClr>
                <a:srgbClr val="000000"/>
              </a:buClr>
              <a:buFont typeface="Symbol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  <a:p>
            <a:pPr lvl="6" marL="1981080" indent="-228600" algn="just">
              <a:spcBef>
                <a:spcPts val="1375"/>
              </a:spcBef>
              <a:buClr>
                <a:srgbClr val="000000"/>
              </a:buClr>
              <a:buFont typeface="Symbol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Text Box 21"/>
          <p:cNvSpPr/>
          <p:nvPr/>
        </p:nvSpPr>
        <p:spPr>
          <a:xfrm>
            <a:off x="0" y="6629400"/>
            <a:ext cx="9144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ffffff"/>
                </a:solidFill>
                <a:latin typeface="Arial"/>
              </a:rPr>
              <a:t>CEPMC | Boulevard du Souverain 68 - B-1170 Brussels | Tel: +32 (0)2 645 52 07 | info@cepmc.org | www.cepmc.or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15/04/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E1740-4AD1-4B20-909A-E2CC98DAA58C}" type="slidenum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15/04/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30A9F-35AC-4345-BBA7-F6C9050C1828}" type="slidenum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10"/>
          <p:cNvSpPr/>
          <p:nvPr/>
        </p:nvSpPr>
        <p:spPr>
          <a:xfrm>
            <a:off x="0" y="927000"/>
            <a:ext cx="910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d55031"/>
                </a:solidFill>
                <a:latin typeface="Arial"/>
              </a:rPr>
              <a:t>CPD Working Gro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13"/>
          <p:cNvSpPr/>
          <p:nvPr/>
        </p:nvSpPr>
        <p:spPr>
          <a:xfrm>
            <a:off x="7385040" y="404640"/>
            <a:ext cx="1219320" cy="292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GA 08-0A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14"/>
          <p:cNvSpPr/>
          <p:nvPr/>
        </p:nvSpPr>
        <p:spPr>
          <a:xfrm>
            <a:off x="0" y="0"/>
            <a:ext cx="9144000" cy="836640"/>
          </a:xfrm>
          <a:prstGeom prst="rect">
            <a:avLst/>
          </a:prstGeom>
          <a:solidFill>
            <a:srgbClr val="ecb9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15"/>
          <p:cNvSpPr/>
          <p:nvPr/>
        </p:nvSpPr>
        <p:spPr>
          <a:xfrm>
            <a:off x="1547640" y="44280"/>
            <a:ext cx="6096240" cy="74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C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ouncil of 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E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uropean 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P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roducers of 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M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aterials for 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C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onstructio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C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onseil 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E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uropéen des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 P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roducteurs de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 M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atériaux de 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C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onstructio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V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ereinigung 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E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uropäischer 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B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austoffherstell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16" descr=""/>
          <p:cNvPicPr/>
          <p:nvPr/>
        </p:nvPicPr>
        <p:blipFill>
          <a:blip r:embed="rId2"/>
          <a:stretch/>
        </p:blipFill>
        <p:spPr>
          <a:xfrm>
            <a:off x="179280" y="49320"/>
            <a:ext cx="1241640" cy="71568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17"/>
          <p:cNvSpPr/>
          <p:nvPr/>
        </p:nvSpPr>
        <p:spPr>
          <a:xfrm>
            <a:off x="0" y="836640"/>
            <a:ext cx="9144000" cy="647640"/>
          </a:xfrm>
          <a:prstGeom prst="rect">
            <a:avLst/>
          </a:prstGeom>
          <a:solidFill>
            <a:srgbClr val="eadd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19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1371600" y="6600960"/>
            <a:ext cx="6324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CEPMC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 | </a:t>
            </a:r>
            <a:r>
              <a:rPr b="0" lang="fr-FR" sz="900" spc="-1" strike="noStrike">
                <a:solidFill>
                  <a:srgbClr val="ffffff"/>
                </a:solidFill>
                <a:latin typeface="Arial"/>
              </a:rPr>
              <a:t>Boulevard du Souverain 68 - B-1170 Brussels | </a:t>
            </a:r>
            <a:r>
              <a:rPr b="0" lang="de-DE" sz="900" spc="-1" strike="noStrike">
                <a:solidFill>
                  <a:srgbClr val="ffffff"/>
                </a:solidFill>
                <a:latin typeface="Arial"/>
              </a:rPr>
              <a:t>Tel: +32 (0)2 645 52 07 | info@cepmc.org | www.cepmc.or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21"/>
          <p:cNvSpPr/>
          <p:nvPr/>
        </p:nvSpPr>
        <p:spPr>
          <a:xfrm>
            <a:off x="214200" y="907920"/>
            <a:ext cx="878688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228240" y="1599840"/>
            <a:ext cx="8736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1375"/>
              </a:spcBef>
              <a:buClr>
                <a:srgbClr val="8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1375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 algn="just">
              <a:spcBef>
                <a:spcPts val="1375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  <a:p>
            <a:pPr lvl="3" marL="1562040" indent="-228600" algn="just">
              <a:spcBef>
                <a:spcPts val="1375"/>
              </a:spcBef>
              <a:buClr>
                <a:srgbClr val="808080"/>
              </a:buClr>
              <a:buSzPct val="75000"/>
              <a:buFont typeface="ZapfDingbats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  <a:p>
            <a:pPr lvl="4" marL="1981080" indent="-228600" algn="just">
              <a:spcBef>
                <a:spcPts val="1375"/>
              </a:spcBef>
              <a:buClr>
                <a:srgbClr val="5f5f5f"/>
              </a:buClr>
              <a:buFont typeface="Symbol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  <a:p>
            <a:pPr lvl="5" marL="1981080" indent="-228600" algn="just">
              <a:spcBef>
                <a:spcPts val="1375"/>
              </a:spcBef>
              <a:buClr>
                <a:srgbClr val="000000"/>
              </a:buClr>
              <a:buFont typeface="Symbol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  <a:p>
            <a:pPr lvl="6" marL="1981080" indent="-228600" algn="just">
              <a:spcBef>
                <a:spcPts val="1375"/>
              </a:spcBef>
              <a:buClr>
                <a:srgbClr val="000000"/>
              </a:buClr>
              <a:buFont typeface="Symbol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sldNum" idx="8"/>
          </p:nvPr>
        </p:nvSpPr>
        <p:spPr>
          <a:xfrm>
            <a:off x="7238880" y="655272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48AB1-D292-447D-B2B1-0AE45C2C6CC9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14240" y="2781360"/>
            <a:ext cx="8072640" cy="14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Construction Products Regulation</a:t>
            </a:r>
            <a:br>
              <a:rPr sz="2800"/>
            </a:br>
            <a:br>
              <a:rPr sz="2800"/>
            </a:br>
            <a:r>
              <a:rPr b="1" i="1" lang="en-US" sz="2800" spc="-1" strike="noStrike">
                <a:solidFill>
                  <a:srgbClr val="cc3300"/>
                </a:solidFill>
                <a:latin typeface="Arial"/>
              </a:rPr>
              <a:t>Rights and obligations of manufacturers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1371600" y="5843160"/>
            <a:ext cx="6400800" cy="4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f5f5f"/>
                </a:solidFill>
                <a:latin typeface="Arial"/>
              </a:rPr>
              <a:t>Pascal Bar &amp; Gildas Guillevic</a:t>
            </a:r>
            <a:endParaRPr b="1" lang="en-US" sz="2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5" name="Espace réservé du numéro de diapositive 6"/>
          <p:cNvSpPr/>
          <p:nvPr/>
        </p:nvSpPr>
        <p:spPr>
          <a:xfrm>
            <a:off x="7238880" y="655308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B1244-F2B2-494D-BB61-2435F02E2745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3"/>
          <p:cNvSpPr/>
          <p:nvPr/>
        </p:nvSpPr>
        <p:spPr>
          <a:xfrm>
            <a:off x="1357200" y="4929120"/>
            <a:ext cx="6400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5f5f5f"/>
                </a:solidFill>
                <a:latin typeface="Arial"/>
              </a:rPr>
              <a:t>st</a:t>
            </a: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 SCC meeting on 5</a:t>
            </a:r>
            <a:r>
              <a:rPr b="0" lang="en-US" sz="2000" spc="-1" strike="noStrike" baseline="30000">
                <a:solidFill>
                  <a:srgbClr val="5f5f5f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 July 20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250920" y="1483920"/>
            <a:ext cx="87357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1001"/>
              </a:spcBef>
              <a:buClr>
                <a:srgbClr val="8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5f5f5f"/>
                </a:solidFill>
                <a:latin typeface="Arial"/>
              </a:rPr>
              <a:t>Provide a clear, complete and reliable information on products placed on the market</a:t>
            </a:r>
            <a:endParaRPr b="1" lang="en-US" sz="1600" spc="-1" strike="noStrike">
              <a:solidFill>
                <a:srgbClr val="5f5f5f"/>
              </a:solidFill>
              <a:latin typeface="Arial"/>
            </a:endParaRPr>
          </a:p>
          <a:p>
            <a:pPr lvl="1" marL="727920" indent="-280080" algn="just">
              <a:spcBef>
                <a:spcPts val="437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5f5f5f"/>
                </a:solidFill>
                <a:latin typeface="Arial"/>
              </a:rPr>
              <a:t>Same obligation for all manufacturers (&amp; importers) in Europe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 marL="335880" indent="-335880" algn="just">
              <a:spcBef>
                <a:spcPts val="1001"/>
              </a:spcBef>
              <a:buClr>
                <a:srgbClr val="8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5f5f5f"/>
                </a:solidFill>
                <a:latin typeface="Arial"/>
              </a:rPr>
              <a:t>Declaration of performance (DoP) for a product covered by an hEN or an ETA</a:t>
            </a:r>
            <a:endParaRPr b="1" lang="en-US" sz="1600" spc="-1" strike="noStrike">
              <a:solidFill>
                <a:srgbClr val="5f5f5f"/>
              </a:solidFill>
              <a:latin typeface="Arial"/>
            </a:endParaRPr>
          </a:p>
          <a:p>
            <a:pPr lvl="1" marL="727920" indent="-280080" algn="just">
              <a:spcBef>
                <a:spcPts val="437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5f5f5f"/>
                </a:solidFill>
                <a:latin typeface="Arial"/>
              </a:rPr>
              <a:t>Determination of the “product-type”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 lvl="2" marL="1119960" indent="-223920" algn="just">
              <a:spcBef>
                <a:spcPts val="300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5f5f5f"/>
                </a:solidFill>
                <a:latin typeface="Arial"/>
              </a:rPr>
              <a:t>Assessment of the product performances in relation to the essential characteristics relevant for the intended use (Recital 28, Articles 4, 11)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lvl="3" marL="1530720" indent="-223920" algn="just">
              <a:spcBef>
                <a:spcPts val="249"/>
              </a:spcBef>
              <a:buClr>
                <a:srgbClr val="808080"/>
              </a:buClr>
              <a:buSzPct val="75000"/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5f5f5f"/>
                </a:solidFill>
                <a:latin typeface="Arial"/>
              </a:rPr>
              <a:t>With the use of European methods and involvement of a Notified Body for systems 1+, 1, 2+ et 3 (Annex V) 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 lvl="2" marL="1119960" indent="-223920" algn="just">
              <a:spcBef>
                <a:spcPts val="300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5f5f5f"/>
                </a:solidFill>
                <a:latin typeface="Arial"/>
              </a:rPr>
              <a:t>Implementation of a FPC in any case, complying with the requirements detailed in hEN/ETA (Annex V)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lvl="3" marL="1530720" indent="-223920" algn="just">
              <a:spcBef>
                <a:spcPts val="249"/>
              </a:spcBef>
              <a:buClr>
                <a:srgbClr val="808080"/>
              </a:buClr>
              <a:buSzPct val="75000"/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5f5f5f"/>
                </a:solidFill>
                <a:latin typeface="Arial"/>
              </a:rPr>
              <a:t>Verification of constancy of performances, involving a Notified Body for systems 1+, 1, 2+ (Annex V)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 lvl="1" marL="727920" indent="-280080" algn="just">
              <a:spcBef>
                <a:spcPts val="437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5f5f5f"/>
                </a:solidFill>
                <a:latin typeface="Arial"/>
              </a:rPr>
              <a:t>Drawn up a DoP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 lvl="2" marL="1119960" indent="-223920" algn="just">
              <a:spcBef>
                <a:spcPts val="300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5f5f5f"/>
                </a:solidFill>
                <a:latin typeface="Arial"/>
              </a:rPr>
              <a:t>Performances by levels or classes, for each essential characteristic listed in hEN/ETA and relevant for the declared intended use (Art 6.3)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lvl="2" marL="1119960" indent="-223920" algn="just">
              <a:spcBef>
                <a:spcPts val="300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5f5f5f"/>
                </a:solidFill>
                <a:latin typeface="Arial"/>
              </a:rPr>
              <a:t>NPD option for characteristics not subject of any regulatory requirement where the product is used, but </a:t>
            </a:r>
            <a:r>
              <a:rPr b="1" lang="en-US" sz="1200" spc="-1" strike="noStrike">
                <a:solidFill>
                  <a:srgbClr val="5f5f5f"/>
                </a:solidFill>
                <a:latin typeface="Arial"/>
              </a:rPr>
              <a:t>n</a:t>
            </a:r>
            <a:r>
              <a:rPr b="1" lang="en-GB" sz="1200" spc="-1" strike="noStrike">
                <a:solidFill>
                  <a:srgbClr val="5f5f5f"/>
                </a:solidFill>
                <a:latin typeface="Arial"/>
              </a:rPr>
              <a:t>o </a:t>
            </a:r>
            <a:r>
              <a:rPr b="1" lang="en-US" sz="1200" spc="-1" strike="noStrike">
                <a:solidFill>
                  <a:srgbClr val="5f5f5f"/>
                </a:solidFill>
                <a:latin typeface="Arial"/>
              </a:rPr>
              <a:t>empty DoP (</a:t>
            </a:r>
            <a:r>
              <a:rPr b="1" lang="en-GB" sz="1200" spc="-1" strike="noStrike">
                <a:solidFill>
                  <a:srgbClr val="5f5f5f"/>
                </a:solidFill>
                <a:latin typeface="Arial"/>
              </a:rPr>
              <a:t>Art 6.3)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lvl="2" marL="1119960" indent="-223920" algn="just">
              <a:spcBef>
                <a:spcPts val="300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rial"/>
              </a:rPr>
              <a:t>Reference of the product-type, system of verification of constancy of performance and ref. of hEN/ETA/STD 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lvl="2" marL="1119960" indent="-223920" algn="just">
              <a:spcBef>
                <a:spcPts val="300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rial"/>
              </a:rPr>
              <a:t>Unique identification code for the DoP (Traceability)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lvl="2" marL="1119960" indent="-223920" algn="just">
              <a:spcBef>
                <a:spcPts val="300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5f5f5f"/>
                </a:solidFill>
                <a:latin typeface="Arial"/>
              </a:rPr>
              <a:t>Information on hazardous substances provided together with the DoP (Art 6.5)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lvl="1" marL="727920" indent="-280080" algn="just">
              <a:spcBef>
                <a:spcPts val="437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5f5f5f"/>
                </a:solidFill>
                <a:latin typeface="Arial"/>
              </a:rPr>
              <a:t>Supply the DoP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 lvl="2" marL="1119960" indent="-223920" algn="just">
              <a:spcBef>
                <a:spcPts val="300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5f5f5f"/>
                </a:solidFill>
                <a:latin typeface="Arial"/>
              </a:rPr>
              <a:t>With each product made available on the market (Art 7.1)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lvl="2" marL="1119960" indent="-223920" algn="just">
              <a:spcBef>
                <a:spcPts val="300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5f5f5f"/>
                </a:solidFill>
                <a:latin typeface="Arial"/>
              </a:rPr>
              <a:t>Either in paper form or by electronic means (Art 7.1), or using website under conditions to be determined by a delegated act (Art 7.3)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lvl="2" marL="1119960" indent="0" algn="just"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lvl="2" marL="1119960" indent="0" algn="just"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8" name="Espace réservé du numéro de diapositive 3"/>
          <p:cNvSpPr/>
          <p:nvPr/>
        </p:nvSpPr>
        <p:spPr>
          <a:xfrm>
            <a:off x="7238880" y="655308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C5B6C-8E6B-4F4C-BB16-FDFD9AED3ACE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CPR: Obligations for manufacturers</a:t>
            </a: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Content Placeholder 1" descr=""/>
          <p:cNvPicPr/>
          <p:nvPr/>
        </p:nvPicPr>
        <p:blipFill>
          <a:blip r:embed="rId1"/>
          <a:stretch/>
        </p:blipFill>
        <p:spPr>
          <a:xfrm>
            <a:off x="225360" y="1566720"/>
            <a:ext cx="8759880" cy="4870440"/>
          </a:xfrm>
          <a:prstGeom prst="rect">
            <a:avLst/>
          </a:prstGeom>
          <a:ln w="0">
            <a:noFill/>
          </a:ln>
        </p:spPr>
      </p:pic>
      <p:sp>
        <p:nvSpPr>
          <p:cNvPr id="191" name="Slide Number Placeholder 2"/>
          <p:cNvSpPr/>
          <p:nvPr/>
        </p:nvSpPr>
        <p:spPr>
          <a:xfrm>
            <a:off x="7238880" y="655308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0568F-DB68-4A37-BAA5-0CC967A90014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CPR: Obligations for manufacturers</a:t>
            </a: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214200" y="1456920"/>
            <a:ext cx="8786880" cy="48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876"/>
              </a:spcBef>
              <a:buClr>
                <a:srgbClr val="8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5f5f5f"/>
                </a:solidFill>
                <a:latin typeface="Arial"/>
              </a:rPr>
              <a:t>Declaration of Performance (DoP)</a:t>
            </a:r>
            <a:endParaRPr b="1" lang="en-US" sz="14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374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rial"/>
              </a:rPr>
              <a:t>Possible derogations: Products individually manufactured or custom-made in a non-series process (Art 5.1), on the construction site (art 5.2), in a traditional manner (Art 5.3)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374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rial"/>
              </a:rPr>
              <a:t>Use NPD option (no test!) if the product is not regulated where the product is intended to be used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374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rial"/>
              </a:rPr>
              <a:t>Draw up the DoP on the basis of certificate (or declaration) of conformity (existing CE marking affixed under CPD), for products placed on the market before 01/07/2013 (Art 66.2)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 algn="just">
              <a:spcBef>
                <a:spcPts val="876"/>
              </a:spcBef>
              <a:buClr>
                <a:srgbClr val="8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5f5f5f"/>
                </a:solidFill>
                <a:latin typeface="Arial"/>
              </a:rPr>
              <a:t>Determination of Product-type: Simplified procedures</a:t>
            </a:r>
            <a:endParaRPr b="1" lang="en-US" sz="14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374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5f5f5f"/>
                </a:solidFill>
                <a:latin typeface="Arial"/>
              </a:rPr>
              <a:t>Deemed to satisfy procedure to declare level a class (Art 27.5)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374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5f5f5f"/>
                </a:solidFill>
                <a:latin typeface="Arial"/>
              </a:rPr>
              <a:t>Simplified procedures avoiding useless tests: WT/WFT, Shared IT, Cascading (Art 36)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374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5f5f5f"/>
                </a:solidFill>
                <a:latin typeface="Arial"/>
              </a:rPr>
              <a:t>Specific procedures possibly used by micro-enterprises turning system 3 into system 4 (Rec 27, Art 37)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374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5f5f5f"/>
                </a:solidFill>
                <a:latin typeface="Arial"/>
              </a:rPr>
              <a:t>Products individually manufactured turning system 3 into system 4 (Art 38)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 algn="just">
              <a:spcBef>
                <a:spcPts val="876"/>
              </a:spcBef>
              <a:buClr>
                <a:srgbClr val="8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5f5f5f"/>
                </a:solidFill>
                <a:latin typeface="Arial"/>
              </a:rPr>
              <a:t>European Technical Assessment</a:t>
            </a:r>
            <a:endParaRPr b="1" lang="en-US" sz="14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374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5f5f5f"/>
                </a:solidFill>
                <a:latin typeface="Arial"/>
              </a:rPr>
              <a:t>Request an ETA when hENs do not allow to assess the product to have the benefit of CE marking (Art 19) 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374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5f5f5f"/>
                </a:solidFill>
                <a:latin typeface="Arial"/>
              </a:rPr>
              <a:t>Renew ETAs already delivered at the end of their validity period, and on the basis of EADs consistent with the current  ETAGs or CUAPS (Recital 21, Art 66.3-4)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 algn="just">
              <a:spcBef>
                <a:spcPts val="876"/>
              </a:spcBef>
              <a:buClr>
                <a:srgbClr val="8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5f5f5f"/>
                </a:solidFill>
                <a:latin typeface="Arial"/>
              </a:rPr>
              <a:t>Information</a:t>
            </a:r>
            <a:endParaRPr b="1" lang="en-US" sz="14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374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5f5f5f"/>
                </a:solidFill>
                <a:latin typeface="Arial"/>
              </a:rPr>
              <a:t>Product Contact Points: Inform on the existing regulatory provisions, free of charge (Rec 42-44, Art 10)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374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5f5f5f"/>
                </a:solidFill>
                <a:latin typeface="Arial"/>
              </a:rPr>
              <a:t>Information campaigns for the construction sector, e.g. economic operators and users of products (Rec 54) 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0" algn="just"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4" name="Espace réservé du numéro de diapositive 3"/>
          <p:cNvSpPr/>
          <p:nvPr/>
        </p:nvSpPr>
        <p:spPr>
          <a:xfrm>
            <a:off x="7238880" y="655308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7A079-9014-4B6B-844E-43E6592340C4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CPR: Rights for manufacturers</a:t>
            </a: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16T09:00:45Z</dcterms:created>
  <dc:creator>GUILLEVIC</dc:creator>
  <dc:description/>
  <dc:language>en-US</dc:language>
  <cp:lastModifiedBy>katsage</cp:lastModifiedBy>
  <cp:lastPrinted>2000-03-16T10:24:10Z</cp:lastPrinted>
  <dcterms:modified xsi:type="dcterms:W3CDTF">2011-07-01T14:58:12Z</dcterms:modified>
  <cp:revision>596</cp:revision>
  <dc:subject/>
  <dc:title>Aucun titre de diapositive</dc:title>
</cp:coreProperties>
</file>