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6140-DB7A-41E1-B3ED-7CF2AB8813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1B73-D73E-4039-AC16-9140D8B756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19F8-9792-4A0F-AFFA-3DD31CB05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0116-1D6A-490C-85DE-A4CB65385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751A7-EDCE-4049-8483-FBEA2054B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A7DA-F726-4D6D-96D6-735266D23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6BC64-1913-4BF0-AED8-8C90096E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36BD1-EC47-4762-AA5D-F5BD4F27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864D0-D588-4835-9A76-FA70C0FD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F3221-46FE-4C25-A8E6-E7F72F15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A642B-1F4F-4F12-8B98-6AABBB01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9B7F7-03FA-4AC2-90DC-E57131CB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87F0E-5179-41A7-9287-FCCD65A4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9181-97C1-4B0B-AB2C-09469A6E9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1D588-99DA-49E1-BCB9-341AF0D8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642FE-CA06-48A2-8B35-5CC24F78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9ADE5-E086-4248-9F98-7A0FB94F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E4AA7-C538-489D-8888-808148D5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A69CD-B405-4DF6-BDE4-0BCEE6CB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8A12CA-13BB-43A4-90B3-4B95843D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E4892-DE96-47A4-B9E9-C787196E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D7F457-5846-45AC-93B7-DA1AC9E5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18BA2-7D38-4442-AAE2-8A3041CB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11A83-50F3-477A-A48C-0553AE71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1ABB-F60F-446D-82E4-CD4D9A2799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2B797B-7869-4F58-B187-1CBEF26E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EA504-2A6C-4798-AD75-313922CC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A0331C-B148-4497-8062-B8CEA5BF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76FBA4-099A-4731-9148-9E98BAAE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05702-E822-4F57-99AC-88D11BAE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797EF-AEA8-4350-BF9A-01A615B3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17770D-847A-4B72-B5A3-BCF243D3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F5741-FFD0-48E7-9273-52187E9E65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65417-E4B7-49E7-B4B4-EC2D5043CD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A629B-89F0-4344-8D7C-4E369B411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968F-492D-435A-8F1D-0DF699EF90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4B6EC-C679-491B-93BD-B35C12E789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C6CB4-64F0-4279-BB99-AF82AB06C8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A73B1-4988-41AE-B14D-86480BB800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ACA32-E0A5-4ED5-8417-ADC7ACB213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F8B47-9D5C-4282-920E-32A2F43E29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623CD-09C7-4D5E-BCA7-EF1FE2D41E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635CF-18AD-4309-9DF5-42841E3676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81850-A7C5-4D8B-A999-6A61FD19FF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8F5B5-A579-4945-A4B7-71C4963DF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C4E8-E536-40F5-97B4-066A1FF1D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66E1-275F-42E7-A9AB-CC065F46D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3E1D-0B25-4887-B338-5D5EF3CB2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75E0-4BCE-4FDE-95D7-37B408BD1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0FE9-9402-49F5-AA80-8A2AEB5D5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EEA0-C456-4B2E-A502-64BC8E2A121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8BAE-E742-42DF-841E-58ADC6AFD35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60D2-8F8C-45E4-B617-8BE48BB8AE0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49BE-3151-410D-A611-0B219590478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0AAE-7F8B-4470-8B70-277444C03A0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ssessment of the product performances in relation to the essential characteristics relevant for the intended use (Recital 28, Articles 4, 1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With the use of European methods and involvement of a Notified Body for systems 1+, 1, 2+ et 3 (Annex V) 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mplementation of a FPC in any case, complying with the requirements detailed in hEN/ETA (Annex V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3" marL="1530720" indent="-223920" algn="just">
              <a:spcBef>
                <a:spcPts val="249"/>
              </a:spcBef>
              <a:buClr>
                <a:srgbClr val="808080"/>
              </a:buClr>
              <a:buSzPct val="7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f5f5f"/>
                </a:solidFill>
                <a:latin typeface="Arial"/>
              </a:rPr>
              <a:t>Verification of constancy of performances, involving a Notified Body for systems 1+, 1, 2+ (Annex V)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erformances by levels or classes, for each essential characteristic listed in hEN/ETA and relevant for the declared intended use (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NPD option for characteristics not subject of any regulatory requirement where the product is used, but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n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empty DoP (</a:t>
            </a: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Art 6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Reference of the product-type, system of verification of constancy of performance and ref. of hEN/ETA/STD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nique identification code for the DoP (Traceability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on hazardous substances provided together with the DoP (Art 6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27920" indent="-28008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Supply the DoP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With each product made available on the market (Art 7.1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-223920" algn="just">
              <a:spcBef>
                <a:spcPts val="300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Either in paper form or by electronic means (Art 7.1), or using website under conditions to be determined by a delegated act (Art 7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1996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D599-3889-4424-AE10-DAB396CFA28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Content Placeholder 1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8759880" cy="487044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2093-4280-4A02-B5C1-574E331582E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ssible derogations: Products individually manufactured or custom-made in a non-series process (Art 5.1), on the construction site (art 5.2), in a traditional manner (Art 5.3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Use NPD option (no test!) if the product is not regulated where the product is intended to be use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Draw up the DoP on the basis of certificate (or declaration) of conformity (existing CE marking affixed under CPD), for products placed on the market before 01/07/2013 (Art 66.2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Deemed to satisfy procedure to declare level a class (Art 27.5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implified procedures avoiding useless tests: WT/WFT, Shared IT, Cascading (Art 36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Specific procedures possibly used by micro-enterprises turning system 3 into system 4 (Rec 27, Art 37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to have the benefit of CE marking (Art 19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Renew ETAs already delivered at the end of their validity period, and on the basis of EADs consistent with the current  ETAGs or CUAPS (Recital 21, Art 66.3-4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Product Contact Points: Inform on the existing regulatory provisions, free of charge (Rec 42-44, Art 1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f5f5f"/>
                </a:solidFill>
                <a:latin typeface="Arial"/>
              </a:rPr>
              <a:t>Information campaigns for the construction sector, e.g. economic operators and users of products (Rec 54)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1BE3-2A06-41E2-B629-DB6CBAAFDEA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4:58:12Z</dcterms:modified>
  <cp:revision>596</cp:revision>
  <dc:subject/>
  <dc:title>Aucun titre de diapositive</dc:title>
</cp:coreProperties>
</file>