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9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0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1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23FD-D138-4FF6-8E9B-B0EBF2ECA1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509E-E43E-4ED0-99DC-CCE4E60C40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8768B-4F40-4626-B677-8D40268D1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AEB0A-72D6-4EF8-85F5-0B86C3863E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EF4E7-151F-46FD-9460-C7C08041BD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7FA2A-8176-4DE3-AB72-3EE7AED3EF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1BF00-049B-4A9B-98F6-7BE1411A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BC662-6C71-4C02-80DF-95F4F989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585B3-8EC6-4476-B07A-C1CCCE2A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AA748-5264-4080-8519-C8ABA364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8EE0D-472C-4D98-9E65-EBF71AB3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076C7-9984-4EE8-83E5-56434D3F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23544-5E9A-4A26-BCCD-D43101E0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1D3C4-972F-4103-B9F7-E986C1DAA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312A8-B590-46FA-97A4-DEEB8BCE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2DD95-52ED-4289-97A2-2178DF62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AFF61-6E87-4A35-98BB-6D8961E4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A8660-069E-4588-B661-1DD625F27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225EA-4008-4E2B-A4D7-7A108F5C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44F53F-246B-44CE-99C9-497F0057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1659F8-E614-47E6-ADA9-6C1EB1E0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205C67-9FEA-4BDC-8AA7-74F099C1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263707-803D-40D6-82D0-FE97965D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59FEAA-404C-43A7-9A33-4B75EFD7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73DD4-4CF7-47E8-97AF-3B0F94D8F1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E0A088-6F2A-40E1-AE4C-5DD2071B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035498-EC48-43F3-96BA-3B323CA0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33D039-02EA-4CDB-8527-01B10D07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C01640-3912-43EF-8759-90F4E3C7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F9ED40-D889-43F6-AF08-CC7C3A97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2B0CBC-3707-4063-AF2C-21AE9750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9E15D7-5B7A-46E4-8A66-1066A192E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A45EDE-E989-4F7E-BCC2-7E499481ACB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084B6D-4B34-42BD-8BC4-0A6D3177B5B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375992-9B9F-4C19-ACC9-D8AB4E7712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75C6A-B5FE-41E6-BCE4-9A0682FE99F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503DD8-2EFC-41B3-BCD5-FD86386C812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383C93-B134-4957-AA0E-306A6D49A08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54A70B-03CA-4F33-ABE6-6AD036F14A4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C21100-A389-4FB6-B22C-CFC0A317FE4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29979F-7EF8-4B1F-A17E-4CBCD0F87C9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8E47C1-5A5A-4FC3-BDA1-5BAB589B9E1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B7BE31-13EA-4FD7-8419-3377DF05483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3CBDBE-0497-4526-B418-FC1B8276195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7591C7-D2B8-4BCF-95E3-5FF72390C2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CFCBC-82A1-467B-BCC5-E0E3992313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83594-C877-48EA-86B1-A957D242E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DE7C1-0982-4409-90E7-D65F5F7D5B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7FEBB-447A-49B0-B82C-35C7906B87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2F2BA-77BD-49D8-9E92-8A0A48257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D205-00A1-4550-9C0A-64077EDA061A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3960" y="661356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5 Jul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6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Text Box 21"/>
          <p:cNvSpPr/>
          <p:nvPr/>
        </p:nvSpPr>
        <p:spPr>
          <a:xfrm>
            <a:off x="0" y="662940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CEPMC | Boulevard du Souverain 68 - B-1170 Brussels | 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8FD4-DAEF-43E1-BD7A-D474FA5ED46C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2BC7-93BB-4496-98DB-0FA5AAF088E6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0"/>
          <p:cNvSpPr/>
          <p:nvPr/>
        </p:nvSpPr>
        <p:spPr>
          <a:xfrm>
            <a:off x="0" y="927000"/>
            <a:ext cx="91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d55031"/>
                </a:solidFill>
                <a:latin typeface="Arial"/>
              </a:rPr>
              <a:t>CPD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7385040" y="404640"/>
            <a:ext cx="1219320" cy="29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GA 08-0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6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1371600" y="6600960"/>
            <a:ext cx="632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EPMC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| </a:t>
            </a: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Boulevard du Souverain 68 - B-1170 Brussels | </a:t>
            </a: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214200" y="907920"/>
            <a:ext cx="8786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Transition from the CPD to the C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8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04A7-5615-49F3-8689-50F324847DB5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4240" y="3071520"/>
            <a:ext cx="8072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1</a:t>
            </a:r>
            <a:r>
              <a:rPr b="1" lang="en-US" sz="28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st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 priority issues for manufacture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5843160"/>
            <a:ext cx="64008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ascal Bar &amp; Gildas Guillevic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5" name="Espace réservé du numéro de diapositive 6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7F19-5ABF-464E-9EF0-D6A3A1FCEAA0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357200" y="4929120"/>
            <a:ext cx="640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SCC meeting on 5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July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28240" y="1886040"/>
            <a:ext cx="87361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Manufacturers are working on CPR implementation which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Does not introduce additional burdens and cos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Preserves customers' confidence in the Declaration of Performance &amp; CE Marking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nd hence in the products themselv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With one single assessment of products valid everywhere in the EU and recognized by all the Members States and local authoriti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llowing users to check compliance with local regulations and fitness for us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6F13-036E-493F-B0FA-B018D0C2A200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419040" y="100008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takes for manufacture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28240" y="1500120"/>
            <a:ext cx="8736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Simplification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Possible use of websites for supplying DoP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 (Article 7.3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Determination of the useful information to be provided on or with products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 (Article 9.2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Information to be declared on Hazardous Substances 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(Article 6.5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Need for clear procedure guaranteeing confidentiality and flexibility for “European Technical Assessments” 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(Articles 19 – 26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voiding possible distortion of competition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Procedures to be applied for derogations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5)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and public information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Procedures usable by micro-enterprises: Consequences for competition on the market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37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ontact Points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: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efinition of types of information (free of charge or charged)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Recital 43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reservation of the “acquis” (Technical Specifications)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Transitional provisions to be applied for hENs on DoP, CE Marking and time schedule for products placed on the market before 01/07/2013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66.1-2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Revision of hENs: Intended uses of products (and generic products) to be declared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6.3.e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larify the procedure to be applied after the period of validity of ETAs issued before 01/07/2013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66.4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Voluntary marks: Market needs have to be taken into account to define and use them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Recital 33, Article 8.3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0" algn="just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6A4E-76F2-4DE5-B987-BD8A46BC00AA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19040" y="98100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CPR implementation: 1</a:t>
            </a:r>
            <a:r>
              <a:rPr b="1" lang="en-GB" sz="2300" spc="-1" strike="noStrike" baseline="30000">
                <a:solidFill>
                  <a:srgbClr val="cc3300"/>
                </a:solidFill>
                <a:latin typeface="Arial"/>
              </a:rPr>
              <a:t>st</a:t>
            </a: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 priority issues</a:t>
            </a:r>
            <a:endParaRPr b="1" lang="en-US" sz="23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3133440"/>
            <a:ext cx="87138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nnex </a:t>
            </a: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riority issue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4" name="Espace réservé du numéro de diapositive 2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8E71-1CB6-46E9-B17C-DEC16DEC8382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28240" y="1571400"/>
            <a:ext cx="87361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Simplification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Declaration of Performance” (Articles 4, 5, 6 &amp; 7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Possible use of websites for supplying DoP and information to be declared on Hazardous Substances and Substances of Very High Concern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Rules and conditions for applying the CE Marking” (Articles 8 &amp; 9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Determine the useful information to be provided e.g. on "performance(s) declared" (Article 9.2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European Assessment Documents” &amp; “European Technical Assessments” (Articles 19 – 26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Need for clear procedure guaranteeing confidentiality and flexibility, mainly for new/innovative products and intended uses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Basic requirements for construction works” (Article 3, Annex II and Recitals 6 &amp; 10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Monitor the risk of creation of new barriers to trade through new European or National provisions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Avoiding distortion of competition and discrimination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Derogations from drawing up a declaration of performance (Article 5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Define procedures and make publically available the products under derogation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Procedures possibly used by micro-enterprises (Article 37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Monitor possible consequences for competition on the market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90D7-6F84-45CF-99E0-85E148051B84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19040" y="98100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CPR implementation: priority issues </a:t>
            </a:r>
            <a:r>
              <a:rPr b="0" lang="en-GB" sz="2300" spc="-1" strike="noStrike">
                <a:solidFill>
                  <a:srgbClr val="cc3300"/>
                </a:solidFill>
                <a:latin typeface="Arial"/>
              </a:rPr>
              <a:t>(1/2)</a:t>
            </a:r>
            <a:endParaRPr b="1" lang="en-US" sz="23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28600" y="1571400"/>
            <a:ext cx="87724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Preservation of the “acquis” (Technical Specifications)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Transitional provisions for hENs (Article 66.1-2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Clarify procedures to be applied on DoP &amp; CE Marking for products placed on the market before 01/07/2013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Revisions of existing harmonized standards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Define how the new terminology will be taken into account in technical specifications (Article 2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larify the need for declaring intended uses of products, including generic products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6.3.e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Transitional provisions for ETA Guides and CUAPs of the CPD (Article 66.3-4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larify the procedure to be applied after the period of validity of ETAs issued before 01/07/2013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Simplified procedures using Appropriate Technical Documentation (Article 36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Maintain, as they are, procedures already used for "without testing and without further testing", for using test results obtained by another manufacturer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Voluntary marks (Recital 33, Article 8.3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Market needs have to be taken into account to define and use them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Contribution to define an efficient market surveillance (Article 56)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evelop exchanges of experience, and possibly with other industrial sectors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0" algn="just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1CAD-EB16-4134-95D8-056BCDF161E1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285840" y="98100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CPR implementation: priority issues </a:t>
            </a:r>
            <a:r>
              <a:rPr b="0" lang="en-GB" sz="2300" spc="-1" strike="noStrike">
                <a:solidFill>
                  <a:srgbClr val="cc3300"/>
                </a:solidFill>
                <a:latin typeface="Arial"/>
              </a:rPr>
              <a:t>(2/2)</a:t>
            </a:r>
            <a:endParaRPr b="1" lang="en-US" sz="23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09:00:45Z</dcterms:created>
  <dc:creator>GUILLEVIC</dc:creator>
  <dc:description/>
  <dc:language>en-US</dc:language>
  <cp:lastModifiedBy>katsage</cp:lastModifiedBy>
  <cp:lastPrinted>2000-03-16T10:24:10Z</cp:lastPrinted>
  <dcterms:modified xsi:type="dcterms:W3CDTF">2011-07-01T15:46:43Z</dcterms:modified>
  <cp:revision>538</cp:revision>
  <dc:subject/>
  <dc:title>Aucun titre de diapositive</dc:title>
</cp:coreProperties>
</file>