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440F-2F33-4439-B65E-5859C01A44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49D0-CDDB-4C3B-9946-7E4B05D72D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8AE7-D07B-4371-AEF5-67ED20ACC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04A7-D65F-4762-B3E1-BACAD5F4E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92CE-C7F4-4398-9CC2-38B8951EB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D27F-F50B-4BE8-BE67-7FE792C86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9F6B9-3E2C-4A71-AA62-462C06CA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A8BBE-59D3-4E19-93E1-68476163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2BA38-5639-4500-8DF6-40D33E8D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233E7-900A-4C3D-9FD7-9CCED5FE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8A058-AB0E-4830-9A4B-0E2785E7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6B8A9-1658-4FDA-BC0D-3B6E6AFC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E9DFF-8E60-482C-94E2-7B26B3AF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7EC1-00DB-4445-8AE3-C05E021B2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64D2A-0DF6-4DC8-AE05-B6328614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9EF32-FB05-4F43-9BBB-A8E9C023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B2E60-1110-4B9E-9DC5-ED1E4404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D5D09-D7A3-4618-B2BB-DFD72CD1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44600-694A-40DC-A1C4-80147339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AB6F89-0C45-46B5-B996-9FB10677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115D3-AF90-40EB-B369-8A438496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6C718-B1C6-49D6-BF47-EB06BE59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363A0D-02BD-42D7-A926-017509AA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D0092-A06D-4A03-8572-9E66BEF3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1B25-C242-460E-A867-9BFA6961D4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53CDA-41E4-4B1F-AC8B-F9CF2387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D345B-1C0D-420A-B422-AE2A8F09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9A3F4-35FA-41A9-841F-51C8230A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CC7A5E-64BF-4404-821C-2AC01FBB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28BCAA-A9D2-4669-8388-F448644F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41836A-6216-41F9-A86D-CC145B01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6806E-62C1-4C82-AB51-73A8A3A1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EBE26-A2C2-4304-9396-264A24A960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13765-75E0-4AED-BEE5-B7A7D777A9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AD28E-8BF3-466B-9C9F-D1BBBD4F8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2C5E-912F-4CFC-B9B4-9FB6F2C215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F7795-646E-46AB-9C83-E5ED8CD04E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F0465-2A8E-45BC-B3F2-39904F9EBE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CFCE1-BD6E-4535-AC57-D445EDFC38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3370A-592D-4843-9FA0-20DCAAA77F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00224-892F-40A7-AEE5-AB775E1952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88A92-5D4A-475A-9ED5-D010BBAFFC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318B8-1284-438C-B11B-4DFA6B7815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D2FE0-7BE9-4A7D-A2D7-B47C059B2D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08B9C-3045-49B1-822D-5672C7626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6A50-D258-41D1-BC34-21F5A9E4B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14C7-E235-4624-90E1-80A3577A4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9FCC-93A4-4C72-BE8F-DC3C30238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0F94-195A-4A49-B1C6-AA1A170B5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07F0-DD4E-4B1C-86ED-94739F113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DAE5-DB50-4F35-A9BB-C9C31CCC62D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4661-69E6-47D4-A587-C87E0926C80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B69C-46DA-43BC-9283-FD2A3C26331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8288-F8EF-4068-885C-FE1413580C9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A1EF-AA1E-412A-B006-E4DA185BCDF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0B3B-7E14-42EA-86DD-993ADCF7472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to be applied for derogation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5)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and public inform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37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ntact Points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finition of types of information (free of charge or charged)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4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35EB-BAE4-437E-AE47-C5171440FC1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128F-80BC-4598-BD39-DEB645F38E4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2BE1-8FBF-4759-B4F4-23B06370076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2FCB-6AE8-4E2F-B20D-144A65D5C84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5:46:43Z</dcterms:modified>
  <cp:revision>538</cp:revision>
  <dc:subject/>
  <dc:title>Aucun titre de diapositive</dc:title>
</cp:coreProperties>
</file>