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2658-DD8B-4CB7-BE0B-68A42EFE73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7FA8-DFB9-43BD-AEA1-634856ED8A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5F4B-5688-460B-8EE1-CA377D1B6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434E-AAD0-4524-9B62-2EF5E9878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6C88-CC32-4807-9B81-1A940D4A2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3348-F507-4507-AB9B-89A714AE0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108A3-2AB2-442A-AD62-DE4D937A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37EF2-EE5B-4170-8317-13006EEB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D5787-E9F5-423A-8541-73CC6C72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91672-8735-49C6-A07A-7C175DE2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110A4-9498-4412-A159-8FCB04FF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BF70F-19EA-4447-8807-B037C0BE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C1788-8B6F-4E64-9ECA-221F63A1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065B-1452-4BFB-8B78-CA74B7E9F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3A1FF-5F8D-4FFE-B36F-5E5415C7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BBDB3-0834-4917-A7B1-67E13BA2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972C4-DB3A-4436-A15A-A0DECF8F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C4189-2E60-4609-A211-983F93DE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3F8A6-B57D-488B-87A1-545E793C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D69685-4607-4037-A85B-31689D2F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C4F39-42F6-4A8D-A63F-5DFD0AAA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E5017A-3BD8-45CA-BC06-EDD2FCFA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F5E009-A78F-43B0-8AA1-5A948381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282F9-ABA9-4D7B-A43D-6AF88B05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587A-66D6-4EBA-88A1-AB22ED4CFE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3C8531-8684-490B-9877-A609E55B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C43B9B-C2F9-40F5-87E6-EE00F0CD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22D963-FBA7-42EC-B75B-DF546018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81D04A-BF1A-4BDB-BF08-F346C5A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45F84F-55BF-4BA8-B2DA-0440F9CD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75D179-4B22-4B73-AFF0-15961D45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314FBB-79F7-4194-8AC7-82E4B70B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9F303-15C2-4298-8386-85593DA554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FB68B-E688-4496-8C4C-F0F6EBDB46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A5F13-60C8-42A4-8FD4-4BAC7E22A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ED84-F897-4C9E-BABA-9CBF9ACDC0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1B081-5A6E-4EDA-B047-DA3E013D92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13A1C-3895-4587-8EE0-847BACB48B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B6C18-497B-48F5-BC32-5D9CFEC27F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6DAF8-F476-4C5C-B4F9-FDDB5CEE15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7553D-CFDA-4A43-B5ED-20B32490E1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1238A-052C-4793-AC48-E657BB9F37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C1279-DF62-4A4B-9B2E-9D4B55FFC5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B61FB-4876-4A3A-B1B5-3B0089FDF5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0AA3A-24C2-410A-8BBB-9E8AA3E9D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D304-A613-46F0-98EC-BB7A0DD0A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34CA-2B60-4C41-8F61-A25AB991B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1127-7FB9-4CDE-BD0C-B5641DED6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6E4C-3E2C-47DF-A734-2FE025BA0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8812-6211-43FD-B45B-20012DF40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CEE4-32A6-40B6-82BE-6C58EE5FFA9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8181-D8AA-49C8-9D73-E376F4E9DAB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7B8C-A990-4C8A-B449-040092BBCE1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FFB7-38B2-4B53-9F05-ABA4FD9299F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781360"/>
            <a:ext cx="807264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ruction Products Regulation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ights and obligations of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5BD7-9F5D-4CF9-875E-F22B0F7F33A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735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vide a clear, complete and reliable information on products placed on the market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Same obligation for all manufacturers (&amp; importers) in Europe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Declaration of performance (DoP) for a product covered by an hEN or an ETA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termination of the “product-type”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Assessment of the product performances in relation to the essential characteristics relevant for the intended use (Recital 28, Articles 4, 11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3" marL="1530720" indent="-223920" algn="just">
              <a:spcBef>
                <a:spcPts val="249"/>
              </a:spcBef>
              <a:buClr>
                <a:srgbClr val="808080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f5f5f"/>
                </a:solidFill>
                <a:latin typeface="Arial"/>
              </a:rPr>
              <a:t>With the use of European methods and involvement of a Notified Body for systems 1+, 1, 2+ et 3 (Annex V) 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mplementation of a FPC in any case, complying with the requirements detailed in hEN/ETA (Annex V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3" marL="1530720" indent="-223920" algn="just">
              <a:spcBef>
                <a:spcPts val="249"/>
              </a:spcBef>
              <a:buClr>
                <a:srgbClr val="808080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f5f5f"/>
                </a:solidFill>
                <a:latin typeface="Arial"/>
              </a:rPr>
              <a:t>Verification of constancy of performances, involving a Notified Body for systems 1+, 1, 2+ (Annex V)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rawn up a DoP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erformances by levels or classes, for each essential characteristic listed in hEN/ETA and relevant for the declared intended use (Art 6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NPD option for characteristics not subject of any regulatory requirement where the product is used, but 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n</a:t>
            </a: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empty DoP (</a:t>
            </a: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Art 6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Reference of the product-type, system of verification of constancy of performance and ref. of hEN/ETA/STD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Unique identification code for the DoP (Traceability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nformation on hazardous substances provided together with the DoP (Art 6.5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Supply the DoP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With each product made available on the market (Art 7.1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Either in paper form or by electronic means (Art 7.1), or using website under conditions to be determined by a delegated act (Art 7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C221-03DD-4CC9-A468-4E2E4C9364C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Content Placeholder 1" descr=""/>
          <p:cNvPicPr/>
          <p:nvPr/>
        </p:nvPicPr>
        <p:blipFill>
          <a:blip r:embed="rId1"/>
          <a:stretch/>
        </p:blipFill>
        <p:spPr>
          <a:xfrm>
            <a:off x="225360" y="1566720"/>
            <a:ext cx="8759880" cy="487044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5082-89BB-4B0E-A302-BD39D172D37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14200" y="1456920"/>
            <a:ext cx="87868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claration of Performance (DoP)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ssible derogations: Products individually manufactured or custom-made in a non-series process (Art 5.1), on the construction site (art 5.2), in a traditional manner (Art 5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Use NPD option (no test!) if the product is not regulated where the product is intended to be used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Draw up the DoP on the basis of certificate (or declaration) of conformity (existing CE marking affixed under CPD), for products placed on the market before 01/07/2013 (Art 66.2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termination of Product-type: Simplified procedures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Deemed to satisfy procedure to declare level a class (Art 27.5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Simplified procedures avoiding useless tests: WT/WFT, Shared IT, Cascading (Art 36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Specific procedures possibly used by micro-enterprises turning system 3 into system 4 (Rec 27, Art 37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roducts individually manufactured turning system 3 into system 4 (Art 38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European Technical Assessment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Request an ETA when hENs do not allow to assess the product to have the benefit of CE marking (Art 19)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Renew ETAs already delivered at the end of their validity period, and on the basis of EADs consistent with the current  ETAGs or CUAPS (Recital 21, Art 66.3-4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roduct Contact Points: Inform on the existing regulatory provisions, free of charge (Rec 42-44, Art 1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nformation campaigns for the construction sector, e.g. economic operators and users of products (Rec 54)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5B2D-4390-4750-8D79-1A02B160A0E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Right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katsage</cp:lastModifiedBy>
  <cp:lastPrinted>2000-03-16T10:24:10Z</cp:lastPrinted>
  <dcterms:modified xsi:type="dcterms:W3CDTF">2011-07-01T14:58:12Z</dcterms:modified>
  <cp:revision>596</cp:revision>
  <dc:subject/>
  <dc:title>Aucun titre de diapositive</dc:title>
</cp:coreProperties>
</file>