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A95-0D84-4FAF-8054-B6BD9AD9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BD6-23A3-48D7-AC2E-C881C168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F75-C81D-47D9-8C26-9E7D9872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2B2-1418-4269-ACD3-00BA2CED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96DE-C94C-43FC-ACB2-1D67113D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D32A-E673-4F76-9CFB-C4597E3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4AF4-7C7E-48CC-90EC-7E9B3DAD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3D65-A556-45F0-9AF9-CDAE9761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E8BA-9A7B-48AD-AFD9-82C8D970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E5F5-AEF4-4D14-890B-1E2FC297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06C9-16E9-4312-B88F-6B674E04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BC0-76D9-41B6-A3D7-ADE8CAAF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A57B-779E-434E-9B1D-89C71DAA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A33F-F097-4EC2-AF00-85340A1E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0CB6-F613-4A44-B923-CFEF2196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3B30-6733-4273-9C31-EEF300ED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51E6-9AA9-4D68-8A51-5A12E35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539-FCDC-47A2-B8DC-7854AC61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387-69D0-4FD6-BE24-50992BAF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E11-4C10-4574-AFC1-806016E8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176-0D39-41A8-B4F1-FEC4B867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648-587D-43C5-8128-907A87D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5B3-79E8-4DF2-B786-65E590C8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252-BF78-42C7-A753-1C6D991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14D-C9FC-487F-AC63-7B9C7EFEC1B3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A670-546D-43C9-8899-97D23625653D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First Standing Committee on Construction (Regulation (EU) 305/201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Verdana"/>
              </a:rPr>
              <a:t>Member States Rights &amp; Obliga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2CB-C43B-4348-A235-A6714109B4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900000" y="1557360"/>
          <a:ext cx="7715520" cy="444816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within their territories of TABs (making use of product areas of table 1 AIV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munication of info to other MS and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tion of the list made electronicaly available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itoring activities and competences of their TABs; Evaluation of TABs (use of table 2, AIV); Information to Com on national procedure for designation and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92F-FB56-438D-80E8-272B00C242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900000" y="1557360"/>
          <a:ext cx="7715520" cy="299880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3024000"/>
                <a:gridCol w="2748240"/>
              </a:tblGrid>
              <a:tr h="10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uideline for TABs 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be consulted (SCC) before adoption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thdrawal of TAB designation when it does not satisfy any more the requirements of table 2, A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821-8C90-4FA6-8D83-5D7872B0A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55520" y="26028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900000" y="1557360"/>
          <a:ext cx="7715520" cy="322884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089080"/>
                <a:gridCol w="3683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to Com and other MS of bodies authorised to carry out third-party tasks in the process of AVC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ying authority (N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iding that national accreditation bodies may be 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of a notifying authority responsible for procedures for assessment and notif of NBs and their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9D0-394E-42A5-9951-13E3AD9AF8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2016000"/>
                <a:gridCol w="2160720"/>
                <a:gridCol w="3106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.3 Notifying author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egation to non governmental 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legal status of this entity and coverage of li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no conflict of interest with notified bodies; Objective and impartial; respect of organisational rules as mentioned in 41.3,4,5 and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bli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cess to the Com publicly available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ing Com on national procedures for assessment and notification of bo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0DB-9402-422B-AF39-FDC53D1CCA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900000" y="1557360"/>
          <a:ext cx="7715520" cy="4538520"/>
        </p:xfrm>
        <a:graphic>
          <a:graphicData uri="http://schemas.openxmlformats.org/drawingml/2006/table">
            <a:tbl>
              <a:tblPr/>
              <a:tblGrid>
                <a:gridCol w="432000"/>
                <a:gridCol w="1871640"/>
                <a:gridCol w="230508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suming liability insurance (43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authority checking compliance of NBs with art 43 and 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and other MS to be informed of notification (preferably making use of Com EE° too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nd still period after notification (depending if accreditation used or no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B74-4173-4C6E-86DC-7A96CCACEF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.2 Important modifications in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 transfer of file if necessary and keeping the file available for NA and M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llenge of the competence of the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info as foreseen in § 2; Taking of appropriate measures as foreseen in §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exper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use by MS national authority of the system organised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19C-CAA0-4D47-A4E4-790A978B87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"/>
          <p:cNvGraphicFramePr/>
          <p:nvPr/>
        </p:nvGraphicFramePr>
        <p:xfrm>
          <a:off x="900000" y="1773360"/>
          <a:ext cx="7715520" cy="130968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rdination of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ir NBs comply with obligations set up in art 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FB2-7BB1-4408-8130-84671CB8F3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900000" y="1557360"/>
          <a:ext cx="7715520" cy="374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160360"/>
                <a:gridCol w="3538800"/>
              </a:tblGrid>
              <a:tr h="37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1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action pursuant to Regulation 765/2008; Cooperation of the economic operato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rying out evaluation as foreseen in 56§1; If product not complyith possibili with the requirements of CPR, requiring economic operator (EO) taking appropriate corrective actions, with possibility of withdrawal or recall of the product; information to NB if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B8E-224D-4A9A-8451-41100E937D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900000" y="1557360"/>
          <a:ext cx="7715520" cy="401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2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f Com and other MS if non compliance not only limited to the national terri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4,5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adequate corrective measures not taken in due time SMA takes appropriate measures; Information on this measures to Com and other 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08C-FD10-496C-B01D-3F6A20CC55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900000" y="1557360"/>
          <a:ext cx="7715520" cy="506556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66544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6,7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info between MS and Com about the non compli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of restrictive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on safeguard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 or EAD to be modified if they are the source of the risk (shortcomings) after consultation of 98/34 or Standing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taining or deletion of the taken national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C84-0FF6-421B-8202-A024554BB3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Member States Rights &amp; Oblig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gula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and BW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B44-80C0-4901-8853-0EE18F7659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900000" y="1557360"/>
          <a:ext cx="7715520" cy="2165400"/>
        </p:xfrm>
        <a:graphic>
          <a:graphicData uri="http://schemas.openxmlformats.org/drawingml/2006/table">
            <a:tbl>
              <a:tblPr/>
              <a:tblGrid>
                <a:gridCol w="432000"/>
                <a:gridCol w="2087640"/>
                <a:gridCol w="1873080"/>
                <a:gridCol w="3322800"/>
              </a:tblGrid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ying construction products which nevertheless present a risk to health and safety</a:t>
                      </a:r>
                      <a:r>
                        <a:rPr b="0" lang="fr-BE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oned in §1,3 and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88E-9FDB-448A-A5AA-693A43EF8B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Delegated Acts (Lisbon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900000" y="1557360"/>
          <a:ext cx="7715520" cy="312408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of the dele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(Council) possible at an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62 §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s to delegated a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(Council) within 3 months (extension of 3 months possibl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FF0-30C3-4EA6-BD12-F766B9B30D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Standing Committee on Construction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900000" y="1557360"/>
          <a:ext cx="7715520" cy="107964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e of decision 1999/468/EC art 3 &amp;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members in art 64§3 C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066-62CB-46AE-94DA-C250F4DB34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468360" y="404280"/>
            <a:ext cx="9299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A regulation does not need to be transposed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(that, everybody knows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he CPR needs some work in the MS  before national procedures will be conform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Good luck to everyon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410920" y="134136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2C3-5871-422E-BCDF-9638563485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gulation Fra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94000" y="333360"/>
          <a:ext cx="714996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333360"/>
                    <a:ext cx="71499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6C4-ECB1-4537-9817-9DF9ED70C5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ma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ates of Application</a:t>
            </a: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2011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isclaim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tent of this unformal communication is not necessarily fully endorsed by the Belgian authorities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nly Wording of CPR is correc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1EE-3D56-4B75-8FF0-5ED6591A57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ubsidiarity and BW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!! R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National rules mentioned in 8.6 (EN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d BW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nex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Right of adopting BW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Making use of modifications of BWRin CP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Oblig of making use of ENh (8.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BE2-882B-4C74-911E-187BFBBB75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BWR and essential characteristic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900000" y="1557360"/>
          <a:ext cx="7715520" cy="25192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rst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pe of making use of essential characteristics define by Com by 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Adapting MS requirements accordingly (art 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em for threshold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FB7-48DA-4DEA-8FAB-EBF6816745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973440" y="277920"/>
            <a:ext cx="96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General principles and use CE mark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826920" y="1413000"/>
          <a:ext cx="6788160" cy="4614840"/>
        </p:xfrm>
        <a:graphic>
          <a:graphicData uri="http://schemas.openxmlformats.org/drawingml/2006/table">
            <a:tbl>
              <a:tblPr/>
              <a:tblGrid>
                <a:gridCol w="430560"/>
                <a:gridCol w="2787480"/>
                <a:gridCol w="357012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ref to marking attesting conf in DoP other than 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hibit or impede use or making available of CP with a declared performance not in accordance with national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 prohibit or impede () making available or use of products bearing CE if declared performances correspond to MS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 used in Requirements for works in accordance with EN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342-170C-46B1-A9A5-C663AEEBEF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PCP &amp; Stakeholder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900000" y="1557360"/>
          <a:ext cx="7715520" cy="461340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or 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Same as 764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conflict of inte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Central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ligations Stakehol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rt 11 to 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Imposing language for safety instru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To be informed in case of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nstration of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ormity with D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Receiving info in a languaga easily underst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Imposing the elimination of the risk (hazard 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of a « reasoned request » if CP presents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F3D-AEE1-48F1-BB9A-4DAC577F00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ENh &amp;EAD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900000" y="1557360"/>
          <a:ext cx="7715520" cy="41338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C being consulted by Com before request to C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Nh not entirely satisfy mandate use of SCC or 98/ 34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dec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AD not entirely satisfy demands ./. BWR use of SCC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434-4FCC-4721-B186-C0520ED00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24:24Z</dcterms:created>
  <dc:creator>Vertessen</dc:creator>
  <dc:description/>
  <dc:language>en-US</dc:language>
  <cp:lastModifiedBy>katsage</cp:lastModifiedBy>
  <dcterms:modified xsi:type="dcterms:W3CDTF">2011-07-01T15:29:13Z</dcterms:modified>
  <cp:revision>16</cp:revision>
  <dc:subject/>
  <dc:title>Diapositive 1</dc:title>
</cp:coreProperties>
</file>