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5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ftr" idx="16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 type="sldNum" idx="17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D739-84DB-4AED-8C12-6FC11792B71D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B7D6-76F7-4E83-B463-82A718C298D5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A128-2F2C-4097-B699-670DA9149F7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2005 CEN – all rights reser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fld id="{16772952-8758-455C-B78F-B468D7773D94}" type="datetime">
              <a:rPr b="0" lang="en-GB" sz="13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0F93-62DA-470E-8882-7CA08C7E0829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7767-251A-4D54-80A8-F9EAD751A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BD3F-4158-404B-BEE0-87B3D8AC5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84FF-B943-4563-9EE6-266653702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6215-1DF1-4F26-B8DF-29D0932D8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361B-9CBC-466F-A88A-EDE9AFB6C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A2F84-5DAD-4484-9E96-3FB83E483C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34C6F-2C52-4A2F-9598-DD1A29051B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7FE0F-24D2-47D7-BCD0-8110CFDB12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8FF5B-9317-4F6D-B265-0359FE17FE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6BA92-694D-4EB7-9509-830048FA42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1DB4-C817-4DB0-B5AF-B16CB85DE1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E7F09-B924-4638-8708-870AF94274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FB677-79DD-4AC6-A2FC-9A4EC1287C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88EA2-4E2D-4A58-A95B-16BE9D65D7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B2F4F-7BD1-4771-91C9-8531A782E5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669AB-B2B2-4666-9850-8A12785861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837D4-2EE2-4D48-AF81-12F3C7114C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D488B-94FF-4874-AB89-97676927B2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D6B1-B20F-4209-8199-2C22EEFA7F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ACB4-BCA3-4F69-A9CA-D6210CB10A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A61C-5DD5-4B59-813C-9664A5613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DA3F-FCFE-43B2-8B47-6D92048B05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9E0E-674A-419D-8D87-AEF2DDF0BA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C8CE-B0F0-47E7-A475-BAB0D425DC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88B8-3D1E-4531-BC9C-1FD6935556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FCED-423D-4912-9D87-0C212E691F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D9C6-FFEE-4509-8049-DF61BD27CE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6C5E-9399-4329-B702-18B7F5E428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FC7A-2242-46D8-91EE-D1EB8F72B3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FCBD-19AD-4103-B8A8-A53A854BE5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53CA-27F7-4C22-8B14-A491D3222B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AA9D1-1F15-4101-A172-12575FBA8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8DA6-AD27-40CC-B67F-5271F15D42B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2A0F6-89F5-417D-8E8D-6ADB373B30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279A9-0C49-4621-90A1-6FA55124FDB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56A17-CAA0-4D9D-A963-F0F329C2A8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2D35E-EEC9-4CCE-BD6B-BB9D70D9BE2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39574-48CA-49EC-B1F9-2CC25BA07EC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60435-A9DB-44F1-993C-9A2769E0455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86B62-CFCB-4420-B688-B51596AAB1D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C2F8D-1447-4D34-8E2F-D17EE869BBC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BBBFF-A574-4C4F-BCA4-B1F99ABDC3C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28B84-1A63-436A-B116-6F2C3C00C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BD1C-334F-47C3-A189-048DDCFFD4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2C086-DE83-4A9E-95F1-412E0DD0FB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3AE0EA-26C5-479F-BFCD-D92002984E0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A556A5-DDB6-4292-A0FE-103F3397BA2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9A19F-EFE6-4F97-AC8E-60A6C8577AF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DA398-E387-45BB-BC5D-BCD8E6BD360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13EA7-4FAE-42B2-8FAA-823B9B5D81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E288D8-7E00-4C59-BEFD-D670A193098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A82B13-17E8-4275-B703-C2A21F9B64E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86767-B5CE-4800-A402-6B571A1D36E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FA7D33-BA18-4754-835D-7176C5C72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7930-6B49-433A-A899-D791597B24F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C3676-1BC6-40F0-8E7D-BFE09C82AAF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B876A-4D42-465C-AA20-820B04FCE2B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EBF44-20E1-44EB-A7EE-3A0C6701055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680B8-F83A-4867-8FB6-95D783CA14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8A3D7-5E0A-4E4E-8B8A-D7C7F9EDB5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6D237-2A72-41CD-B265-C86AB3AA0C5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F1CC7-BCEB-4942-9874-291202C28F5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8D57B-C0BA-480E-8120-11E045A9F0D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E50E-C3D2-4ACF-ADE6-95E9925C7DE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A4AF7-76D7-471E-8818-41C83183C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7A39-868A-4A06-9ABC-62628A74D2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5E7F7-7DBD-4C23-AC47-550108F1CD4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67805-729D-415F-9127-B9BD94AA8C2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7A85-5FA1-4271-8450-3E10180E299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A9285-012D-4968-99F2-875B3BA9B2D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4529A-4C1D-4CF4-B648-AA50C31F048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5B1D2-7566-4650-918D-2B15610C112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1843C-DF90-43E5-9A23-FEF911323DB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760116-C2A7-4ECB-A94C-90617396CC6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9F3F0-8BD7-406D-9078-CE27F42D56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25430-23BE-4B4C-A995-F7D00C91B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8317-847A-404F-9053-AD694E3FFA1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BD742-365C-4E6D-85F8-FBFD5672597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D6552-3727-48D4-AE4F-A5DFE6796C6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D99A9-CEDC-4D7E-B81F-4D80F0F969D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15240-2061-4DE3-80BD-BF5C067A41E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53262-E9BE-444C-ACEB-624791EC027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DB878-907D-4657-BD97-4EC4327A56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9679C-BF86-4E3A-B0E1-FC3924907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D8394788-2F3E-4ED6-83A9-1309C5937F11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357120"/>
            <a:ext cx="2357280" cy="8114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CEN_CENELEC-PPT_themes_V10+elements_ExtRelations_p13_PNG24.png"/>
          <p:cNvPicPr/>
          <p:nvPr/>
        </p:nvPicPr>
        <p:blipFill>
          <a:blip r:embed="rId3"/>
          <a:srcRect l="0" t="31594" r="28738" b="32743"/>
          <a:stretch/>
        </p:blipFill>
        <p:spPr>
          <a:xfrm>
            <a:off x="0" y="1341360"/>
            <a:ext cx="6516720" cy="25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49968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8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Name</a:t>
            </a:r>
            <a:br>
              <a:rPr sz="2800"/>
            </a:b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Desig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D14329F1-291E-4C37-B88E-CCF72E9D372A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CEN-CENELEC-PPT template_layouts_V04_logo.png"/>
          <p:cNvPicPr/>
          <p:nvPr/>
        </p:nvPicPr>
        <p:blipFill>
          <a:blip r:embed="rId3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D94FA391-ECC9-49FE-8700-3C7D7D83B1B4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8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A9F4C691-757D-4847-A08C-264DC67EB6F6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0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09030864-D25E-4A61-99EF-4949181FC794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4B3BF6D8-3AE3-4EDC-844A-E5B1EABB6157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3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4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5C8BA77B-5359-4718-B31F-7845F0CCB9A9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en.eu/" TargetMode="External"/><Relationship Id="rId2" Type="http://schemas.openxmlformats.org/officeDocument/2006/relationships/hyperlink" Target="http://www.cenelec.eu/" TargetMode="External"/><Relationship Id="rId3" Type="http://schemas.openxmlformats.org/officeDocument/2006/relationships/hyperlink" Target="mailto:adacosta@cencenelec.eu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0040" y="4005000"/>
            <a:ext cx="84297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1st MEETING OF SCC </a:t>
            </a:r>
            <a:br>
              <a:rPr sz="2000"/>
            </a:b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(Art.64 of Regulation (EU) N° 305/2011)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0040" y="4724280"/>
            <a:ext cx="84549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S AND STANDARDIZATION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50004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  <a:ea typeface="Verdana"/>
              </a:rPr>
              <a:t>Amilcar da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  <a:ea typeface="Verdana"/>
              </a:rPr>
              <a:t>CEN/CENELEC Programme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Arial"/>
                <a:ea typeface="Verdana"/>
              </a:rPr>
              <a:t>2011-07-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C997-12B1-41F0-83B4-84B7CA5473D5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4005360"/>
            <a:ext cx="8407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CPR – Impact on Europea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  </a:t>
            </a: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oad map for the adaptation of 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evision of model Annex 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Information to Technical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afdb"/>
                </a:solidFill>
                <a:latin typeface="Arial"/>
                <a:ea typeface="Arial"/>
              </a:rPr>
              <a:t>Thank you! – Questions?</a:t>
            </a:r>
            <a:br>
              <a:rPr sz="4000"/>
            </a:br>
            <a:endParaRPr b="0" lang="en-US" sz="4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FD23D962-1950-4A46-AA14-6DA54318B455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en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cenelec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fdb"/>
                </a:solidFill>
                <a:latin typeface="Verdana"/>
              </a:rPr>
              <a:t>Amilcar da Costa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afdb"/>
                </a:solidFill>
                <a:latin typeface="Verdana"/>
              </a:rPr>
              <a:t>CEN/CENELEC Programme Manager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adacosta@cencenelec.eu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afdb"/>
                </a:solidFill>
                <a:latin typeface="Verdana"/>
              </a:rPr>
              <a:t>+32.2550.0974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</p:txBody>
      </p:sp>
      <p:pic>
        <p:nvPicPr>
          <p:cNvPr id="341" name="Picture 7" descr="MCj00787110000[1]"/>
          <p:cNvPicPr/>
          <p:nvPr/>
        </p:nvPicPr>
        <p:blipFill>
          <a:blip r:embed="rId4"/>
          <a:stretch/>
        </p:blipFill>
        <p:spPr>
          <a:xfrm>
            <a:off x="5572080" y="1571760"/>
            <a:ext cx="1900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8:03:13Z</dcterms:created>
  <dc:creator>denmat</dc:creator>
  <dc:description/>
  <dc:language>en-US</dc:language>
  <cp:lastModifiedBy>CEN</cp:lastModifiedBy>
  <dcterms:modified xsi:type="dcterms:W3CDTF">2011-07-04T14:07:55Z</dcterms:modified>
  <cp:revision>72</cp:revision>
  <dc:subject/>
  <dc:title>Shaping European Standards</dc:title>
</cp:coreProperties>
</file>