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ty, date September 2008, Seminar on the Free movement of goods in the EU and EF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3194-3DF7-4789-92B3-6B2EDA298F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ty, date September 2008, Seminar on the Free movement of goods in the EU and EF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Signature-ENTR_EN_black"/>
          <p:cNvPicPr/>
          <p:nvPr/>
        </p:nvPicPr>
        <p:blipFill>
          <a:blip r:embed="rId3"/>
          <a:stretch/>
        </p:blipFill>
        <p:spPr>
          <a:xfrm>
            <a:off x="6877080" y="6308640"/>
            <a:ext cx="1700280" cy="2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ur-lex.europa.eu/LexUriServ/LexUriServ.do?uri=OJ:L:2008:218:0021:0029:EN:PDF" TargetMode="External"/><Relationship Id="rId3" Type="http://schemas.openxmlformats.org/officeDocument/2006/relationships/hyperlink" Target="http://eur-lex.europa.eu/LexUriServ/LexUriServ.do?uri=OJ:L:2008:218:0021:0029:EN:PDF" TargetMode="External"/><Relationship Id="rId4" Type="http://schemas.openxmlformats.org/officeDocument/2006/relationships/hyperlink" Target="http://ec.europa.eu/enterprise/regulation/goods/mutrec_en.htm" TargetMode="External"/><Relationship Id="rId5" Type="http://schemas.openxmlformats.org/officeDocument/2006/relationships/hyperlink" Target="http://ec.europa.eu/enterprise/regulation/goods/mutrec_en.htm" TargetMode="External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1"/>
          <p:cNvSpPr/>
          <p:nvPr/>
        </p:nvSpPr>
        <p:spPr>
          <a:xfrm>
            <a:off x="1692360" y="6237360"/>
            <a:ext cx="48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Podgorica, 24 September 2008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eminar on Free movement of  goods in the EU and E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Background PPT DG ENTR v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838080" y="1981080"/>
            <a:ext cx="7981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Mutual Recognition Reg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42920" y="4292640"/>
            <a:ext cx="7485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s. Idaira ROBAYNA ALFO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ussels, 11 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ignature-ENTR_EN_black"/>
          <p:cNvPicPr/>
          <p:nvPr/>
        </p:nvPicPr>
        <p:blipFill>
          <a:blip r:embed="rId3"/>
          <a:stretch/>
        </p:blipFill>
        <p:spPr>
          <a:xfrm>
            <a:off x="250920" y="5950080"/>
            <a:ext cx="35049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80880" y="233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1413000"/>
            <a:ext cx="85150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80880" y="130032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916280"/>
            <a:ext cx="6192720" cy="50472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Problems with Mutual Recognition in the non-harmonised area of product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Lack of awareness of the princi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businesses and 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Legal uncertain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bo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the scope of the principl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) the burden of pro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sinesses and 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Risk of not getting access to market in another Member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St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busin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The absence of a dialogue between authori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380880" y="16002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988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1.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Lack of awareness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National rul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ive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impress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at they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lways prev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Businesses and administrations take the national      rule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tual recognition is a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ncept developed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jurisprudenc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Court of just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n Articles 28 and 30 EC Trea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Few people are familiar with mutual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16000" y="2781360"/>
            <a:ext cx="6985080" cy="792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332000" y="5229360"/>
            <a:ext cx="6408720" cy="792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2.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Legal uncertainty about scope and burden of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cope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products are cove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spread legal uncertainty about th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burden of pro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bundant jurisprudence of the Court of Justice requires specialised leg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National administrations and businesses take a very cautious attit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26920" y="5084640"/>
            <a:ext cx="7128000" cy="792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3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.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risk for businesses in another Member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Difficu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businesses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to know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5fa9"/>
                </a:solidFill>
                <a:uFillTx/>
                <a:latin typeface="Arial"/>
              </a:rPr>
              <a:t>if, h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5fa9"/>
                </a:solidFill>
                <a:uFillTx/>
                <a:latin typeface="Arial"/>
              </a:rPr>
              <a:t>when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recognition will be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Risk avoidance through dialogue (negotiations?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with administration of Member State of destination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26920" y="4437000"/>
            <a:ext cx="7417080" cy="86364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4.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absence of dialogue between competent auth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Lack of common add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ok for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authorities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wish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to conta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ir colleagues in another Member State where the product is lawfully mark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ifficult for competent authorities to identify and  contact their colleagues in other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55640" y="4365720"/>
            <a:ext cx="7777080" cy="936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24000" y="1484280"/>
            <a:ext cx="85150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380880" y="13716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365720"/>
            <a:ext cx="6840720" cy="57600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064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Summary of the Re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enial of mutual recognition</a:t>
            </a: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becomes th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exception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ights and oblig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rden of pro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receiving Memb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ght  deadli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receiving Memb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Product Contact Poi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Member States will provide information to enterprises and competen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l Decision 3052/95/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Indicative list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9"/>
                </a:solidFill>
                <a:latin typeface="Arial"/>
              </a:rPr>
              <a:t>Chapter 1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. Subject-matter and 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2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. The possible application of a       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   technical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3</a:t>
            </a:r>
            <a:r>
              <a:rPr b="0" lang="en-GB" sz="3200" spc="-1" strike="noStrike">
                <a:solidFill>
                  <a:srgbClr val="005fa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 Product Contac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4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. Fina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1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dministrative decision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ressed to economic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rectly or indirectly denying access to the mar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sed on a « technical rule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ial of market access -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effect of the deci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ication (1 or + character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15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380880" y="13716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484280"/>
            <a:ext cx="6192720" cy="57636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18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fa9"/>
                </a:solidFill>
                <a:latin typeface="Arial"/>
              </a:rPr>
              <a:t>Technical rul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law, regulation or other national r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 harmon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hibiting or restric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marketing of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lawfully marke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another Member State due to its characteristics (performance, safety, marking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en-GB" sz="2200" spc="-1" strike="noStrike">
                <a:solidFill>
                  <a:srgbClr val="005fa9"/>
                </a:solidFill>
                <a:latin typeface="Arial"/>
              </a:rPr>
              <a:t>does not apply to decisions of judici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aken b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cour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w enforcement authori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ertain types of criminal offences (e.g. racism, xenopho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716280"/>
            <a:ext cx="8363160" cy="22096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specifications drawn up for public procurement procedures not constitute technical rules within the meaning of this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848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oes not app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railway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dangerous products under G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food and feed in order to protect human health and requiring rapi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measures for food and 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s regarding non-compliance with EU food and feed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2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371240"/>
            <a:ext cx="82234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Mutual recognition = basic ru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 Trea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actual and possibl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enial of mutual recognition governed by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le denial of mutual recogni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igation for national authorities to start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dialogue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conomic operator and to follow the procedural requirements established by th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9480" y="5029200"/>
            <a:ext cx="8066160" cy="1143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114800" y="4572000"/>
            <a:ext cx="216000" cy="399960"/>
          </a:xfrm>
          <a:prstGeom prst="downArrow">
            <a:avLst>
              <a:gd name="adj1" fmla="val 50000"/>
              <a:gd name="adj2" fmla="val 46292"/>
            </a:avLst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1: MS intends to adopt decision to deny MR</a:t>
            </a:r>
            <a:r>
              <a:rPr b="0" lang="en-GB" sz="3000" spc="-1" strike="noStrike">
                <a:solidFill>
                  <a:srgbClr val="005fa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ten not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economic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pecify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chnical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tting ou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technical or scientific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evide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the intended decision is justified by overriding reason of public intere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no less trade-restrictive measure can be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nd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d 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acteristics or type of produ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2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economic operator can submit comment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time limit set out in written no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3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assessment of comment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18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Step 4: decision by public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Positive</a:t>
            </a:r>
            <a:r>
              <a:rPr b="0" lang="en-GB" sz="2400" spc="-1" strike="noStrike">
                <a:solidFill>
                  <a:srgbClr val="6699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operator must be informed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Negative</a:t>
            </a:r>
            <a:r>
              <a:rPr b="0" lang="en-GB" sz="24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be notified to economic operator and EC within 20 (or 40) working days following expiry of deadline for receipt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take account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state all the reasons on which it is based (e.g. reasons for rejecting arguments, technical and scientific evidence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specify national reme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No decis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20 (or 40) working day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umption of lawful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Competent authoritie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mediately infor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conomic operator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echnical or scientific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eir decision on the grounds of Article 30 or mandatory requirements recognised by EC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 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5fa9"/>
                </a:solidFill>
                <a:uFillTx/>
                <a:latin typeface="Arial"/>
              </a:rPr>
              <a:t>Temporary suspension of mark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Competent authorities may only suspend  market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duct poses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erious risk to the safe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health of  users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rketing of the product is generally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hibi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Member State on grounds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ublic mor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public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Competent authoritie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mediately info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operator and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chnical or scientif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ir dec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3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roduct Contact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ber States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ust designat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t least one Product Contact Point and inform EC &amp; 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ber States are free to entrust the role of Product Contact Point to</a:t>
            </a:r>
            <a:r>
              <a:rPr b="1" lang="en-GB" sz="2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new or existing private or public bo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Task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to be performed upon request and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free of charg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ithin 15 working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What is mutual recognition?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42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method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nsuring free movement of good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non-harmonised</a:t>
            </a:r>
            <a:r>
              <a:rPr b="1" lang="fr-BE" sz="3000" spc="-1" strike="noStrike" u="sng">
                <a:solidFill>
                  <a:srgbClr val="000000"/>
                </a:solidFill>
                <a:uFillTx/>
                <a:latin typeface="Arial"/>
              </a:rPr>
              <a:t> area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the EU (articles 28 and 30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C Trea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means of ensuring an optimal functioning of the Internal Mar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erged out of the Court of Justice’s famous “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Cassis de Dijon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Judgement (197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250920" y="1125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669900"/>
                </a:solidFill>
                <a:uFillTx/>
                <a:latin typeface="Arial"/>
              </a:rPr>
              <a:t>Product Contac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Provide technical rules applicabl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a specific type of product in that Member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dvis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ther the product is subject to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prior authori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iv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ntact detail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mpetent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Describe remedi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enerally available in the national territory in the event of a dispute between competent authorities and economic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4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09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669900"/>
                </a:solidFill>
                <a:uFillTx/>
                <a:latin typeface="Arial"/>
              </a:rPr>
              <a:t>Fina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eporting obligation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 States must send the Commission a yearly report on the application of th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ing by the Commission to EP and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Non-exhaustive list of produ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re not subject to EC harm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epeal Decision 3052/95/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will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apply from 13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005fa9"/>
                </a:solidFill>
                <a:uFillTx/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Regulation does not prevent harmonis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national technical rules on specific categories of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text of the Regulatio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-lex.europa.eu/LexUriServ/LexUriServ.do?uri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OJ:L:2008:218:0021:0029:EN: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more information please visit</a:t>
            </a:r>
            <a:r>
              <a:rPr b="0" lang="en-GB" sz="28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c.europa.eu/enterprise/regulation/goods/mutrec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24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principle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80880" y="1746360"/>
            <a:ext cx="842508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it 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rticle 28 – free movement of go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rticle 30 – justified and proportionate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stri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04920" y="137160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50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principle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79280" y="1341360"/>
            <a:ext cx="87361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A general rule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(Article 28 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not prohibit or restri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lawfully market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other 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 u="sng">
                <a:solidFill>
                  <a:srgbClr val="669900"/>
                </a:solidFill>
                <a:uFillTx/>
                <a:latin typeface="Arial"/>
              </a:rPr>
              <a:t>even i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re a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differ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tween the various 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ntail a comparison between technical rules of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00000" y="2276640"/>
            <a:ext cx="7775640" cy="2304720"/>
          </a:xfrm>
          <a:prstGeom prst="rect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50920" y="126828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79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rticl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4000" y="1341360"/>
            <a:ext cx="842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An Excep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ticle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s of an overriding requirement of general public importance 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datory requir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recognised by the case law of the ECJ, e.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vention of tax eva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tection of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portion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the aim purs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0920" y="134136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79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rticl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79280" y="1268280"/>
            <a:ext cx="856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The exceptions in Article 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the health and life of humans, animal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national treasures possessing artistic, historic or archaeolog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industrial and commerci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50920" y="112536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2411280" y="624852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5092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dvantages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580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ee mov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product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out harm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s can b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ed throughout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ariety of produ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e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ect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versity and subsidi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be invoked by citizens and enterpri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fore national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26828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Background to this Regulation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blems in the field of mutual recognition have been a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recurrent issue on: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Council’s agend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ince 199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Single Market Action Pla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1997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Internal Market Strategy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1999-200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Market Strategy 2003-200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[COM(2003)238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ROBAYID</cp:lastModifiedBy>
  <cp:lastPrinted>2008-06-02T19:37:29Z</cp:lastPrinted>
  <dcterms:modified xsi:type="dcterms:W3CDTF">2008-11-10T16:08:23Z</dcterms:modified>
  <cp:revision>36</cp:revision>
  <dc:subject/>
  <dc:title>Présentation PowerPoint</dc:title>
</cp:coreProperties>
</file>