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DA2-DF37-4724-88BB-52A460E6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7B7-F2ED-4B2F-8E5E-F4F8927A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CE4-99C6-4913-9AA2-EE789D8A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201-8262-4326-98C3-340F2C63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F40-5F0B-40AE-9394-0A3A0E9C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47A-7303-4894-90FA-FA1A780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3540-0352-4F05-88F1-D264681D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2C6D-9720-4DFE-9945-BD11618F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47E5-2EF1-40D1-90C6-6A3E78DD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B91-046A-44FC-86DB-D72FF3BC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A86-CB9E-4611-A674-1D8117C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5FB-D103-47F6-9938-D7419D31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93E1-25BA-4714-BE71-31C7012B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6D3-922E-49AF-9439-1615A26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9D08-B350-48F2-9576-E40804E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F2FB-E935-4782-9960-2589EE90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E18-C740-433C-B972-D24F0A07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7ED-F644-4AB0-BEB5-BABC5A01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0B1-062B-4886-B613-2B30A69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F18-4B64-408C-9687-2EBCDAA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AE4-0861-45E8-8329-1B8405B8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E73-BCA8-4CCA-B6E3-C60BDD41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A69-46D9-404C-AE6A-596EEB0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306-3EE2-4A0A-B139-E248E0E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1214-FDF0-454B-B562-03696973E2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320C-0CB4-4593-AAB1-776DE6901D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3 December 2012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TA format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84040" y="4941720"/>
            <a:ext cx="88934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Structure of implementing act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mplementing Regulation (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emplate to follow general mod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ea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ferences to legal b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structions / explanation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hort main text (Articl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ormat itself as Annex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rocess &amp; timeframes</a:t>
            </a:r>
            <a:br>
              <a:rPr sz="36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2536560"/>
            <a:ext cx="74707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fore 01 July 2013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scussions with different stakeholde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CC March(?): first draft text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01 &amp; 02 July 2013 [tbc], SC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rmal consultation of MS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internal procedure [x weeks]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cision-making in EC [y weeks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ublication in OJEU [w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ntry into force [z days after]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f5494"/>
                </a:solidFill>
                <a:latin typeface="Verdana"/>
              </a:rPr>
              <a:t>For more information</a:t>
            </a:r>
            <a:endParaRPr b="1" lang="en-US" sz="3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f5494"/>
                </a:solidFill>
                <a:latin typeface="Verdana"/>
              </a:rPr>
              <a:t>e-mail: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     Tapani.Mikkeli@ec.europa.eu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58920" y="4437000"/>
            <a:ext cx="87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http</a:t>
            </a:r>
            <a:r>
              <a:rPr b="1" i="1" lang="fr-BE" sz="1200" spc="-1" strike="noStrike">
                <a:solidFill>
                  <a:srgbClr val="0f5494"/>
                </a:solidFill>
                <a:latin typeface="Verdana"/>
              </a:rPr>
              <a:t>://ec.europa</a:t>
            </a:r>
            <a:r>
              <a:rPr b="1" i="1" lang="en-GB" sz="1200" spc="-1" strike="noStrike">
                <a:solidFill>
                  <a:srgbClr val="0f5494"/>
                </a:solidFill>
                <a:latin typeface="Verdana"/>
              </a:rPr>
              <a:t>.eu/enterprise/construction/index_en.htm</a:t>
            </a: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98480"/>
                <a:tab algn="l" pos="22352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fr-FR" sz="3900" spc="-1" strike="noStrike">
                <a:solidFill>
                  <a:srgbClr val="0f5494"/>
                </a:solidFill>
                <a:latin typeface="Verdana"/>
              </a:rPr>
              <a:t>Implementing act, Art 26(3)</a:t>
            </a:r>
            <a:r>
              <a:rPr b="0" lang="en-GB" sz="3900" spc="-1" strike="noStrike">
                <a:solidFill>
                  <a:srgbClr val="0f5494"/>
                </a:solidFill>
                <a:latin typeface="Verdana"/>
              </a:rPr>
              <a:t>           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797200"/>
            <a:ext cx="8748720" cy="32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In order to ensure the uniform implementation" of 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"to establish the format" of ET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ith the consultation of SCC-CP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cedures pursuant to Regulation (EU) 182/2011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TA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EAD to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viding the sufficient support for manufacturers when drawing up DoP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urate &amp; reliable data on performance as agre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oP to deliver accurate inform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in between: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Draft contents of ETA</a:t>
            </a:r>
            <a:r>
              <a:rPr b="0" lang="en-GB" sz="3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3152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General fra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ases (CPR + respective EAD [ETAG]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th intended 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(in table, cf. Do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PC specifics (if necessary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General framework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AB identific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TA numb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produc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tion of manufacturer / pla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Legal bases &amp; sources of rules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otabl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PR as generic refere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AD [ETAG] having been appli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VCP referenc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ithdrawal?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2040" y="1413000"/>
            <a:ext cx="8140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roduct description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echnical description of the produc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o determine the object assess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nded use(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tallation instru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rresponding to EAD ru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ife cycle estim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Performance information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f. DoP, Annex III point 9.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erformance information in a ta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essential characteristic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presenting the outcome of the assess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5610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Specifics on FPC</a:t>
            </a:r>
            <a:br>
              <a:rPr sz="3600"/>
            </a:b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2852280"/>
            <a:ext cx="747072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 rules ("principles", cf. Art 24(2)) in EA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ere only "necessary technical details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fferentiation between product-types or manufacturing pl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fidentiality concern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apszjo</cp:lastModifiedBy>
  <dcterms:modified xsi:type="dcterms:W3CDTF">2012-11-21T14:26:30Z</dcterms:modified>
  <cp:revision>158</cp:revision>
  <dc:subject/>
  <dc:title>Slide 1</dc:title>
</cp:coreProperties>
</file>