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F7D-79EE-4157-9AB4-13135D7A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BDF-B9F4-48F5-9FCA-A03C1F21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F55-1200-4F8D-A165-10AE7B58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455-95C5-493C-A21F-888F268D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939C-709A-4556-AAD3-58ED6315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16B5-9986-4350-972C-10CA295F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52BB-E999-48D4-9071-0002913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2929-66E2-4145-8146-A50A707E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3835-FAF0-46EE-9DAF-DDE36A8D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1C9C-EE74-4F85-B64B-A2E80A22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2667-C661-471A-92C3-9BC5547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2FB-2B07-4153-AAFA-F1E66D9D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8962-0360-494C-9C90-AF0F5F8E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5CA2-7D84-4DBF-B057-34B3A7BA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1E5E-259A-4CED-ABFE-8E9B7ED3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ADBD-839C-48ED-A1A6-E31BEAB0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0BC4-9F73-41DE-9ECB-D347FA31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AAB-47DF-4AD2-84C8-29EE177E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276-30C3-4C08-B8A6-1B4EC759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462-AECF-4630-B034-45A442F8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9F2-3503-42D7-B1DC-85659D2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7E9-8622-4B1B-99B3-D465773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8D7-B056-4042-A5D9-943E5C75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748-118F-4F6B-AA7E-6BABFED8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3FFB-3EFD-4AFF-9CC7-600CC6C002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281F-4F2A-4755-A6DA-6F7ECBEDA0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3 December 2012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MS &amp; DoP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50920" y="4941720"/>
            <a:ext cx="8893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f5494"/>
                </a:solidFill>
                <a:latin typeface="Verdana"/>
              </a:rPr>
              <a:t>For more information</a:t>
            </a:r>
            <a:endParaRPr b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e-mail: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construction@ec.europa.eu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-17496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Tapani.Mikkeli@ec.europa.eu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58920" y="4437000"/>
            <a:ext cx="878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http</a:t>
            </a: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://ec.europa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.eu/enterprise/construction/index_en.htm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Towards uniform application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rnal Market: Free circ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ready Art 34 – 36 TFEU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monisation to enhance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nufacturers require certain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en products legally placed on the market, within free circu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additional obstac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stinction "substance" / proced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ntent of requirements / method of setting the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Roles and responsibilities of different actor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nufacturers (&amp; importers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urate and reliable information on perform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structions &amp; safety information 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stributor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eiving and forwarding the relevant informat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Users of construction products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sponsibility for their appropriate us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This cannot be rolled over to economic operators!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Requirements by MS [I]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ully compatible where for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8(4) also linking requirements with 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tural context: impact on works, BWR et 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:s 8(3)&amp;(6), 17(5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in fine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: Through hE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here in place, compliance demonstrated only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oP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(Art 4(2)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r such products, resort to Art 5 excluded when used for such purpo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Requirements by MS [II]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king available on the market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??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linked to use, cf. above;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if not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?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reating obstacles to free circ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sides, risk / hazard / danger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not linked to use, general: caused by the product as such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t exclusively concerning construction produ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refore treated by other legislati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01800"/>
            <a:ext cx="75610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omparisons with mutual recognition (Art 34 – 36 TFEU)</a:t>
            </a:r>
            <a:br>
              <a:rPr sz="36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06640" y="2852280"/>
            <a:ext cx="747072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legally marketed in other MS, why not here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p to MS to demonstrate reas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general &amp; inherent danger, why allowed elsewhere?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hy should CPR entail wider competences for MS within the harmonised sphere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f. recent Art 34 – 36 ECJ jud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-171/11 (Fra.B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-385/10 (Elenca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Conclusions on requirements by MS 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315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Only for use, not for making available on the market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atter constituting Art 8(4) –obstac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6(3)(e) does not make a difference here: "taking into account" only!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 legal base for MS to set additional new obligations for manufactur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unctioning of the system necessitates uniform procedures &amp; procedural ru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eating legal certainty for manufactur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Distinguishable situation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ll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MS were to set exactly the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ame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requirements for making available on the market, no obstacles (Art 8(4)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owever, for EU-wide needs Art 3(3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Art 3(3) applied, legal requirement in place for manufacturer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gain Art 4(2), DoP only way to demonstr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6(3)(d) obliging manufacturers to decla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refore, resort to Art 5 exclud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Verdana"/>
              </a:rPr>
              <a:t>MS not to regulate over CPR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PR contains all necessary rules about the obligations of manufacturer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S not to change this whol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therwise, uniform application threatened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sequence: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Not allowed for MS to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hoose the characteristics to be declare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imit the scope of application of Art 5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(if not through requirements for use)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katsage</cp:lastModifiedBy>
  <cp:lastPrinted>2012-11-29T14:44:58Z</cp:lastPrinted>
  <dcterms:modified xsi:type="dcterms:W3CDTF">2012-11-30T09:53:50Z</dcterms:modified>
  <cp:revision>171</cp:revision>
  <dc:subject/>
  <dc:title>Slide 1</dc:title>
</cp:coreProperties>
</file>