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50F0-2A42-4311-9497-15BD39AD7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886E-99E4-4067-AC6F-623FD26F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F753-B917-4568-A813-CEF8413C1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0F87-6873-43C9-A8E3-5F68074C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28EA-D9A9-4030-8055-A3330AF47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3533-8B60-4770-8CF6-D528AE1E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2DA2-DF11-45C4-8BFB-9D603E57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C578-3D71-4043-A5BA-B0C77436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2993-5A58-4104-802E-9DD4FFF7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3871-15F4-4550-B05A-E0027023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9F9B-5CFB-4044-B167-C16BC4C8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AFEB-6BCE-47EE-BD81-2BADE5EA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CB7B-181B-437E-9505-23D6ED01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987B-7569-4F83-8B59-2150756C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8AC1-8D29-461C-BB2F-C4424C6C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FC7F-688A-48CB-9D12-BEA46F62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E4DC-E688-4BFD-9E75-52303AF3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049B-BA3C-4F65-8E0A-E3A8DB54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FB57-C685-4E8B-B744-522C49A6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2633-3664-4F6A-848E-E5242289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4C1C-7D09-48DC-8367-44428147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6895-BC46-483C-96F9-EF4FC94A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D6B0-492F-4B5A-B32B-F31B303B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767E-77C8-4C80-9637-CD09EC84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4220-7D42-4609-BF32-D0F092CEB4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5" descr="LOGO CE-EN-NEG-quadri.ai"/>
          <p:cNvPicPr/>
          <p:nvPr/>
        </p:nvPicPr>
        <p:blipFill>
          <a:blip r:embed="rId2"/>
          <a:stretch/>
        </p:blipFill>
        <p:spPr>
          <a:xfrm>
            <a:off x="392112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4262400" y="6686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37000"/>
            <a:ext cx="28958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4443-4827-4317-8A83-FDD10C1AAF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116000" y="1484280"/>
            <a:ext cx="691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3" descr="euflag"/>
          <p:cNvPicPr/>
          <p:nvPr/>
        </p:nvPicPr>
        <p:blipFill>
          <a:blip r:embed="rId1"/>
          <a:stretch/>
        </p:blipFill>
        <p:spPr>
          <a:xfrm>
            <a:off x="4067280" y="333360"/>
            <a:ext cx="914400" cy="6127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539640" y="278136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Verdana"/>
              </a:rPr>
              <a:t>CPR SCC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ussels, 3 December 2012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95280" y="1413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TA format </a:t>
            </a:r>
            <a:r>
              <a:rPr b="1" lang="fr-FR" sz="7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 </a:t>
            </a:r>
            <a:endParaRPr b="1" lang="en-US" sz="72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9" name="Picture 6" descr="bluebullet"/>
          <p:cNvPicPr/>
          <p:nvPr/>
        </p:nvPicPr>
        <p:blipFill>
          <a:blip r:embed="rId2"/>
          <a:stretch/>
        </p:blipFill>
        <p:spPr>
          <a:xfrm>
            <a:off x="-4365720" y="304812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bluebullet"/>
          <p:cNvPicPr/>
          <p:nvPr/>
        </p:nvPicPr>
        <p:blipFill>
          <a:blip r:embed="rId3"/>
          <a:stretch/>
        </p:blipFill>
        <p:spPr>
          <a:xfrm>
            <a:off x="-4365720" y="3200400"/>
            <a:ext cx="123840" cy="95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bluebullet"/>
          <p:cNvPicPr/>
          <p:nvPr/>
        </p:nvPicPr>
        <p:blipFill>
          <a:blip r:embed="rId4"/>
          <a:stretch/>
        </p:blipFill>
        <p:spPr>
          <a:xfrm>
            <a:off x="-4429080" y="263700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bluebullet"/>
          <p:cNvPicPr/>
          <p:nvPr/>
        </p:nvPicPr>
        <p:blipFill>
          <a:blip r:embed="rId5"/>
          <a:stretch/>
        </p:blipFill>
        <p:spPr>
          <a:xfrm>
            <a:off x="-4365720" y="350532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bluebullet"/>
          <p:cNvPicPr/>
          <p:nvPr/>
        </p:nvPicPr>
        <p:blipFill>
          <a:blip r:embed="rId6"/>
          <a:stretch/>
        </p:blipFill>
        <p:spPr>
          <a:xfrm>
            <a:off x="-4365720" y="3809880"/>
            <a:ext cx="123840" cy="95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bluebullet"/>
          <p:cNvPicPr/>
          <p:nvPr/>
        </p:nvPicPr>
        <p:blipFill>
          <a:blip r:embed="rId7"/>
          <a:stretch/>
        </p:blipFill>
        <p:spPr>
          <a:xfrm>
            <a:off x="-4365720" y="3962520"/>
            <a:ext cx="123840" cy="95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2"/>
          <p:cNvSpPr/>
          <p:nvPr/>
        </p:nvSpPr>
        <p:spPr>
          <a:xfrm>
            <a:off x="284040" y="4941720"/>
            <a:ext cx="889344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pani Mikkeli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ropean Commission,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orate-General Enterprise and Industry</a:t>
            </a:r>
            <a:br>
              <a:rPr sz="1800"/>
            </a:b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t B1, sector 01: Sustainable construc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1413000"/>
            <a:ext cx="75610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Structure of implementing act</a:t>
            </a:r>
            <a:br>
              <a:rPr sz="3600"/>
            </a:b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6000" y="2852280"/>
            <a:ext cx="7470720" cy="31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ommission Implementing Regulation (?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Template to follow general mod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Preambl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References to legal bas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Instructions / explanation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Short main text (Article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Format itself as Annex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1413000"/>
            <a:ext cx="75610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Process &amp; timeframes</a:t>
            </a:r>
            <a:br>
              <a:rPr sz="3600"/>
            </a:b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6000" y="2536560"/>
            <a:ext cx="747072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efore 01 July 2013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iscussions with different stakeholder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SCC March(?): first draft text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On 01 &amp; 02 July 2013 [tbc], SCC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Formal consultation of MS 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ommission internal procedure [x weeks]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Decision-making in EC [y weeks]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Publication in OJEU [w days after]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Entry into force [z days after]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4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f5494"/>
                </a:solidFill>
                <a:latin typeface="Verdana"/>
              </a:rPr>
              <a:t>For more information</a:t>
            </a:r>
            <a:endParaRPr b="1" lang="en-US" sz="3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3068640"/>
            <a:ext cx="8893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0f5494"/>
                </a:solidFill>
                <a:latin typeface="Verdana"/>
              </a:rPr>
              <a:t>e-mail: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     Tapani.Mikkeli@ec.europa.eu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358920" y="4437000"/>
            <a:ext cx="87850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f5494"/>
                </a:solidFill>
                <a:latin typeface="Verdana"/>
              </a:rPr>
              <a:t>http</a:t>
            </a:r>
            <a:r>
              <a:rPr b="1" i="1" lang="fr-BE" sz="1200" spc="-1" strike="noStrike">
                <a:solidFill>
                  <a:srgbClr val="0f5494"/>
                </a:solidFill>
                <a:latin typeface="Verdana"/>
              </a:rPr>
              <a:t>://ec.europa</a:t>
            </a:r>
            <a:r>
              <a:rPr b="1" i="1" lang="en-GB" sz="1200" spc="-1" strike="noStrike">
                <a:solidFill>
                  <a:srgbClr val="0f5494"/>
                </a:solidFill>
                <a:latin typeface="Verdana"/>
              </a:rPr>
              <a:t>.eu/enterprise/construction/index_en.htm</a:t>
            </a:r>
            <a:r>
              <a:rPr b="1" i="1" lang="en-US" sz="12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1413000"/>
            <a:ext cx="84596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698480"/>
                <a:tab algn="l" pos="22352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  <a:tab algn="l" pos="10667880"/>
              </a:tabLst>
            </a:pPr>
            <a:r>
              <a:rPr b="1" lang="fr-FR" sz="3900" spc="-1" strike="noStrike">
                <a:solidFill>
                  <a:srgbClr val="0f5494"/>
                </a:solidFill>
                <a:latin typeface="Verdana"/>
              </a:rPr>
              <a:t>Implementing act, Art 26(3)</a:t>
            </a:r>
            <a:r>
              <a:rPr b="0" lang="en-GB" sz="3900" spc="-1" strike="noStrike">
                <a:solidFill>
                  <a:srgbClr val="0f5494"/>
                </a:solidFill>
                <a:latin typeface="Verdana"/>
              </a:rPr>
              <a:t>           </a:t>
            </a:r>
            <a:endParaRPr b="1" lang="en-US" sz="3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2797200"/>
            <a:ext cx="8748720" cy="32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"In order to ensure the uniform implementation" of CPR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"to establish the format" of ETA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With the consultation of SCC-CPR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rocedures pursuant to Regulation (EU) 182/2011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0f5494"/>
                </a:solidFill>
                <a:latin typeface="Verdana"/>
              </a:rPr>
              <a:t>Function of ETA</a:t>
            </a:r>
            <a:endParaRPr b="1" lang="en-US" sz="3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3152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ridging EAD to DoP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Providing the sufficient support for manufacturers when drawing up DoP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ccurate &amp; reliable data on performance as agreed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Roles clear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EAD to contain the rules to be followed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oP to deliver accurate inform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ETA in between: based on rules in EAD, creating the agreed and necessary data for DoP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141300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0f5494"/>
                </a:solidFill>
                <a:latin typeface="Verdana"/>
              </a:rPr>
              <a:t>Draft contents of ETA</a:t>
            </a:r>
            <a:r>
              <a:rPr b="0" lang="en-GB" sz="30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781360"/>
            <a:ext cx="831528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General fram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ases (CPR + respective EAD [ETAG]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VCP references?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Product descrip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with intended us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Performance information (in table, cf. DoP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FPC specifics (if necessary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1413000"/>
            <a:ext cx="75610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f5494"/>
                </a:solidFill>
                <a:latin typeface="Verdana"/>
              </a:rPr>
              <a:t>General framework</a:t>
            </a:r>
            <a:br>
              <a:rPr sz="3600"/>
            </a:b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6000" y="2852280"/>
            <a:ext cx="7470720" cy="31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Notably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TAB identifica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ETA numbe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dentification of product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dentification of manufacturer / pla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2040" y="1413000"/>
            <a:ext cx="81406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f5494"/>
                </a:solidFill>
                <a:latin typeface="Verdana"/>
              </a:rPr>
              <a:t>Legal bases &amp; sources of rules</a:t>
            </a:r>
            <a:br>
              <a:rPr sz="3600"/>
            </a:b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6000" y="2852280"/>
            <a:ext cx="7470720" cy="31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Notably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PR as generic referenc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EAD [ETAG] having been applie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VCP references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Verdana"/>
              </a:rPr>
              <a:t>Withdrawal?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2040" y="1413000"/>
            <a:ext cx="81406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f5494"/>
                </a:solidFill>
                <a:latin typeface="Verdana"/>
              </a:rPr>
              <a:t>Product description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6000" y="2852280"/>
            <a:ext cx="7470720" cy="31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Technical description of the produc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to determine the object assessed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tended use(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stallation instruction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orresponding to EAD rul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Life cycle estimation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1413000"/>
            <a:ext cx="75610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f5494"/>
                </a:solidFill>
                <a:latin typeface="Verdana"/>
              </a:rPr>
              <a:t>Performance information</a:t>
            </a:r>
            <a:br>
              <a:rPr sz="3600"/>
            </a:b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6000" y="2852280"/>
            <a:ext cx="7470720" cy="31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f. DoP, Annex III point 9.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Performance information in a tabl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y essential characteristic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nd presenting the outcome of the assess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1413000"/>
            <a:ext cx="75610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f5494"/>
                </a:solidFill>
                <a:latin typeface="Verdana"/>
              </a:rPr>
              <a:t>Specifics on FPC</a:t>
            </a:r>
            <a:br>
              <a:rPr sz="3600"/>
            </a:b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6000" y="2852280"/>
            <a:ext cx="7470720" cy="31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in rules ("principles", cf. Art 24(2)) in EAD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Here only "necessary technical details"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Differentiation between product-types or manufacturing pla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onfidentiality concerns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lapszjo</cp:lastModifiedBy>
  <dcterms:modified xsi:type="dcterms:W3CDTF">2012-11-21T14:26:30Z</dcterms:modified>
  <cp:revision>158</cp:revision>
  <dc:subject/>
  <dc:title>Slide 1</dc:title>
</cp:coreProperties>
</file>