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59C-7C68-4C06-9303-D1922D2A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F78-F21E-4E03-9FF9-E3415EA7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55C-735F-4CB1-86B1-3840234E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9EA-6DB2-4591-B69E-4C2ED4E1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5C1A-AAF5-499B-9152-198DF4CA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112C-7071-4C8F-8C70-BA7FD223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A0BF-8D2D-44C7-965A-F8886F96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16C8-E359-449F-B30B-84D3215F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E6CF-848F-4CF4-B94D-DA18F08E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E949-DC72-4F75-AD4B-C9B47A94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41EE-045B-45E0-BCE0-672F485E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FB5-4460-41B7-A52F-20C511BC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E079-18CE-4B4E-9958-F3496EBD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1C0-A230-4A87-BEF2-59E2B8B7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3254-8F34-44D6-9937-D4EB16EF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849C-ADA1-43C2-A0AA-9A94D2E3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17AD-ED65-4483-924C-874176FB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AFD-0658-4E3A-8A04-DA97D2C4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881-2979-4CA7-9D96-F28AA357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3A6-1575-4118-9F5F-CA299EBC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5DA-1284-43E1-A9F1-2683C4FC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25D-F2AF-49A7-9866-32FE59B0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F2E-40C9-4ED9-A1A5-07864B91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A67-1E61-4FBA-880A-AD9F3D12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563F-9248-4801-AB63-D0102E0B87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800C-43F6-4131-B7FF-65BFFE0F12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3 December 2012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TA format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84040" y="4941720"/>
            <a:ext cx="889344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Structure of implementing act</a:t>
            </a:r>
            <a:br>
              <a:rPr sz="36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Implementing Regulation (?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emplate to follow general mod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ea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ferences to legal ba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structions / explanati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hort main text (Articl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ormat itself as Anne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rocess &amp; timeframes</a:t>
            </a:r>
            <a:br>
              <a:rPr sz="36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2536560"/>
            <a:ext cx="74707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fore 01 July 2013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iscussions with different stakeholde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CC March(?): first draft text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 01 &amp; 02 July 2013 [tbc], SCC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rmal consultation of MS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internal procedure [x weeks]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ecision-making in EC [y weeks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ublication in OJEU [w days after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ntry into force [z days after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f5494"/>
                </a:solidFill>
                <a:latin typeface="Verdana"/>
              </a:rPr>
              <a:t>For more information</a:t>
            </a:r>
            <a:endParaRPr b="1" lang="en-US" sz="3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3068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e-mail: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    Tapani.Mikkeli@ec.europa.eu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58920" y="4437000"/>
            <a:ext cx="8785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http</a:t>
            </a:r>
            <a:r>
              <a:rPr b="1" i="1" lang="fr-BE" sz="1200" spc="-1" strike="noStrike">
                <a:solidFill>
                  <a:srgbClr val="0f5494"/>
                </a:solidFill>
                <a:latin typeface="Verdana"/>
              </a:rPr>
              <a:t>://ec.europa</a:t>
            </a:r>
            <a:r>
              <a:rPr b="1" i="1" lang="en-GB" sz="1200" spc="-1" strike="noStrike">
                <a:solidFill>
                  <a:srgbClr val="0f5494"/>
                </a:solidFill>
                <a:latin typeface="Verdana"/>
              </a:rPr>
              <a:t>.eu/enterprise/construction/index_en.htm</a:t>
            </a: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698480"/>
                <a:tab algn="l" pos="22352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1" lang="fr-FR" sz="3900" spc="-1" strike="noStrike">
                <a:solidFill>
                  <a:srgbClr val="0f5494"/>
                </a:solidFill>
                <a:latin typeface="Verdana"/>
              </a:rPr>
              <a:t>Implementing act, Art 26(3)</a:t>
            </a:r>
            <a:r>
              <a:rPr b="0" lang="en-GB" sz="3900" spc="-1" strike="noStrike">
                <a:solidFill>
                  <a:srgbClr val="0f5494"/>
                </a:solidFill>
                <a:latin typeface="Verdana"/>
              </a:rPr>
              <a:t>           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2797200"/>
            <a:ext cx="8748720" cy="32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"In order to ensure the uniform implementation" of CP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"to establish the format" of ET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ith the consultation of SCC-CP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cedures pursuant to Regulation (EU) 182/2011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Function of ETA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ridging EAD to Do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oviding the sufficient support for manufacturers when drawing up Do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ccurate &amp; reliable data on performance as agre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oles clea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AD to contain the rules to be follow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oP to deliver accurate inform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TA in between: based on rules in EAD, creating the agreed and necessary data for Do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Draft contents of ETA</a:t>
            </a:r>
            <a:r>
              <a:rPr b="0" lang="en-GB" sz="3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General fra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ases (CPR + respective EAD [ETAG]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VCP references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oduct descrip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ith intended u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erformance information (in table, cf. DoP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PC specifics (if necessary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General framework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tabl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AB identific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TA numb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cation of produc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cation of manufacturer / pla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2040" y="1413000"/>
            <a:ext cx="81406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Legal bases &amp; sources of rules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tabl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PR as generic refere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AD [ETAG] having been appli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VCP referenc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Withdrawal?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2040" y="1413000"/>
            <a:ext cx="81406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Product description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echnical description of the produc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o determine the object assess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nded use(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stallation instru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rresponding to EAD ru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ife cycle estimation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Performance information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f. DoP, Annex III point 9.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erformance information in a ta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y essential characteristic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nd presenting the outcome of the assess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Specifics on FPC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 rules ("principles", cf. Art 24(2)) in EAD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Here only "necessary technical details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fferentiation between product-types or manufacturing pla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fidentiality concern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lapszjo</cp:lastModifiedBy>
  <dcterms:modified xsi:type="dcterms:W3CDTF">2012-11-21T14:26:30Z</dcterms:modified>
  <cp:revision>158</cp:revision>
  <dc:subject/>
  <dc:title>Slide 1</dc:title>
</cp:coreProperties>
</file>