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B961-7399-454F-8935-23468DE21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4774-8E27-41F1-9D77-EFBA6D60C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792B-34C7-41DE-B907-652B0BF81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E0FF-9A5E-4146-85BD-D1F640EA3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D80FF-D113-4CB5-B803-93F194BCF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BD494-9FFB-4C8B-B91C-E675F683C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BFEB1-D109-4F31-8026-E69D3CB66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250BB-DEBB-45B5-9DC0-D7A0AF2B8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8DA54-0E70-43C1-BC40-37C63E7E3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52FBA-D98C-40D4-B8F0-4445C17A0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F9A87-AA98-4648-8419-B717F9B2D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1D91-09A0-4494-AAF9-865346827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CF53B-B331-4A27-8F16-4FB1C2BC8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08861-61E4-4DFC-9676-B4BA8CC73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F44DC-EF53-4520-AD58-F67838A9C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88556-5047-4063-92BF-C2690372A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A7333-9511-46F3-9F43-3CB2C2145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EC38-1CCB-4CEC-A096-4095EA5C1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59D4-4107-45D4-A002-69B1B19DA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08F3-99E7-4373-8C8D-78BC8F77F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4188-0280-4716-A007-568C699F4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ABE1-F8A4-4303-AE35-A8872B020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DDFF-A6B0-48A9-8F99-4E997DED2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E010-235E-4A0F-A736-B78F141E4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66B3E-763D-493B-88C7-0DEBF342EA4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98892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42" name="Picture 5" descr="LOGO CE-EN-NEG-quadri.ai"/>
          <p:cNvPicPr/>
          <p:nvPr/>
        </p:nvPicPr>
        <p:blipFill>
          <a:blip r:embed="rId2"/>
          <a:stretch/>
        </p:blipFill>
        <p:spPr>
          <a:xfrm>
            <a:off x="3921120" y="0"/>
            <a:ext cx="1511280" cy="151128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8"/>
          <p:cNvSpPr/>
          <p:nvPr/>
        </p:nvSpPr>
        <p:spPr>
          <a:xfrm>
            <a:off x="4262400" y="6686640"/>
            <a:ext cx="5968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37000"/>
            <a:ext cx="289584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94080-25E1-49E9-B66B-420FF7D93F9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1116000" y="1484280"/>
            <a:ext cx="6913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86" name="Picture 3" descr="euflag"/>
          <p:cNvPicPr/>
          <p:nvPr/>
        </p:nvPicPr>
        <p:blipFill>
          <a:blip r:embed="rId1"/>
          <a:stretch/>
        </p:blipFill>
        <p:spPr>
          <a:xfrm>
            <a:off x="4067280" y="333360"/>
            <a:ext cx="914400" cy="612720"/>
          </a:xfrm>
          <a:prstGeom prst="rect">
            <a:avLst/>
          </a:prstGeom>
          <a:ln w="0">
            <a:noFill/>
          </a:ln>
        </p:spPr>
      </p:pic>
      <p:sp>
        <p:nvSpPr>
          <p:cNvPr id="87" name="Text Box 4"/>
          <p:cNvSpPr/>
          <p:nvPr/>
        </p:nvSpPr>
        <p:spPr>
          <a:xfrm>
            <a:off x="539640" y="2781360"/>
            <a:ext cx="799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d624"/>
                </a:solidFill>
                <a:latin typeface="Verdana"/>
              </a:rPr>
              <a:t>CPR SCC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russels, 3 December 2012</a:t>
            </a:r>
            <a:endParaRPr b="1" lang="en-US" sz="3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395280" y="141300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MS &amp; DoP </a:t>
            </a:r>
            <a:r>
              <a:rPr b="1" lang="fr-FR" sz="7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 </a:t>
            </a:r>
            <a:endParaRPr b="1" lang="en-US" sz="72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89" name="Picture 6" descr="bluebullet"/>
          <p:cNvPicPr/>
          <p:nvPr/>
        </p:nvPicPr>
        <p:blipFill>
          <a:blip r:embed="rId2"/>
          <a:stretch/>
        </p:blipFill>
        <p:spPr>
          <a:xfrm>
            <a:off x="-4365720" y="3048120"/>
            <a:ext cx="123840" cy="950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bluebullet"/>
          <p:cNvPicPr/>
          <p:nvPr/>
        </p:nvPicPr>
        <p:blipFill>
          <a:blip r:embed="rId3"/>
          <a:stretch/>
        </p:blipFill>
        <p:spPr>
          <a:xfrm>
            <a:off x="-4365720" y="3200400"/>
            <a:ext cx="123840" cy="954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8" descr="bluebullet"/>
          <p:cNvPicPr/>
          <p:nvPr/>
        </p:nvPicPr>
        <p:blipFill>
          <a:blip r:embed="rId4"/>
          <a:stretch/>
        </p:blipFill>
        <p:spPr>
          <a:xfrm>
            <a:off x="-4429080" y="2637000"/>
            <a:ext cx="123840" cy="950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9" descr="bluebullet"/>
          <p:cNvPicPr/>
          <p:nvPr/>
        </p:nvPicPr>
        <p:blipFill>
          <a:blip r:embed="rId5"/>
          <a:stretch/>
        </p:blipFill>
        <p:spPr>
          <a:xfrm>
            <a:off x="-4365720" y="3505320"/>
            <a:ext cx="123840" cy="950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0" descr="bluebullet"/>
          <p:cNvPicPr/>
          <p:nvPr/>
        </p:nvPicPr>
        <p:blipFill>
          <a:blip r:embed="rId6"/>
          <a:stretch/>
        </p:blipFill>
        <p:spPr>
          <a:xfrm>
            <a:off x="-4365720" y="3809880"/>
            <a:ext cx="123840" cy="954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" descr="bluebullet"/>
          <p:cNvPicPr/>
          <p:nvPr/>
        </p:nvPicPr>
        <p:blipFill>
          <a:blip r:embed="rId7"/>
          <a:stretch/>
        </p:blipFill>
        <p:spPr>
          <a:xfrm>
            <a:off x="-4365720" y="3962520"/>
            <a:ext cx="123840" cy="95040"/>
          </a:xfrm>
          <a:prstGeom prst="rect">
            <a:avLst/>
          </a:prstGeom>
          <a:ln w="0">
            <a:noFill/>
          </a:ln>
        </p:spPr>
      </p:pic>
      <p:sp>
        <p:nvSpPr>
          <p:cNvPr id="95" name="Text Box 12"/>
          <p:cNvSpPr/>
          <p:nvPr/>
        </p:nvSpPr>
        <p:spPr>
          <a:xfrm>
            <a:off x="250920" y="4941720"/>
            <a:ext cx="8893080" cy="11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pani Mikkeli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uropean Commission, 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rectorate-General Enterprise and Industry</a:t>
            </a:r>
            <a:br>
              <a:rPr sz="1800"/>
            </a:b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it B1, sector 01: Sustainable construction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184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f5494"/>
                </a:solidFill>
                <a:latin typeface="Verdana"/>
              </a:rPr>
              <a:t>For more information</a:t>
            </a:r>
            <a:endParaRPr b="1" lang="en-US" sz="3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50560" y="3068640"/>
            <a:ext cx="889308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1000"/>
          </a:bodyPr>
          <a:p>
            <a:pPr marL="174960" indent="-174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1800" spc="-1" strike="noStrike">
                <a:solidFill>
                  <a:srgbClr val="0f5494"/>
                </a:solidFill>
                <a:latin typeface="Verdana"/>
              </a:rPr>
              <a:t>e-mail:</a:t>
            </a:r>
            <a:r>
              <a:rPr b="1" i="1" lang="en-US" sz="1800" spc="-1" strike="noStrike">
                <a:solidFill>
                  <a:srgbClr val="0f5494"/>
                </a:solidFill>
                <a:latin typeface="Verdana"/>
              </a:rPr>
              <a:t>     </a:t>
            </a:r>
            <a:r>
              <a:rPr b="1" i="1" lang="en-US" sz="18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1" i="1" lang="en-US" sz="18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1" i="1" lang="en-US" sz="1800" spc="-1" strike="noStrike">
                <a:solidFill>
                  <a:srgbClr val="0f5494"/>
                </a:solidFill>
                <a:latin typeface="Verdana"/>
              </a:rPr>
              <a:t>construction@ec.europa.eu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174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174960" indent="-174960" algn="ctr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f5494"/>
                </a:solidFill>
                <a:latin typeface="Verdana"/>
              </a:rPr>
              <a:t>Tapani.Mikkeli@ec.europa.eu</a:t>
            </a:r>
            <a:r>
              <a:rPr b="1" i="1" lang="en-US" sz="14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174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1" i="1" lang="en-US" sz="18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1" i="1" lang="en-US" sz="18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1" i="1" lang="en-US" sz="1800" spc="-1" strike="noStrike">
                <a:solidFill>
                  <a:srgbClr val="0f5494"/>
                </a:solidFill>
                <a:latin typeface="Verdana"/>
              </a:rPr>
              <a:t>	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174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1" i="1" lang="en-US" sz="18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1" i="1" lang="en-US" sz="18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1" i="1" lang="en-US" sz="18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1" i="1" lang="en-US" sz="18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1" i="1" lang="en-US" sz="1800" spc="-1" strike="noStrike">
                <a:solidFill>
                  <a:srgbClr val="0f5494"/>
                </a:solidFill>
                <a:latin typeface="Verdana"/>
              </a:rPr>
              <a:t>	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17496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17496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f5494"/>
                </a:solidFill>
                <a:latin typeface="Verdana"/>
              </a:rPr>
              <a:t>	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358920" y="4437000"/>
            <a:ext cx="878508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1" i="1" lang="en-US" sz="14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1" i="1" lang="en-US" sz="14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1" i="1" lang="en-US" sz="14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1" i="1" lang="en-US" sz="14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1" i="1" lang="en-US" sz="1400" spc="-1" strike="noStrike">
                <a:solidFill>
                  <a:srgbClr val="0f5494"/>
                </a:solidFill>
                <a:latin typeface="Verdana"/>
              </a:rPr>
              <a:t>	</a:t>
            </a: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f5494"/>
                </a:solidFill>
                <a:latin typeface="Verdana"/>
              </a:rPr>
              <a:t>	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f5494"/>
                </a:solidFill>
                <a:latin typeface="Verdana"/>
              </a:rPr>
              <a:t>http</a:t>
            </a:r>
            <a:r>
              <a:rPr b="1" i="1" lang="fr-BE" sz="1800" spc="-1" strike="noStrike">
                <a:solidFill>
                  <a:srgbClr val="0f5494"/>
                </a:solidFill>
                <a:latin typeface="Verdana"/>
              </a:rPr>
              <a:t>://ec.europa</a:t>
            </a:r>
            <a:r>
              <a:rPr b="1" i="1" lang="en-GB" sz="1800" spc="-1" strike="noStrike">
                <a:solidFill>
                  <a:srgbClr val="0f5494"/>
                </a:solidFill>
                <a:latin typeface="Verdana"/>
              </a:rPr>
              <a:t>.eu/enterprise/construction/index_en.htm</a:t>
            </a:r>
            <a:r>
              <a:rPr b="1" i="1" lang="en-US" sz="18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f5494"/>
                </a:solidFill>
                <a:latin typeface="Verdana"/>
              </a:rPr>
              <a:t>	</a:t>
            </a:r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6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68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73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7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55640" y="1341360"/>
            <a:ext cx="741672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f5494"/>
                </a:solidFill>
                <a:latin typeface="Verdana"/>
              </a:rPr>
              <a:t>Towards uniform application </a:t>
            </a:r>
            <a:endParaRPr b="1" lang="en-US" sz="3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8360" y="2852280"/>
            <a:ext cx="8315280" cy="35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Internal Market: Free circulation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Already Art 34 – 36 TFEU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Harmonisation to enhance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Manufacturers require certainty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When products legally placed on the market, within free circulation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No additional obstacle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Distinction "substance" / procedures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Content of requirements / method of setting them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55640" y="1341360"/>
            <a:ext cx="741672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f5494"/>
                </a:solidFill>
                <a:latin typeface="Verdana"/>
              </a:rPr>
              <a:t>Roles and responsibilities of different actors</a:t>
            </a:r>
            <a:endParaRPr b="1" lang="en-US" sz="3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360" y="2852280"/>
            <a:ext cx="8315280" cy="35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Manufacturers (&amp; importers):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Accurate and reliable information on performance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Instructions &amp; safety information  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Distributors: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Receiving and forwarding the relevant information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Users of construction products: 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Responsibility for their appropriate use: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Verdana"/>
              </a:rPr>
              <a:t>This cannot be rolled over to economic operators!</a:t>
            </a: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16000" y="1413000"/>
            <a:ext cx="741672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0f5494"/>
                </a:solidFill>
                <a:latin typeface="Verdana"/>
              </a:rPr>
              <a:t>Requirements by MS [I]</a:t>
            </a:r>
            <a:endParaRPr b="1" lang="en-US" sz="3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8360" y="2781360"/>
            <a:ext cx="8315280" cy="35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Fully compatible where for </a:t>
            </a:r>
            <a:r>
              <a:rPr b="0" i="1" lang="en-GB" sz="2400" spc="-1" strike="noStrike">
                <a:solidFill>
                  <a:srgbClr val="ff0000"/>
                </a:solidFill>
                <a:latin typeface="Verdana"/>
              </a:rPr>
              <a:t>use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Art 8(4) also linking requirements with use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Natural context: impact on works, BWR et al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Art:s 8(3)&amp;(6), 17(5) </a:t>
            </a:r>
            <a:r>
              <a:rPr b="1" i="1" lang="en-GB" sz="2000" spc="-1" strike="noStrike">
                <a:solidFill>
                  <a:srgbClr val="0f5494"/>
                </a:solidFill>
                <a:latin typeface="Verdana"/>
              </a:rPr>
              <a:t>in fine</a:t>
            </a: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: Through hENs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Where in place, compliance demonstrated only by </a:t>
            </a:r>
            <a:r>
              <a:rPr b="0" i="1" lang="en-GB" sz="2400" spc="-1" strike="noStrike">
                <a:solidFill>
                  <a:srgbClr val="ff0000"/>
                </a:solidFill>
                <a:latin typeface="Verdana"/>
              </a:rPr>
              <a:t>DoP</a:t>
            </a: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 (Art 4(2))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For such products, resort to Art 5 excluded when used for such purpose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16000" y="1413000"/>
            <a:ext cx="741672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0f5494"/>
                </a:solidFill>
                <a:latin typeface="Verdana"/>
              </a:rPr>
              <a:t>Requirements by MS [II]</a:t>
            </a:r>
            <a:endParaRPr b="1" lang="en-US" sz="3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360" y="2781360"/>
            <a:ext cx="8315280" cy="35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Making available on the market </a:t>
            </a:r>
            <a:r>
              <a:rPr b="0" i="1" lang="en-GB" sz="2400" spc="-1" strike="noStrike">
                <a:solidFill>
                  <a:srgbClr val="ff0000"/>
                </a:solidFill>
                <a:latin typeface="Verdana"/>
              </a:rPr>
              <a:t>??</a:t>
            </a: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If linked to use, cf. above; </a:t>
            </a:r>
            <a:r>
              <a:rPr b="1" lang="en-GB" sz="2000" spc="-1" strike="noStrike">
                <a:solidFill>
                  <a:srgbClr val="ff0000"/>
                </a:solidFill>
                <a:latin typeface="Verdana"/>
              </a:rPr>
              <a:t>if not</a:t>
            </a: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?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Creating obstacles to free circulation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Besides, risk / hazard / danger?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If not linked to use, general: caused by the product as such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Not exclusively concerning construction product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Therefore treated by other legislations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71280" y="1801800"/>
            <a:ext cx="756108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f5494"/>
                </a:solidFill>
                <a:latin typeface="Verdana"/>
              </a:rPr>
              <a:t>Comparisons with mutual recognition (Art 34 – 36 TFEU)</a:t>
            </a:r>
            <a:br>
              <a:rPr sz="3600"/>
            </a:b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06640" y="2852280"/>
            <a:ext cx="7470720" cy="35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If legally marketed in other MS, why not here?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Up to MS to demonstrate reasons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If general &amp; inherent danger, why allowed elsewhere? 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Why should CPR entail wider competences for MS within the harmonised sphere?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Cf. recent Art 34 – 36 ECJ judgement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C-171/11 (Fra.Bo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C-385/10 (Elenca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16000" y="1413000"/>
            <a:ext cx="741672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0f5494"/>
                </a:solidFill>
                <a:latin typeface="Verdana"/>
              </a:rPr>
              <a:t>Conclusions on requirements by MS </a:t>
            </a:r>
            <a:endParaRPr b="1" lang="en-US" sz="3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360" y="2781000"/>
            <a:ext cx="831528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Verdana"/>
              </a:rPr>
              <a:t>Only for use, not for making available on the market</a:t>
            </a: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 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Latter constituting Art 8(4) –obstacle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Art 6(3)(e) does not make a difference here: "taking into account" only! 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No legal base for MS to set additional new obligations for manufacturer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Functioning of the system necessitates uniform procedures &amp; procedural rule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Creating legal certainty for manufacturer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1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16000" y="1413000"/>
            <a:ext cx="741672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f5494"/>
                </a:solidFill>
                <a:latin typeface="Verdana"/>
              </a:rPr>
              <a:t>Distinguishable situations</a:t>
            </a:r>
            <a:endParaRPr b="1" lang="en-US" sz="3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360" y="2781360"/>
            <a:ext cx="8315280" cy="35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If </a:t>
            </a:r>
            <a:r>
              <a:rPr b="0" i="1" lang="en-GB" sz="2400" spc="-1" strike="noStrike">
                <a:solidFill>
                  <a:srgbClr val="ff0000"/>
                </a:solidFill>
                <a:latin typeface="Verdana"/>
              </a:rPr>
              <a:t>all</a:t>
            </a: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 MS were to set exactly the </a:t>
            </a:r>
            <a:r>
              <a:rPr b="0" i="1" lang="en-GB" sz="2400" spc="-1" strike="noStrike">
                <a:solidFill>
                  <a:srgbClr val="ff0000"/>
                </a:solidFill>
                <a:latin typeface="Verdana"/>
              </a:rPr>
              <a:t>same</a:t>
            </a: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 requirements for making available on the market, no obstacles (Art 8(4))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However, for EU-wide needs Art 3(3)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If Art 3(3) applied, legal requirement in place for manufacturers 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Again Art 4(2), DoP only way to demonstrate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Art 6(3)(d) obliging manufacturers to declare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Therefore, resort to Art 5 excluded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6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16000" y="1413000"/>
            <a:ext cx="741672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Verdana"/>
              </a:rPr>
              <a:t>MS not to regulate over CPR</a:t>
            </a:r>
            <a:endParaRPr b="1" lang="en-US" sz="3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360" y="2781360"/>
            <a:ext cx="8315280" cy="35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CPR contains all necessary rules about the obligations of manufacturers 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MS not to change this whole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Otherwise, uniform application threatened 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Consequence: </a:t>
            </a:r>
            <a:r>
              <a:rPr b="0" i="1" lang="en-GB" sz="2400" spc="-1" strike="noStrike">
                <a:solidFill>
                  <a:srgbClr val="ff0000"/>
                </a:solidFill>
                <a:latin typeface="Verdana"/>
              </a:rPr>
              <a:t>Not allowed for MS to</a:t>
            </a: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 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Choose the characteristics to be declared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Limit the scope of application of Art 5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(if not through requirements for use)</a:t>
            </a: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0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10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turneem</dc:creator>
  <dc:description/>
  <dc:language>en-US</dc:language>
  <cp:lastModifiedBy>katsage</cp:lastModifiedBy>
  <cp:lastPrinted>2012-11-29T14:44:58Z</cp:lastPrinted>
  <dcterms:modified xsi:type="dcterms:W3CDTF">2012-11-30T09:53:50Z</dcterms:modified>
  <cp:revision>171</cp:revision>
  <dc:subject/>
  <dc:title>Slide 1</dc:title>
</cp:coreProperties>
</file>