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9D6-20F9-436D-80A3-59EFEFD0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CD1-F156-4F76-B8EF-06285C9E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A8C-832C-422D-9945-7BFA934E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7AA-938C-4906-9008-C245CD58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5A62-8D0B-4AA2-912F-0C98A202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F2CE-3CF0-414B-87C0-803F8E99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5F7E-277B-40A3-8847-F1DB0F02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223E-C5FC-4BAE-989E-5D7BFC59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9216-B249-4CD3-BEB3-B67DE556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262C-7DB3-4536-8640-CF942B35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5782-CDD3-4A75-9297-B3EA3C3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6E5-543E-4A11-A0C6-E25A7CFC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95B1-A4E6-482F-955D-608D3DA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8426-9476-4F6B-9DD7-5CCDCFF9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23D9-7AB4-4999-9903-705683D9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3AE4-40EC-4970-8129-94FB613B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3B3B-FE25-4133-92F3-7E41234E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B25-4E8A-4A07-A985-62201772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160-43EB-4BAB-A0D5-6FB065DB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029-3F60-418E-84AD-38999641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FF7-BCA7-4049-9CE9-62AC6445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5E5-19F5-4B3B-910F-CDFA4A94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829-76DD-4C46-89B3-ACFF9E62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068-5A92-4AFF-9034-BE284AE8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5327-C023-440E-9306-266526F9FD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3B72-F90F-4363-8D25-978573F50A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3 December 2012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MS &amp; DoP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50920" y="4941720"/>
            <a:ext cx="8893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f5494"/>
                </a:solidFill>
                <a:latin typeface="Verdana"/>
              </a:rPr>
              <a:t>For more information</a:t>
            </a:r>
            <a:endParaRPr b="1" lang="en-US" sz="3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e-mail: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construction@ec.europa.eu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-17496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Tapani.Mikkeli@ec.europa.eu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49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58920" y="4437000"/>
            <a:ext cx="878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http</a:t>
            </a: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://ec.europa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.eu/enterprise/construction/index_en.htm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Towards uniform application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rnal Market: Free circu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ready Art 34 – 36 TFEU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armonisation to enhance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nufacturers require certain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en products legally placed on the market, within free circu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additional obstac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stinction "substance" / procedu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ntent of requirements / method of setting the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Roles and responsibilities of different actors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nufacturers (&amp; importers)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curate and reliable information on performa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structions &amp; safety information 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stributor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eiving and forwarding the relevant informatio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Users of construction products: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sponsibility for their appropriate us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This cannot be rolled over to economic operators!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Requirements by MS [I]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ully compatible where for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u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8(4) also linking requirements with u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tural context: impact on works, BWR et 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:s 8(3)&amp;(6), 17(5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in fine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: Through hE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here in place, compliance demonstrated only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oP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(Art 4(2)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r such products, resort to Art 5 excluded when used for such purpo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Requirements by MS [II]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king available on the market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??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linked to use, cf. above;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if not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?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reating obstacles to free circu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sides, risk / hazard / danger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not linked to use, general: caused by the product as such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t exclusively concerning construction produ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refore treated by other legislati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01800"/>
            <a:ext cx="75610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omparisons with mutual recognition (Art 34 – 36 TFEU)</a:t>
            </a:r>
            <a:br>
              <a:rPr sz="36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06640" y="2852280"/>
            <a:ext cx="747072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legally marketed in other MS, why not here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p to MS to demonstrate reas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f general &amp; inherent danger, why allowed elsewhere?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hy should CPR entail wider competences for MS within the harmonised sphere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f. recent Art 34 – 36 ECJ judg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-171/11 (Fra.Bo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-385/10 (Elenca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Conclusions on requirements by MS 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315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Only for use, not for making available on the market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Latter constituting Art 8(4) –obstac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6(3)(e) does not make a difference here: "taking into account" only!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 legal base for MS to set additional new obligations for manufactur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unctioning of the system necessitates uniform procedures &amp; procedural ru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eating legal certainty for manufacture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Distinguishable situations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ll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MS were to set exactly the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ame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requirements for making available on the market, no obstacles (Art 8(4)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owever, for EU-wide needs Art 3(3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f Art 3(3) applied, legal requirement in place for manufacturer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gain Art 4(2), DoP only way to demonstr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rt 6(3)(d) obliging manufacturers to decla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refore, resort to Art 5 exclud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Verdana"/>
              </a:rPr>
              <a:t>MS not to regulate over CPR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PR contains all necessary rules about the obligations of manufacturer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S not to change this whol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therwise, uniform application threatened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sequence: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Not allowed for MS to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hoose the characteristics to be declared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Limit the scope of application of Art 5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(if not through requirements for use)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katsage</cp:lastModifiedBy>
  <cp:lastPrinted>2012-11-29T14:44:58Z</cp:lastPrinted>
  <dcterms:modified xsi:type="dcterms:W3CDTF">2012-11-30T09:53:50Z</dcterms:modified>
  <cp:revision>171</cp:revision>
  <dc:subject/>
  <dc:title>Slide 1</dc:title>
</cp:coreProperties>
</file>