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485D-D40B-4BDB-88BE-648CA7EB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D155-BEF9-4455-90BF-820737FA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6310-6868-4A56-824E-261EE0678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6012-0B0E-46E3-BECA-D49F6B5C4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479B-C37D-4916-AE4F-DE8AF7FE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5F23-6CD3-4C79-A21F-C678A404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5847-42D2-4F1C-8AC9-4A2704C1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D9B2E-B274-4194-A983-B119DF58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E005-74F5-41BA-91AB-9505FCD8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0FEA-04E7-4FCE-8486-B769BF85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9929-7C58-4AE8-9DF4-4EFA298F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B632-C9A5-429B-9969-82BC5A19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062C-3586-4AAF-A32A-B1C5F7D9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C435-AAA6-4E0F-B67A-44A7DC78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D322-72A8-41D3-AE35-723081D0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0E21-225F-4518-B165-883EDFA3A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7405-5985-4F61-A3E9-5A70DC5A5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A97D-D1C3-4E6A-AC92-26BCA6F2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56A1-184F-4934-89D4-92486841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8AE7-9884-45E3-A238-193068F8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2DD5-ED0A-401B-ABD4-3B61FD10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3017-D2C5-4ADB-9D56-FD249EA9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4330-BF10-4C50-A174-485D70E3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A4FA-ED79-4C00-9946-EE6D18DF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43D8-F4FB-4E40-847D-EDF9E32EDA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5" descr="LOGO CE-EN-NEG-quadri.ai"/>
          <p:cNvPicPr/>
          <p:nvPr/>
        </p:nvPicPr>
        <p:blipFill>
          <a:blip r:embed="rId2"/>
          <a:stretch/>
        </p:blipFill>
        <p:spPr>
          <a:xfrm>
            <a:off x="392112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4262400" y="6686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37000"/>
            <a:ext cx="28958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5485-263C-4C3E-AC6A-A9403DAC56F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116000" y="1484280"/>
            <a:ext cx="691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3" descr="euflag"/>
          <p:cNvPicPr/>
          <p:nvPr/>
        </p:nvPicPr>
        <p:blipFill>
          <a:blip r:embed="rId1"/>
          <a:stretch/>
        </p:blipFill>
        <p:spPr>
          <a:xfrm>
            <a:off x="4067280" y="333360"/>
            <a:ext cx="914400" cy="6127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539640" y="278136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Verdana"/>
              </a:rPr>
              <a:t>CPR SCC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ussels, 25-26 March 2013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95280" y="1413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AD content &amp; format</a:t>
            </a:r>
            <a:r>
              <a:rPr b="1" lang="fr-FR" sz="66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 </a:t>
            </a:r>
            <a:r>
              <a:rPr b="1" lang="fr-FR" sz="7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 </a:t>
            </a:r>
            <a:endParaRPr b="1" lang="en-US" sz="72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9" name="Picture 6" descr="bluebullet"/>
          <p:cNvPicPr/>
          <p:nvPr/>
        </p:nvPicPr>
        <p:blipFill>
          <a:blip r:embed="rId2"/>
          <a:stretch/>
        </p:blipFill>
        <p:spPr>
          <a:xfrm>
            <a:off x="-4365720" y="304812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bluebullet"/>
          <p:cNvPicPr/>
          <p:nvPr/>
        </p:nvPicPr>
        <p:blipFill>
          <a:blip r:embed="rId3"/>
          <a:stretch/>
        </p:blipFill>
        <p:spPr>
          <a:xfrm>
            <a:off x="-4365720" y="3200400"/>
            <a:ext cx="123840" cy="95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bluebullet"/>
          <p:cNvPicPr/>
          <p:nvPr/>
        </p:nvPicPr>
        <p:blipFill>
          <a:blip r:embed="rId4"/>
          <a:stretch/>
        </p:blipFill>
        <p:spPr>
          <a:xfrm>
            <a:off x="-4429080" y="263700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bluebullet"/>
          <p:cNvPicPr/>
          <p:nvPr/>
        </p:nvPicPr>
        <p:blipFill>
          <a:blip r:embed="rId5"/>
          <a:stretch/>
        </p:blipFill>
        <p:spPr>
          <a:xfrm>
            <a:off x="-4365720" y="3505320"/>
            <a:ext cx="123840" cy="95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bluebullet"/>
          <p:cNvPicPr/>
          <p:nvPr/>
        </p:nvPicPr>
        <p:blipFill>
          <a:blip r:embed="rId6"/>
          <a:stretch/>
        </p:blipFill>
        <p:spPr>
          <a:xfrm>
            <a:off x="-4365720" y="3809880"/>
            <a:ext cx="123840" cy="95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bluebullet"/>
          <p:cNvPicPr/>
          <p:nvPr/>
        </p:nvPicPr>
        <p:blipFill>
          <a:blip r:embed="rId7"/>
          <a:stretch/>
        </p:blipFill>
        <p:spPr>
          <a:xfrm>
            <a:off x="-4365720" y="3962520"/>
            <a:ext cx="123840" cy="95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2"/>
          <p:cNvSpPr/>
          <p:nvPr/>
        </p:nvSpPr>
        <p:spPr>
          <a:xfrm>
            <a:off x="250920" y="4941720"/>
            <a:ext cx="889308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pani Mikkeli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uropean Commission,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orate-General Enterprise and Industry</a:t>
            </a:r>
            <a:br>
              <a:rPr sz="1800"/>
            </a:b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t B1, sector 01: Sustainable construc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41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0f5494"/>
                </a:solidFill>
                <a:latin typeface="Verdana"/>
              </a:rPr>
              <a:t>Function of EAD</a:t>
            </a:r>
            <a:endParaRPr b="1" lang="en-US" sz="3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83152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ridging BWR to ETA &amp; DoP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Following a request of a manufacturer, role comparable to hE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s agreed, assessment tools for performance of products not covered by hE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Roles clear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EAD to contain the rules to be followed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ETA to be based on rules in EAD, creating the agreed and necessary data for DoP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1413000"/>
            <a:ext cx="741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f5494"/>
                </a:solidFill>
                <a:latin typeface="Verdana"/>
              </a:rPr>
              <a:t>Specific provisions to note</a:t>
            </a: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3244320"/>
            <a:ext cx="8315280" cy="30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f5494"/>
                </a:solidFill>
                <a:latin typeface="Verdana"/>
              </a:rPr>
              <a:t>Art 21(1)(b)</a:t>
            </a: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, scope of applicatio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f5494"/>
                </a:solidFill>
                <a:latin typeface="Verdana"/>
              </a:rPr>
              <a:t>Art 24(3)</a:t>
            </a: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, source of rul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f5494"/>
                </a:solidFill>
                <a:latin typeface="Verdana"/>
              </a:rPr>
              <a:t>Art 66(3)</a:t>
            </a: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, use of ETAGs as EAD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6000" y="1413000"/>
            <a:ext cx="741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f5494"/>
                </a:solidFill>
                <a:latin typeface="Verdana"/>
              </a:rPr>
              <a:t>Structure/elements of EAD</a:t>
            </a: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3244320"/>
            <a:ext cx="8315280" cy="30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Scope/General description (+ AVoC links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Intended use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Essential characteristic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Assessment methods &amp; criteria (table?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FPC principl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mikkeap</cp:lastModifiedBy>
  <cp:lastPrinted>2012-11-29T14:44:58Z</cp:lastPrinted>
  <dcterms:modified xsi:type="dcterms:W3CDTF">2013-03-22T14:41:25Z</dcterms:modified>
  <cp:revision>177</cp:revision>
  <dc:subject/>
  <dc:title>Slide 1</dc:title>
</cp:coreProperties>
</file>