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C7A-5F42-4A44-8795-47F1E1B9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568-38FA-4D79-86A8-7BB331B4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20B-71ED-4B20-BE3C-B674E6B2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C48-45DE-43D7-88CB-F6996363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14B4-A8B8-41F2-8540-986F12CA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33DB-3D64-4E94-B1F6-86E21FA8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5A82-E5F8-4D3B-81A8-A7FAC7C3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F6A1-8006-4778-B6D6-54604138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1737-F7A7-4235-B1CC-49CAECC0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9648-CDF7-4D69-965B-9E56A299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64A7-BCD9-497F-910F-5AE391BA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D95-0E28-482E-B8C8-1A601A65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4F63-B72D-4177-B168-FDE407B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DB23-55A4-404B-87F4-C2DFD1A5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0D45-3E40-4320-BB28-4D85035A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6F4A-E3ED-4C47-9CF3-59F5C984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7E9A-047C-498D-A394-0BAD5899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898-815D-493F-9A77-7C5DA07E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ABD-863A-459C-BC2E-820A76D5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313-A60A-4E8D-9AC1-E5782F69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E84-0CEA-4A2F-8356-A294C063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D06-6101-42CA-B208-BF29552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806-F14F-4C4A-A4EB-994CBFB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B82-4098-4453-8CE5-50C85C8B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516-1B48-4BA5-A870-2CD0869B22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7D8E-015D-4EF9-B5BC-2171724797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25-26 March 2013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AD content &amp; format</a:t>
            </a: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50920" y="4941720"/>
            <a:ext cx="8893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Function of EAD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ridging BWR to ETA &amp; Do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llowing a request of a manufacturer, role comparable to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s agreed, assessment tools for performance of products not covered by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oles cle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AD to contain the rules to be follow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TA to be based on rules in EAD, creating the agreed and necessary data for Do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pecific provisions to note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1(1)(b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cope of applic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4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ource of ru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66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use of ETAGs as EAD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tructure/elements of EAD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Scope/General description (+ AVoC link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Intended us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ssential characteristic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ssessment methods &amp; criteria (tabl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FPC princip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kkeap</cp:lastModifiedBy>
  <cp:lastPrinted>2012-11-29T14:44:58Z</cp:lastPrinted>
  <dcterms:modified xsi:type="dcterms:W3CDTF">2013-03-22T14:41:25Z</dcterms:modified>
  <cp:revision>177</cp:revision>
  <dc:subject/>
  <dc:title>Slide 1</dc:title>
</cp:coreProperties>
</file>