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C78-4E69-4D15-B094-9B84690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FCA-5CC0-4AA4-957C-E31B2A7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AE8-7797-4505-BEFE-854D830D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C73-2F88-4437-89BC-FB569373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D52-9331-477E-93D0-82A4F76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0A9-2216-4F9E-8D12-8F0E537F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32A-EE75-4266-9952-69867E8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84F-93D9-448B-AADD-089DA58F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16B-3820-4F79-B5DC-99EFA82D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63AD-796A-4C04-B758-6CA6601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6DE-97C8-49CE-9CEB-0E404B9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EDB-EAB4-46DD-ADEC-5CA7BE19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287-F0C3-4C7F-B814-3C71471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0BD4-CE5B-4891-A07A-0331B40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B75-F136-46EA-9BEB-FF66930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BB62-AB6F-4F85-A2E8-199AC2C0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324-3D9B-4BC6-9497-E7E6F40E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DA2-4B50-486F-BD41-44D245D0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FCE-C5E5-47A3-A4D0-9D56105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1EB-ABDB-44E9-A00D-BC86B46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4AC-8841-44CE-900A-B86FFE8E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4C6-F4A8-4471-ABB6-198C17C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566-D291-43F3-BBB5-0D0C74A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CA8-CE1E-4E5F-8534-96AA7EA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7CD9-934C-410D-A9E5-2B6132251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AAF-21AD-45CD-B5E8-A23F64E324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25-26 March 201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AD content &amp; format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AD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BWR to ETA &amp;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llowing a request of a manufacturer, role comparable to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s agreed, assessment tools for performance of products not covered by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to be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pecific provisions to note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1(1)(b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cope of appl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4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ource of ru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66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use of ETAGs as EAD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tructure/elements of EAD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cope/General description (+ AVoC link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Intended us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ssential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ssessment methods &amp; criteria (tabl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PC princip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kkeap</cp:lastModifiedBy>
  <cp:lastPrinted>2012-11-29T14:44:58Z</cp:lastPrinted>
  <dcterms:modified xsi:type="dcterms:W3CDTF">2013-03-22T14:41:25Z</dcterms:modified>
  <cp:revision>177</cp:revision>
  <dc:subject/>
  <dc:title>Slide 1</dc:title>
</cp:coreProperties>
</file>