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81B8-2BF3-4AFC-A606-0EDDA4493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6A80-2027-4FE8-8479-BF4AB7B10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125E-C1F5-4FBC-BC71-BF75DEC8A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EA56-6D6B-49AF-A000-1F7B03D98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98830-7B4D-498A-9FAE-C315AE57C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36742-FA67-4D08-B5F9-D03EF86FE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2CD07-5490-4463-9161-51F222B37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9A642-DED4-46B7-B6AE-4008C7AB0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F0901-8EA7-4A43-BB40-F19CAE7C4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35604-3F13-45F3-BEF9-5A57DE052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B32E9-6D6A-4BD7-A3C4-2414CB473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403C-874B-4219-B90F-E608E5BF3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FAE62-240F-4203-813B-80CC276DC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A3656-805F-431A-8EF4-D7F4E74AB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DB3F1-AECB-461C-B56D-ADFB81277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BFFE5-5194-4401-96A7-FE8E22AF0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58FE3-D4F8-46A5-8E83-7DB53161A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1FBE-14F0-4455-BBA7-75B97E321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E201-0E85-4063-B03C-FDE3D069C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3B8B-20A8-4F2E-9E00-79A8D4D6B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6215-81D0-4485-9267-2B1E1B68F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0791-5AD1-4A02-81C9-39C450543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1418-578C-47F1-94C4-F4E1EB68D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4DC4-CDE4-4D3C-97C0-9454D7909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69FB8-0E4F-4220-B117-DD15353EA4D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98892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42" name="Picture 5" descr="LOGO CE-EN-NEG-quadri.ai"/>
          <p:cNvPicPr/>
          <p:nvPr/>
        </p:nvPicPr>
        <p:blipFill>
          <a:blip r:embed="rId2"/>
          <a:stretch/>
        </p:blipFill>
        <p:spPr>
          <a:xfrm>
            <a:off x="3921120" y="0"/>
            <a:ext cx="1511280" cy="151128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8"/>
          <p:cNvSpPr/>
          <p:nvPr/>
        </p:nvSpPr>
        <p:spPr>
          <a:xfrm>
            <a:off x="4262400" y="6686640"/>
            <a:ext cx="5968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37000"/>
            <a:ext cx="289584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E146D-3FAC-4F9E-8918-30C322CB563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1116000" y="1484280"/>
            <a:ext cx="6913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86" name="Picture 3" descr="euflag"/>
          <p:cNvPicPr/>
          <p:nvPr/>
        </p:nvPicPr>
        <p:blipFill>
          <a:blip r:embed="rId1"/>
          <a:stretch/>
        </p:blipFill>
        <p:spPr>
          <a:xfrm>
            <a:off x="4067280" y="333360"/>
            <a:ext cx="914400" cy="612720"/>
          </a:xfrm>
          <a:prstGeom prst="rect">
            <a:avLst/>
          </a:prstGeom>
          <a:ln w="0">
            <a:noFill/>
          </a:ln>
        </p:spPr>
      </p:pic>
      <p:sp>
        <p:nvSpPr>
          <p:cNvPr id="87" name="Text Box 4"/>
          <p:cNvSpPr/>
          <p:nvPr/>
        </p:nvSpPr>
        <p:spPr>
          <a:xfrm>
            <a:off x="539640" y="2781360"/>
            <a:ext cx="799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d624"/>
                </a:solidFill>
                <a:latin typeface="Verdana"/>
              </a:rPr>
              <a:t>CPR SCC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russels, 25-26 March 2013</a:t>
            </a:r>
            <a:endParaRPr b="1" lang="en-US" sz="3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395280" y="141300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EAD content &amp; format</a:t>
            </a:r>
            <a:r>
              <a:rPr b="1" lang="fr-FR" sz="66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 </a:t>
            </a:r>
            <a:r>
              <a:rPr b="1" lang="fr-FR" sz="7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 </a:t>
            </a:r>
            <a:endParaRPr b="1" lang="en-US" sz="72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89" name="Picture 6" descr="bluebullet"/>
          <p:cNvPicPr/>
          <p:nvPr/>
        </p:nvPicPr>
        <p:blipFill>
          <a:blip r:embed="rId2"/>
          <a:stretch/>
        </p:blipFill>
        <p:spPr>
          <a:xfrm>
            <a:off x="-4365720" y="3048120"/>
            <a:ext cx="123840" cy="950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bluebullet"/>
          <p:cNvPicPr/>
          <p:nvPr/>
        </p:nvPicPr>
        <p:blipFill>
          <a:blip r:embed="rId3"/>
          <a:stretch/>
        </p:blipFill>
        <p:spPr>
          <a:xfrm>
            <a:off x="-4365720" y="3200400"/>
            <a:ext cx="123840" cy="954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8" descr="bluebullet"/>
          <p:cNvPicPr/>
          <p:nvPr/>
        </p:nvPicPr>
        <p:blipFill>
          <a:blip r:embed="rId4"/>
          <a:stretch/>
        </p:blipFill>
        <p:spPr>
          <a:xfrm>
            <a:off x="-4429080" y="2637000"/>
            <a:ext cx="123840" cy="950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9" descr="bluebullet"/>
          <p:cNvPicPr/>
          <p:nvPr/>
        </p:nvPicPr>
        <p:blipFill>
          <a:blip r:embed="rId5"/>
          <a:stretch/>
        </p:blipFill>
        <p:spPr>
          <a:xfrm>
            <a:off x="-4365720" y="3505320"/>
            <a:ext cx="123840" cy="950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0" descr="bluebullet"/>
          <p:cNvPicPr/>
          <p:nvPr/>
        </p:nvPicPr>
        <p:blipFill>
          <a:blip r:embed="rId6"/>
          <a:stretch/>
        </p:blipFill>
        <p:spPr>
          <a:xfrm>
            <a:off x="-4365720" y="3809880"/>
            <a:ext cx="123840" cy="954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" descr="bluebullet"/>
          <p:cNvPicPr/>
          <p:nvPr/>
        </p:nvPicPr>
        <p:blipFill>
          <a:blip r:embed="rId7"/>
          <a:stretch/>
        </p:blipFill>
        <p:spPr>
          <a:xfrm>
            <a:off x="-4365720" y="3962520"/>
            <a:ext cx="123840" cy="95040"/>
          </a:xfrm>
          <a:prstGeom prst="rect">
            <a:avLst/>
          </a:prstGeom>
          <a:ln w="0">
            <a:noFill/>
          </a:ln>
        </p:spPr>
      </p:pic>
      <p:sp>
        <p:nvSpPr>
          <p:cNvPr id="95" name="Text Box 12"/>
          <p:cNvSpPr/>
          <p:nvPr/>
        </p:nvSpPr>
        <p:spPr>
          <a:xfrm>
            <a:off x="250920" y="4941720"/>
            <a:ext cx="8893080" cy="11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pani Mikkeli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uropean Commission, 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rectorate-General Enterprise and Industry</a:t>
            </a:r>
            <a:br>
              <a:rPr sz="1800"/>
            </a:b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it B1, sector 01: Sustainable construction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55640" y="1341360"/>
            <a:ext cx="741672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0f5494"/>
                </a:solidFill>
                <a:latin typeface="Verdana"/>
              </a:rPr>
              <a:t>Function of EAD</a:t>
            </a:r>
            <a:endParaRPr b="1" lang="en-US" sz="3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8360" y="2852280"/>
            <a:ext cx="8315280" cy="35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Bridging BWR to ETA &amp; DoP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Following a request of a manufacturer, role comparable to hEN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As agreed, assessment tools for performance of products not covered by hEN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Roles clear: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EAD to contain the rules to be followed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ETA to be based on rules in EAD, creating the agreed and necessary data for DoP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16000" y="1413000"/>
            <a:ext cx="741672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0f5494"/>
                </a:solidFill>
                <a:latin typeface="Verdana"/>
              </a:rPr>
              <a:t>Specific provisions to note</a:t>
            </a:r>
            <a:endParaRPr b="1" lang="en-US" sz="3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360" y="3244320"/>
            <a:ext cx="8315280" cy="30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2400" spc="-1" strike="noStrike">
                <a:solidFill>
                  <a:srgbClr val="0f5494"/>
                </a:solidFill>
                <a:latin typeface="Verdana"/>
              </a:rPr>
              <a:t>Art 21(1)(b)</a:t>
            </a:r>
            <a:r>
              <a:rPr b="1" lang="fr-BE" sz="2400" spc="-1" strike="noStrike">
                <a:solidFill>
                  <a:srgbClr val="0f5494"/>
                </a:solidFill>
                <a:latin typeface="Verdana"/>
              </a:rPr>
              <a:t>, scope of application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2400" spc="-1" strike="noStrike">
                <a:solidFill>
                  <a:srgbClr val="0f5494"/>
                </a:solidFill>
                <a:latin typeface="Verdana"/>
              </a:rPr>
              <a:t>Art 24(3)</a:t>
            </a:r>
            <a:r>
              <a:rPr b="1" lang="fr-BE" sz="2400" spc="-1" strike="noStrike">
                <a:solidFill>
                  <a:srgbClr val="0f5494"/>
                </a:solidFill>
                <a:latin typeface="Verdana"/>
              </a:rPr>
              <a:t>, source of rules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2400" spc="-1" strike="noStrike">
                <a:solidFill>
                  <a:srgbClr val="0f5494"/>
                </a:solidFill>
                <a:latin typeface="Verdana"/>
              </a:rPr>
              <a:t>Art 66(3)</a:t>
            </a:r>
            <a:r>
              <a:rPr b="1" lang="fr-BE" sz="2400" spc="-1" strike="noStrike">
                <a:solidFill>
                  <a:srgbClr val="0f5494"/>
                </a:solidFill>
                <a:latin typeface="Verdana"/>
              </a:rPr>
              <a:t>, use of ETAGs as EADs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16000" y="1413000"/>
            <a:ext cx="741672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0f5494"/>
                </a:solidFill>
                <a:latin typeface="Verdana"/>
              </a:rPr>
              <a:t>Structure/elements of EAD</a:t>
            </a:r>
            <a:endParaRPr b="1" lang="en-US" sz="3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8360" y="3244320"/>
            <a:ext cx="8315280" cy="30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f5494"/>
                </a:solidFill>
                <a:latin typeface="Verdana"/>
              </a:rPr>
              <a:t>Scope/General description (+ AVoC links)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f5494"/>
                </a:solidFill>
                <a:latin typeface="Verdana"/>
              </a:rPr>
              <a:t>Intended use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f5494"/>
                </a:solidFill>
                <a:latin typeface="Verdana"/>
              </a:rPr>
              <a:t>Essential characteristics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f5494"/>
                </a:solidFill>
                <a:latin typeface="Verdana"/>
              </a:rPr>
              <a:t>Assessment methods &amp; criteria (table?)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f5494"/>
                </a:solidFill>
                <a:latin typeface="Verdana"/>
              </a:rPr>
              <a:t>FPC principles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turneem</dc:creator>
  <dc:description/>
  <dc:language>en-US</dc:language>
  <cp:lastModifiedBy>mikkeap</cp:lastModifiedBy>
  <cp:lastPrinted>2012-11-29T14:44:58Z</cp:lastPrinted>
  <dcterms:modified xsi:type="dcterms:W3CDTF">2013-03-22T14:41:25Z</dcterms:modified>
  <cp:revision>177</cp:revision>
  <dc:subject/>
  <dc:title>Slide 1</dc:title>
</cp:coreProperties>
</file>